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0603F9-BA77-4B08-B839-D82E21569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BA33CB-1048-4509-8D5D-AFD18C63CB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2CD0F-4B9E-464D-8B31-D79140FA6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26E20E-D177-4B53-B351-03717B3BC9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B04292-294E-462A-9727-0F9A84CBD6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4917EB8-4446-4C17-AE8F-DC8C9213728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4C028-B1F9-4779-936C-FA6DD9036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7C5F7-500C-4D4A-BD7D-E2D42DA0B7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8C7F6-9483-417F-95F4-95531F9A22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B3FA32-8DFC-4537-AC8A-9C3D5D3A35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356E22-E532-4F61-BB88-65144BB6E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2694A8-71EB-4E6C-AE8F-5EE6023A68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5E84B1-54A4-42E9-B385-A2945E91B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71337-9A43-4B6F-933D-80E5D85CAB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7AF8A4-CEF9-40FA-8B4E-99A5187652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1F3EE9-8BB9-41C2-9123-C62CFCAF4A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1CF5C6-1E3A-4BF2-9EB7-26502C5E31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2EA32-C08C-4085-BCD5-A601DB6317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8E9A53-C076-4DB5-8023-DD3C791380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96AB3A-445E-458D-9CA4-0B35202A63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440BA-5214-4671-B71C-7371053E0A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BDAB74-8310-413E-B30A-37F1AFB5A6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1E62A-592D-4FD2-96D9-DCC4B2495D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D7E2D-3A7D-4414-9297-8B84648D83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C0382-2FC6-404D-8114-09C53D5DAC59}"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842A6-3764-4C82-B327-A9BA789AF0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6C62-F7E1-4FAB-A586-AC281ED220EB}"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FF6A0-E2B7-44C0-A4C2-9E1E034424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cc"/>
                </a:solidFill>
                <a:latin typeface="Arial Narrow"/>
                <a:cs typeface="Times New Roman (Arabic)"/>
              </a:rPr>
              <a:t>الموازنات</a:t>
            </a:r>
            <a:endParaRPr b="1" lang="en-US" sz="66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د. رضا صالح</a:t>
            </a:r>
          </a:p>
        </p:txBody>
      </p:sp>
      <p:sp>
        <p:nvSpPr>
          <p:cNvPr id="5" name="PlaceHolder 4"/>
          <p:cNvSpPr>
            <a:spLocks noGrp="1"/>
          </p:cNvSpPr>
          <p:nvPr>
            <p:ph type="sldNum" idx="6"/>
          </p:nvPr>
        </p:nvSpPr>
        <p:spPr/>
        <p:txBody>
          <a:bodyPr/>
          <a:p>
            <a:fld id="{858BA7EA-605D-4BAB-827B-4F8624D9828C}" type="slidenum">
              <a:t>1</a:t>
            </a:fld>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واد المباشرة.</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تشمل التقديرات الخاصة باحتياجات المواد المباشرة والتقديرات الخاصة بتكلفة شراء تلك المواد.</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مية المشتريات المطلوبة من المواد = كمية الاحتياجات المتوقعة من المواد للإنتاج + مخزون المواد المطلوب فى نهاية الفترة – مخزون المواد المتوقع فى بداية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E9874039-2C96-4309-8DC2-1943EF3BE12B}" type="slidenum">
              <a:t>10</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ة إعداد الموازنة التقديرية للأجور المباشرة</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إحتياجات من العمل المباشر = عدد ساعت العمل اللازمة للوحدة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عدد الوحدات المراد انتاجها.</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ازنة التقديرية للأجور= عحتياجات من العمل المباشر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المعدل التقديرىلأجر الساع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5464F88D-0EA2-4E63-A0E9-8E9F43C2C4A1}" type="slidenum">
              <a:t>11</a:t>
            </a:fld>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تقديرية للتكاليف الصناعية غير المباشرة.</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شمل تكلفة المواد غير المياشرة والأجور غير المباشرة وغيرها من عناصر التكاليف غير المباشرة الأخرى كالإستهلاك والصيانة وتكاليف الطاقة ...الخ</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صنيف التكاليف الصناعية غير المباشرة بالنسبة لعلاقتها بحجم النشاط ( متغيرة وثابتة)</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حديد معدل تحميل التكاليف الصناعية غير المباشرة باستخدام الأساس المناسب  للتحميل.</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قدير التكاليف الصناعية غير المباشرة التقديرية باستخدام معدلات التحميل فى ضوء مستويات الإنتاج المتوقع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EAFC2B7D-50DA-4700-A357-7174542EF96F}"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صروفات البيعية والإدارية.</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صروفات البيعية والإدارية هى مصروفات لاتتصل بالعملية الإنتاجية.</a:t>
            </a:r>
            <a:endParaRPr b="0" lang="en-US" sz="2800" spc="-1" strike="noStrike">
              <a:solidFill>
                <a:srgbClr val="ffffff"/>
              </a:solidFill>
              <a:latin typeface="Arial"/>
            </a:endParaRPr>
          </a:p>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لإعداد موازنة المصروفات البيعية والإدارية إجراء تحليل لعناصر تلك المصروفات وتصنيفها إلى :</a:t>
            </a:r>
            <a:endParaRPr b="0" lang="en-US" sz="28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متغيرة : مثل  تكاليف النقل وعمولة المبيعات.</a:t>
            </a:r>
            <a:endParaRPr b="0" lang="en-US" sz="26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ثابتة : مثل المرتبات الإدارية  ومصاريف  الإيجارالتأمين.</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7CD50E4E-84A5-4C27-9A7D-3EB9D440F716}"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قائمة الدخل التقديرية</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هى تجميع وتلخيص للموازنات التقديرية للمبيعات وعناصر التكاليف المختلفة، وتعرض نتيجة النشاط المتوقعة، وتستخدم فى تقييم الأداء عن طريقة مقارنة الأداء الفعلى بالأداء المستهدف.</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AB85DE1A-4C2C-4DFC-A6FD-4F683FEECC25}" type="slidenum">
              <a:t>14</a:t>
            </a:fld>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حددات استخدام الموازنات التقديرية.</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ناك العديد من المحاذير السلوكية لاستخدام الموازنات فى عملية تقييم الأداء، ولتفادى أى مشاكل سلوكية  فإنه يجب الإجتهاد فى ربط أهداف الأفراد بأهداف المنشأة ومشاركة الأفراد فى إعداد الموازنة لضمان تأييدهم لها والاقتناع بها.ولكى تنجح تلك المهمة يجب مراعاة مايلى:</a:t>
            </a:r>
            <a:endParaRPr b="0" lang="en-US" sz="24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تعرف على طبيعة مستخدمى الموازنة، ومدى توافر الوعى المحاسبى والإدارى لديهم، وتزافر المعلومات عن خطط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تقديم المهنى للموازنة، لعدم تقبل العديد من الأفراد للموازنة باعتبارها أداة رقابة عليهم، معتوضيح أهميتها فى تحقيق أهداف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وضع أولويات لتحقيق وتنفيذ عناصر الموازنة فى ضوء الموارد المتاحة، إذ أن كل عناصر اموازنة ليست لها نفس الأهمية فهناك عناصر حتمية وضرورية، وأخرى مرغوب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197B39D-C376-437B-AD51-66932DBA29B3}" type="slidenum">
              <a:t>15</a:t>
            </a:fld>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ثابتة</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التكاليف والإيرادات عند مستوى واحد للنشاط.</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مكن استحدام الموازنة الساكنة او الثابتة فى تقييم الأداء عندما يكونمستوى النشاط الفعلى مساو لمستوى النشاط المتوقع.</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عندما يختلف مستوى النشاط الفعلى عن المتوقع  فإن استخدام الموازنة الثابتة فى تقييم الأداء يكون مضللاً، وذلك نظراً لعدم التمييز بين الإنحرافات الناتجة عن إختلاف مستوى النشاط الفعلى عن المتوقع وأفنحرافات الأخرى الناتجة عن إختلاف الأسعار أو الكفاء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DCD01A6-C220-4533-90E9-BCF67C25F631}"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مرنة</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للإيرادات والتكاليف عند مستويات متعددة للنشاط، أى أن الموازنة الرنة هى عبارة عن مجموعة من الموازنات الثابتة.</a:t>
            </a:r>
            <a:endParaRPr b="0" lang="en-US" sz="2400" spc="-1" strike="noStrike">
              <a:solidFill>
                <a:srgbClr val="ffffff"/>
              </a:solidFill>
              <a:latin typeface="Arial"/>
            </a:endParaRPr>
          </a:p>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مزايا استخدام الموازنة المرنة:</a:t>
            </a:r>
            <a:endParaRPr b="0" lang="en-US" sz="24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تأخذ فى الحسبات التغيرات المحتملة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عد أداة هامة لمساعدة الإدارة فى إجراء التعديلات اللازمة على خطط الإنتاج عندما يحدث تغير غير متوقع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خاصية الرئيسية للموازنة المرنة هى إمكانية فصل الإنحرافات الناتجة عن تغير مستوى النشاط عن بقية الإنحرافات الأخلرى الناتجة عن إختلاف الأسعار أو الكفاء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A39C4EA7-D6AE-47F7-9FF0-9B5F521C86A9}" type="slidenum">
              <a:t>17</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قديرية</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ريف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زايا استخدام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نواع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يفية إعداد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حددات استخدام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ساكنة  فى تقييم الأداء.</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مرنة فى تقييم الأدا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B9FAA18-85A1-44CC-ACA7-7A2AF6495194}" type="slidenum">
              <a:t>2</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تعريف الموازنة التقديرية</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زنة التقديرية: هى خطة كمية لاستغلال الموارد المتاحة للوحدة المحاسبية خلال فترة محددة فى المستقبل.</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سس اعداد الموازنة:</a:t>
            </a:r>
            <a:endParaRPr b="0" lang="en-US" sz="28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كون فى صورة كمي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تعلق بوحدة محاسبية محدد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غطى فترة محددة فى المستقبل.</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4A4CAFE-303F-43B9-8BD7-77C44BB98956}" type="slidenum">
              <a:t>3</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زايا استخدام الموازنات التخطيطية</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ة التقديرية أداة للتخطيط.</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نة التخطيطية أداة للتنسيق.</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قييم ورقابة الأداء.</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إتصال  والتعاون.</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نمية الوعى التكاليفى.</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تحفيز</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EF7EBAE-FFC4-4039-96AF-F02B06F26E6E}" type="slidenum">
              <a:t>4</a:t>
            </a:fld>
          </a:p>
        </p:txBody>
      </p:sp>
    </p:spTree>
  </p:cSld>
  <p:transition spd="slow" advTm="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أنواع الموازنات التقديرية</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7000"/>
          </a:bodyPr>
          <a:p>
            <a:pPr marL="517320" indent="-517320" algn="r" rtl="1">
              <a:spcBef>
                <a:spcPts val="7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لموازنة الرئيسية(الموازنة الشاملة)</a:t>
            </a:r>
            <a:endParaRPr b="0" lang="en-US" sz="2800" spc="-1" strike="noStrike">
              <a:solidFill>
                <a:srgbClr val="ffffff"/>
              </a:solidFill>
              <a:latin typeface="Arial"/>
            </a:endParaRPr>
          </a:p>
          <a:p>
            <a:pPr lvl="1" marL="923760" indent="0" algn="r" rtl="1">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هى إطار عام للموازنات الفرعية، وتشتمل على تقدير شامل لكافة أنشطة المنشأة والتى يتم التنسيق بينها وتوحيدها فى شكل موازنة رئيسية، وتتألف الموازنة  الرئيسية من مجموعتين من الموازنات الفرعية هما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تشغيلية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مالية.</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1516999-247E-4EED-A790-073512F293F4}" type="slidenum">
              <a:t>5</a:t>
            </a:fld>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شغيلية</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0720"/>
            <a:ext cx="6095880" cy="4876920"/>
          </a:xfrm>
          <a:prstGeom prst="rect">
            <a:avLst/>
          </a:prstGeom>
          <a:noFill/>
          <a:ln w="0">
            <a:noFill/>
          </a:ln>
        </p:spPr>
        <p:txBody>
          <a:bodyPr lIns="92160" rIns="92160" tIns="46080" bIns="46080" anchor="t">
            <a:normAutofit fontScale="96000"/>
          </a:bodyPr>
          <a:p>
            <a:pPr lvl="1" marL="91440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شمل كافة العناصر التى تشكل قائمة الدخل، وبالتالى فهى تشمل الموازنات الفرعية الخاصة بكل من مصروفات وإيرادات التشغيل وهى:</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بيعات.</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إنتاج.</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واد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أجو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تكاليف الصنعاعية غي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صروفات البيعية والإداري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قائمة الدخل التقديرية.</a:t>
            </a:r>
            <a:endParaRPr b="0" lang="en-US" sz="2200" spc="-1" strike="noStrike">
              <a:solidFill>
                <a:srgbClr val="ffffff"/>
              </a:solidFill>
              <a:latin typeface="Arial"/>
            </a:endParaRPr>
          </a:p>
          <a:p>
            <a:pPr lvl="2" marL="1316520" indent="-438840" algn="just" rtl="1">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abic)"/>
              </a:rPr>
              <a:t>لا تختلف الموازنات التشغيلية فى المنشآت التجارية عن المنشآت الصناعية فيما عدا أن موازنة الإنتاج يحل محلها موازنة المشتريات ، مع اختلاف الأهمية النسبية للموازنات الفرع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ADDE4116-62F3-4379-9E67-ABA0A489DEE8}" type="slidenum">
              <a:t>6</a:t>
            </a:fld>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مالية</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تشمل تقديراً للتدفقات النقدية ومصادرها واستخداماتها المختلفة، ولا يختلف هيكل الموازنة المالية فى المنشآت الصناعية عن المنشآت التجارية، وتشتمل عل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1</a:t>
            </a:r>
            <a:r>
              <a:rPr b="0" lang="ar-SA" sz="2600" spc="-1" strike="noStrike">
                <a:solidFill>
                  <a:srgbClr val="ffffff"/>
                </a:solidFill>
                <a:latin typeface="Arial"/>
                <a:ea typeface="Times New Roman (Arabic)"/>
              </a:rPr>
              <a:t>- موازنة المصروفات الرأسمال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2</a:t>
            </a:r>
            <a:r>
              <a:rPr b="0" lang="ar-SA" sz="2600" spc="-1" strike="noStrike">
                <a:solidFill>
                  <a:srgbClr val="ffffff"/>
                </a:solidFill>
                <a:latin typeface="Arial"/>
                <a:ea typeface="Times New Roman (Arabic)"/>
              </a:rPr>
              <a:t>- موازنة النقد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3</a:t>
            </a:r>
            <a:r>
              <a:rPr b="0" lang="ar-SA" sz="2600" spc="-1" strike="noStrike">
                <a:solidFill>
                  <a:srgbClr val="ffffff"/>
                </a:solidFill>
                <a:latin typeface="Arial"/>
                <a:ea typeface="Times New Roman (Arabic)"/>
              </a:rPr>
              <a:t>- قائمة المركز المالى التقدير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4</a:t>
            </a:r>
            <a:r>
              <a:rPr b="0" lang="ar-SA" sz="2600" spc="-1" strike="noStrike">
                <a:solidFill>
                  <a:srgbClr val="ffffff"/>
                </a:solidFill>
                <a:latin typeface="Arial"/>
                <a:ea typeface="Times New Roman (Arabic)"/>
              </a:rPr>
              <a:t>- قائمة التغيرات فى المركز المالى.</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B0AA660-CB32-425B-A45D-E89E2BC7DE7A}" type="slidenum">
              <a:t>7</a:t>
            </a:fld>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بيعات</a:t>
            </a:r>
            <a:endParaRPr b="1" lang="en-US" sz="4800" spc="-1" strike="noStrike">
              <a:solidFill>
                <a:srgbClr val="ffffcc"/>
              </a:solidFill>
              <a:latin typeface="Arial Narrow"/>
            </a:endParaRPr>
          </a:p>
        </p:txBody>
      </p:sp>
      <p:sp>
        <p:nvSpPr>
          <p:cNvPr id="100" name="PlaceHolder 2"/>
          <p:cNvSpPr>
            <a:spLocks noGrp="1"/>
          </p:cNvSpPr>
          <p:nvPr>
            <p:ph/>
          </p:nvPr>
        </p:nvSpPr>
        <p:spPr>
          <a:xfrm>
            <a:off x="2819520" y="1980720"/>
            <a:ext cx="5943600" cy="4876920"/>
          </a:xfrm>
          <a:prstGeom prst="rect">
            <a:avLst/>
          </a:prstGeom>
          <a:noFill/>
          <a:ln w="0">
            <a:noFill/>
          </a:ln>
        </p:spPr>
        <p:txBody>
          <a:bodyPr lIns="92160" rIns="92160" tIns="46080" bIns="4608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عبر موازنة المبيعات عن حجم المبيعات المتوقعة والقيمة البيعية لها، وتمثل موازنة المبيعات أهم عناصر الموازنة الرئيسية، والخطوة الأولية فى إعدادها. ويتوقف إعداد الموازنات الأخرى على تقديرات موازنة المبيعات،مثل  موازنة المخزون، الإنتاج، العمالة، التسويق . ويعتمد إعداد موازنة المبيعات على العناصر التالية:</a:t>
            </a:r>
            <a:endParaRPr b="0" lang="en-US" sz="2400" spc="-1" strike="noStrike">
              <a:solidFill>
                <a:srgbClr val="ffffff"/>
              </a:solidFill>
              <a:latin typeface="Arial"/>
            </a:endParaRPr>
          </a:p>
          <a:p>
            <a:pPr marL="305280" indent="-30528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قدير حجم المبيعات: والذى يتأثر بعدة عوامل منها </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تجاهات المبيعات فى الفترات السابق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لمتغيرات الاقتصادية الحالية والمستقبلية وعلاقتها بقرارات التسعير.</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تصرف المنشآت المنافس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خطط الدعاية والتسويق.</a:t>
            </a:r>
            <a:endParaRPr b="0" lang="en-US" sz="2400" spc="-1" strike="noStrike">
              <a:solidFill>
                <a:srgbClr val="ffffff"/>
              </a:solidFill>
              <a:latin typeface="Arial"/>
            </a:endParaRPr>
          </a:p>
          <a:p>
            <a:pPr lvl="1" marL="660960" indent="-25416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مبيعات المتوقعة = حجم المبيعات المتوقع </a:t>
            </a:r>
            <a:r>
              <a:rPr b="0" lang="en-US" sz="2200" spc="-1" strike="noStrike">
                <a:solidFill>
                  <a:srgbClr val="ffffff"/>
                </a:solidFill>
                <a:latin typeface="Arial"/>
                <a:ea typeface="Times New Roman (Arabic)"/>
              </a:rPr>
              <a:t>x</a:t>
            </a:r>
            <a:r>
              <a:rPr b="0" lang="ar-SA" sz="2200" spc="-1" strike="noStrike">
                <a:solidFill>
                  <a:srgbClr val="ffffff"/>
                </a:solidFill>
                <a:latin typeface="Arial"/>
                <a:ea typeface="Times New Roman (Arabic)"/>
              </a:rPr>
              <a:t> سعر البيع المتوقع</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012ED99-999E-4B7C-962B-2678512764A1}" type="slidenum">
              <a:t>8</a:t>
            </a:fld>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إنتاج</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كس هذه الموازنة حجم الإنتاج المطلوب والتى يتم على أساسها إعداد موازنة المواد الخام، وموازنة الأجور، وموازنة التكاليف الصناعية غير المباشرة.</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حجم الإنتاج (وحدات)= حجم المبيعات + الرصيد المطلوب من مخزون الإنتاج التام أخر الفترة – الرصيد المتوقع من الإنتاج التام أول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A83E883-0C75-43C0-AF18-12A503AA35FE}" type="slidenum">
              <a:t>9</a:t>
            </a:fld>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da Saleh</cp:lastModifiedBy>
  <dcterms:modified xsi:type="dcterms:W3CDTF">2003-06-11T00:27:53Z</dcterms:modified>
  <cp:revision>10</cp:revision>
  <dc:subject/>
  <dc:title>PowerPoint Presentation</dc:title>
</cp:coreProperties>
</file>