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B93C-A9F1-4C94-B1EC-3A1CC982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41CC-12E2-45DB-ACE8-2639E193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B97-3D64-4EB5-A559-478C6DD9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4F5-78CB-445A-89F0-E8663DA8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E619-6C40-4FC2-A8E5-A1482EFB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09AD-9DD5-482C-98B0-D2DEA6E7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EF36-9DA4-47F4-AF42-270B41B6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A1CA-60BC-4C7A-A248-9857F5A6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34BA-6D44-4C81-BC93-98738F66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50FD-9BD4-412A-8BE0-732553C5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0B7C-BD03-4628-8A9E-45CF902A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B60-D0C6-422D-B932-88B0DC57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8E05-DD71-4BB9-932E-7CE230F8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3E49-72CB-4DE5-BE29-E79A8F46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BBFF-3A8F-4ADA-B703-7FCFC0B7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EE8B-E269-4C2D-A3CC-06165555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6E05-18CA-4378-B1A1-EFBF48FA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9D8-F904-4EAC-8F08-0D7D800C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FCC-50F7-49CB-AFB0-9CB6DE87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363-894D-484E-A751-BCB20102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0C4A-3244-427D-81CC-846D5833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0093-6498-4503-94B9-424CD3A1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AEE3-4A01-4D7F-8504-DB688A04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4C0-076E-4042-A514-D89764D1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prstGeom prst="pie">
                <a:avLst/>
              </a:pr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أ. م  الزهران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9A5A-866B-479C-8BEC-0DB26A94409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prstGeom prst="pie">
              <a:avLst/>
            </a:pr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E6B6-26E5-462B-B283-23751493B29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FDB5-79FF-42C1-93A5-CE00075461A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تعري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المراجعة عمل منظم للحصول على أدلة الإثبات بطريقة موضوعية ، وتقييم هذه الأدلة بغرض التأكد من مدى سلامة العمليات والأحداث الاقتصادية بواسطة تلك الإثباتات والتحقق من درجة التوافق بين الأدلة و المعايير الموضوعة ، وتوصيل ذلك إلى الأطراف المستفيدة .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مستطيل 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7206-8FE5-48EB-9AF3-FBFE2AFBA04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وظيفة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محاسب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افظة على الأصول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ضبط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داخلي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أكد من دقة البيانات المحاسبية ودرجة الاعتماد عليها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إدار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حقيق الكفاية الانتاجي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التزام بالسياسات الإدارية المرسوم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F2E8-46ED-4AD6-91C1-3282338CF78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هدف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انع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منع وقوع الأحداث غير المرغوب ف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كاشف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كشف الأخطاء الواقعة فعلاً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تصحيحي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صحيح ما اكتُشف من أخطاء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وجه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شجيع وقوع أحداث مرغوب في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066680" y="1981080"/>
            <a:ext cx="701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143000" y="19810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143000" y="29718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143000" y="40384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143000" y="50292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62120" y="2208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76212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 flipH="1">
            <a:off x="76212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7621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76212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4"/>
          <p:cNvSpPr/>
          <p:nvPr/>
        </p:nvSpPr>
        <p:spPr>
          <a:xfrm>
            <a:off x="7621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مستطيل 1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207A-22D7-4E2B-8D82-B573C650338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مقومات نظام الرقابة الداخلية الأساس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هيكل تنظيمي إداري واضح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نظام محاسبي متكامل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وجود إجراءات تفصيلية واضحة لتنفيذ الواجبات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لاختيار المناسب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رقابة الأداء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ستخدام الوسائل الآلية المناسبة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86A2-5F55-48B4-B401-E2994B92E6D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أساليب الرقابة المحاسبية الهادفة إلى حماية الأصول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فصل بين الاختصاص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دليل الإجراء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لوائح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غيير الدوري بين العاملين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متع الموظف بإجازته السنو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رقابة المزدوج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فاجئ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F841-578E-4602-B7D1-3F17D469569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محاسبية الهادفة إلى التأكد من دقة البيانات المحاسبية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محاسبي سليم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حسابات المراقبة والمطابقات الدو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ستم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مذكرات تسوية البنك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عتماد قيود المراجعة الشه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B126-9235-40D4-BF1C-0C0297200E9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إدارية الهادفة إلى رفع الكفاءة الانتاجية وضمان الالتزام بالسياسات والخطط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يزانية التقدي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كاليف المعيا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قاري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برامج التدريب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حوافز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طبيق نظام محاسبة المسؤو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C856-0EAE-432E-99B2-59DF237457D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هي وظيفة مستقلة من داخل المشروع  لفحص العمليات المالية والإدارية وتقييم مدى الالتزام بالأنظمة والإجراءات الداخلية ووسائل الرقابة الداخلية واقتراح التحسينات اللازمة لرفع الكفاية الإنتاجية 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إذاً المراجعة الداخلية جزء من نظام الرقابة الداخلية وليس العكس ، حيث تقوم إدارة المراجعة الداخلية بفحص وتقييم نظام الرقابة الداخلية وإكتشاف نواحى القصور وتقديم توصيات بالتحسينات المطلوب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7E68-8F59-4A76-92B4-F76D8415C1A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السمات التى تميز المراجعة الداخلية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تهدف لخدمة إدارة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ؤدى بواسطة موظفين مستقلين من داخل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مل جميع عمليات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 الداخلى عمله اشتشارى وليس تنفيذ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68DB-2C5C-4AAD-B6A6-98E355FA373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هداف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نظام الرقاب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تأكد من دقة وصحة العمليات الما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حماية أصول المنشأ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مدى الالتزام بالسياسات والإجراءات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إستخدام الفعال والإقتصادى لموارد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قتراح التحسينات اللازمة لرفع الكفاية الإنتاج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5BDC-5100-4C9A-9616-1204E37E5C7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عايير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كفاءة المهن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إستقلال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مجال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إدارة العمل بوحدة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تنفي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D821-7F20-43F5-B3BC-D95ED35D4AB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دا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 Narrow"/>
              </a:rPr>
              <a:t>هدف رئيس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 Narrow"/>
              </a:rPr>
              <a:t>إبداء الرأى في القوائم المالية وعن مدى عدالتها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 بالتحقق من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عرض بالقوائم المالية وكفاية الإفصاح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شرعية وصحة العملي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ملك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ستقلال الفتر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تقويم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وجود الفعلي للاصو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F279-43C4-4AF3-BEB8-49969FBC363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معايير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وفر المؤهلات العلمية والخبرات العملية الكافية لدى المراجع الداخلي ومعاونيه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بعية إدارة المراجعة الداخلية لأعلى سلطة في ا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عدم قيام إدارة المراجعة الداخلية بأي عمل يتعلق بالعمليات التي تقوم بمراجعت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تحديد الإطار العام لعم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دليل للعمل بمكتب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تقييم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ستمر لنظام الرقاب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برنامج لتنفيذ عمل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إعداد تقرير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A817-6424-47B0-8BF9-14669493EC1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أنواع الخدمات التى تقدمها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حماية والوقا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حماية أصول المنشأة والتحقق من صحة ودقة البيانات المالية ومراجعة مدى التزام إدارة الوحدة وعدم مخالفة السياسات والإجراءات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-3016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بناء والإصلاح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تقويم اساليب الرقابة وتقويم الأداء وتقديم التوصيات اللازمة لإجراء التعديلات المقترح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مستطيل 5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B0AC-3E37-4F40-A629-945FA1E6B10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أنظمة الرقابة الداخلية الحالية والمساعدة في فحص الأنظمة الجديدة قبل وضعها موضع التنفيذ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دقة وسلامة البيانات التي تحتويها الدفاتر والسجلات والقوائم الما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ق من تنفيذ السياسات التي تضعها المنشأة وتقييم مدى التوافق مع القوانين والأنظمة الخاصة بالجهات ذات العلاق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الإجراءات الخاصة بالمحافظة على أصول المنشأة وحمايتها من الإهمال و الغش والسرق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5259-2C31-48C3-8697-2C2C3EC6604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. التحقق من الكفاية والفعالية في استخدام المصادر المتاحة ل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يق فيما يشتبه به من نشاطات غير مناسبة في المنشأ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كتابة للإدارة التنفيذية حول نتائج عمليات المراجعة والفحوصات التي تم تنفيذ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تابعة تنفيذ التوصيات والتحقق من اتخاذ الإجراءات التصحيحية المناسبة بخصوص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دريب ، أو الإشراف على تدريب ، الموظفين الجدد والقدامى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سهيل عمل المراجع الخارجي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42EB-B5CE-45A8-8D4B-6195BA5094B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خطيط عمل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ضع برنامج عمل يحدد الهدف من عملية المراجعة والمجالات التى يجب مراجعتها والإجراءات التى يجب اتباعها والوقت المحدد لإنجاز عملية المراجع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تمل خطة المراجعة على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 مجالات المراجعة الداخلية (جداول العمل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إجراءات المراجعة الداخلية والتكليفات المطلوب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نماذج التقارير التى تصدر عن قسم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670C-4378-4F02-A122-F101242CD3D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تشابه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رتكز عملية المراجعة بصفة أساسية بغض النظر عن نوعها على نظام الرقابة الداخلي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هدف عملية المراجعة إلى المحافظة على كافة الحقوق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ساعد عملية المراجعة فى التحليل المالى واستخراج المؤشرات المالية وقياس الإنحرافات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تطلب عملية المراجعة بصفة عامة التمتع بدرجة من الاستقلال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صلة النهائية لعملية المراجعة هى إعداد تقرير للجهة المسئول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C7C3-23C5-41FC-8534-F09C7E73BAD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إختلاف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درجة الإستقلال التى يتمتع بها المراجع الخارجى أعلى من المراجع الداخلى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مجال الإستفادة من خدمات المراجعة الخارجية أكبر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فحص وتقييم نظام الرقابة الداخلية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مجالات المساءل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741D-9AE6-4054-B204-63C64663848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جالات التعاون بين المراجع الداخلى والخارجى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تقع على المراجع الداخلى مهمة تنفيذ التوصيات التى يبديها المراجع الخارجى فى تقريره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ختص المراجع الداخلى بمهمة تجهيز البيانات المحاسبية بينما يقع على المراجع الخارجى استخراج المعلومات المحاسبية من تلك البيانات وتوصيلها إلى مستخدم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قوم المراجع الخارجى ببعض الأعمال التى يطلبها المراجع الخارجى مثل جرد الصندوق خلال السنة المالية، الرد على استفسارات المراجع الخارجى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5508-3362-439A-B72C-5011FCC6026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م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أهمية كبرى (رئيسية)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إعطاء ثقة لدى مستخدمي القوائم المالية - سواء من داخل المنشأة أو خارجها - بأنها تعبر بصدق وعدالة عن المركز المالي للمنشأة وأنها تتفق مع المبادئ المحاسبية المتعارف عليها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5E27-649B-45A1-AF32-2203C63E7B8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دلة الإثبات في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عبارة عن حقائق وقرائن واقعة بالفعل وملموسة يحصل عليها المراجع لتساعده في الحكم على صحة أو عدم صحة فرضيةٍ ما حول القوائم المال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10FA-0A38-4023-A160-EEDC5A02A72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أدلة الإثبات في المراجع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وجود الفعلي للشيء الممثل في الحسابات وفحصه مادياً بواسطة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مستندات المؤيدة للعمليات - الخارجية و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إقرارات التي يحصل عليها المراجع من الغير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شهادات التي يحصل عليها المراجع من إدارة المنشأ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وجود نظام سليم للرقابة 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عمليات الحسابية التي يقوم بها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ارتباط بين البيانات محل الفحص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AA1D-FF04-4E3B-A50E-DC11F2AF7C5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وسائل (أساليب) الحصول على أدلة الإثبات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جرد الفعل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ستن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حساب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قي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وضوع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AC85-FD5F-48A5-82D4-7270BA16584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-1357200" y="-71280"/>
          <a:ext cx="7415280" cy="847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57200" y="-71280"/>
                    <a:ext cx="7415280" cy="84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 rot="20799600">
            <a:off x="2448360" y="7632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أنواع المراجع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من حيث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5"/>
          <p:cNvSpPr/>
          <p:nvPr/>
        </p:nvSpPr>
        <p:spPr>
          <a:xfrm>
            <a:off x="4356720" y="528624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7004-28F4-4D22-81A9-DA1279829C0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نظام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76080" indent="-25992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الخطة التنظيمية وجميع الإجراءات والوسائل التي تتبع في داخل المنشأة التي من شأنها المحافظة على أصولها ، والتأكد من دقة وصحة البيانات المحاسبية المسجلة في الدفاتر ودرجة الاعتماد عليها ، وتحقيق أكبر قدر من الكفاية الإنتاجية في عمليات المنشـأة ، والالتزام بتنفيذ السياسات الإدارية المرسـوم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B6AE-6027-4347-A983-0CFD8BBE8EF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 والأصول المتداولة الأخر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جميع الحسابات (الرقابة المحاسبية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المحاسبية والإدار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راحل تطور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مستطيل 6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2T05:06:08Z</dcterms:created>
  <dc:creator>MISHAL</dc:creator>
  <dc:description/>
  <dc:language>en-US</dc:language>
  <cp:lastModifiedBy>mohamed</cp:lastModifiedBy>
  <cp:lastPrinted>2002-01-05T10:39:02Z</cp:lastPrinted>
  <dcterms:modified xsi:type="dcterms:W3CDTF">2008-03-26T17:52:26Z</dcterms:modified>
  <cp:revision>58</cp:revision>
  <dc:subject/>
  <dc:title>أهداف المراجعة</dc:title>
</cp:coreProperties>
</file>