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camera.wav" ContentType="audio/x-wav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AEF4-DAA0-4183-8F31-B94E85A6D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C327-C93D-409D-B865-F17FE3B1F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6DAF-D9BE-4061-B238-37D86094D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7B4F-F8C2-442B-94BF-DA04BD0BD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FBAAB-ED67-4D4D-8D17-4D3C1C7C9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F4E71-E070-4816-AB87-E8E996517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DAEC3-3DD0-401B-BD6A-A25BE364C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B97DD-2A25-4DC5-B4F1-EF164ECC1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9284D-C7B8-4FFC-91F2-B55D2E095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12FF6-5D0B-48E3-AF98-0C947FD7F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F6298-EDE6-4168-AA4C-C2D0CBA6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01D0-0CDC-43C1-91C8-371EF84BF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96828-D798-45E4-BD76-BD600078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7D456-9EC6-45BD-AE1F-B59046A3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80418-51DF-44F0-A4D2-6D576312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A5364-1CD7-4915-915C-205BA836F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67B12-2BB7-43E9-918C-D4581E08B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756E-5528-4B65-ABE2-1E9332EA9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3C41-4AD7-44FA-8428-B53D55976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186D-7B26-4474-AF14-C8C981A99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C4AB-FC92-4BED-8A83-3971FA09C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989A-B843-4346-B421-36EAFE22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965B-BE3A-44EE-85DC-0A6634E8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A53F-74F7-491D-BBF3-F1305FA0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Rectangle 3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Freeform 6"/>
              <p:cNvSpPr/>
              <p:nvPr/>
            </p:nvSpPr>
            <p:spPr>
              <a:xfrm rot="21092400">
                <a:off x="-23400" y="831600"/>
                <a:ext cx="1680840" cy="272880"/>
              </a:xfrm>
              <a:prstGeom prst="pie">
                <a:avLst/>
              </a:prstGeom>
              <a:gradFill rotWithShape="0">
                <a:gsLst>
                  <a:gs pos="0">
                    <a:srgbClr val="f5ebc1"/>
                  </a:gs>
                  <a:gs pos="100000">
                    <a:srgbClr val="00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rot="21092400">
                <a:off x="1838160" y="-141120"/>
                <a:ext cx="6543360" cy="1000080"/>
              </a:xfrm>
              <a:prstGeom prst="pie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" name="Group 8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Oval 9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Oval 10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Oval 11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Oval 12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Oval 13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Oval 14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Oval 16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Oval 17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" name="Rectangle 18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أ. م  الزهراني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A4D98-3291-4877-BCF6-1AE936DBFC06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9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0" name="Rectangle 4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Rectangle 5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Rectangle 6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Group 7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4" name="Freeform 8"/>
            <p:cNvSpPr/>
            <p:nvPr/>
          </p:nvSpPr>
          <p:spPr>
            <a:xfrm rot="21092400">
              <a:off x="0" y="2344680"/>
              <a:ext cx="1681200" cy="273240"/>
            </a:xfrm>
            <a:prstGeom prst="pie">
              <a:avLst/>
            </a:prstGeom>
            <a:gradFill rotWithShape="0">
              <a:gsLst>
                <a:gs pos="0">
                  <a:srgbClr val="f5ebc1"/>
                </a:gs>
                <a:gs pos="100000">
                  <a:srgbClr val="00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9"/>
            <p:cNvSpPr/>
            <p:nvPr/>
          </p:nvSpPr>
          <p:spPr>
            <a:xfrm rot="21092400">
              <a:off x="1862280" y="1371240"/>
              <a:ext cx="6543360" cy="1000080"/>
            </a:xfrm>
            <a:prstGeom prst="pie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Group 10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7" name="Oval 11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Oval 12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Oval 13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Oval 14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Oval 15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Oval 16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Oval 17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Oval 18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Oval 19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D0116-906F-46F6-96EA-CF2F901DEE7A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997A-FC93-4EFA-999C-7119D93AE409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تعريف المراجع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</a:rPr>
              <a:t>المراجعة عمل منظم للحصول على أدلة الإثبات بطريقة موضوعية ، وتقييم هذه الأدلة بغرض التأكد من مدى سلامة العمليات والأحداث الاقتصادية بواسطة تلك الإثباتات والتحقق من درجة التوافق بين الأدلة و المعايير الموضوعة ، وتوصيل ذلك إلى الأطراف المستفيدة .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مستطيل 6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38283-663A-41FE-87B9-5F98329B0572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أنواع الرقابة الداخلية (من حيث الوظيفة)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000000"/>
                </a:solidFill>
                <a:latin typeface="Arial Narrow"/>
              </a:rPr>
              <a:t>الرقابة الداخلية المحاسبية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 ، ووظيفتها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محافظة على الأصول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ar-AE" sz="2800" spc="-1" strike="noStrike">
                <a:solidFill>
                  <a:srgbClr val="000000"/>
                </a:solidFill>
                <a:latin typeface="Arial Narrow"/>
              </a:rPr>
              <a:t>الضبط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Arial Narrow"/>
              </a:rPr>
              <a:t>الداخلي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)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تأكد من دقة البيانات المحاسبية ودرجة الاعتماد عليها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000000"/>
                </a:solidFill>
                <a:latin typeface="Arial Narrow"/>
              </a:rPr>
              <a:t>الرقابة الداخلية الإدارية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 ، ووظيفتها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تحقيق الكفاية الانتاجية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التزام بالسياسات الإدارية المرسومة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CAF43-4026-485B-A2C5-2E3AADA81F01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أنواع الرقابة الداخلية (من حيث الهدف)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r" rtl="1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رقابة مانعة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 تهدف إلى منع وقوع الأحداث غير المرغوب فيها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9844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98440" indent="-298440" algn="r" rtl="1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رقابة كاشفة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 تهدف إلى كشف الأخطاء الواقعة فعلاً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9844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98440" indent="-298440" algn="r" rtl="1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رقابة تصحيحية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 تهدف إلى تصحيح ما اكتُشف من أخطاء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9844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98440" indent="-298440" algn="r" rtl="1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رقابة موجهة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 تهدف إلى تشجيع وقوع أحداث مرغوب فيها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1066680" y="1981080"/>
            <a:ext cx="701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1143000" y="1981080"/>
            <a:ext cx="69343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1143000" y="2971800"/>
            <a:ext cx="69343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1143000" y="4038480"/>
            <a:ext cx="69343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1143000" y="5029200"/>
            <a:ext cx="69343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9"/>
          <p:cNvSpPr/>
          <p:nvPr/>
        </p:nvSpPr>
        <p:spPr>
          <a:xfrm flipH="1">
            <a:off x="762120" y="22082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0"/>
          <p:cNvSpPr/>
          <p:nvPr/>
        </p:nvSpPr>
        <p:spPr>
          <a:xfrm>
            <a:off x="762120" y="2209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1"/>
          <p:cNvSpPr/>
          <p:nvPr/>
        </p:nvSpPr>
        <p:spPr>
          <a:xfrm flipH="1">
            <a:off x="762120" y="3352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2"/>
          <p:cNvSpPr/>
          <p:nvPr/>
        </p:nvSpPr>
        <p:spPr>
          <a:xfrm>
            <a:off x="762120" y="3352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13"/>
          <p:cNvSpPr/>
          <p:nvPr/>
        </p:nvSpPr>
        <p:spPr>
          <a:xfrm>
            <a:off x="76212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4"/>
          <p:cNvSpPr/>
          <p:nvPr/>
        </p:nvSpPr>
        <p:spPr>
          <a:xfrm>
            <a:off x="762120" y="3124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مستطيل 16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59777-0A92-4B84-992E-798CD339EFF7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مقومات نظام الرقابة الداخلية الأساس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  <a:cs typeface="Traditional Arabic"/>
              </a:rPr>
              <a:t>هيكل تنظيمي إداري واضح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Traditional Arabic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12120" indent="-312120" algn="r" rtl="1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  <a:cs typeface="Traditional Arabic"/>
              </a:rPr>
              <a:t>نظام محاسبي متكامل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Traditional Arabic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12120" indent="-312120" algn="r" rtl="1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  <a:cs typeface="Traditional Arabic"/>
              </a:rPr>
              <a:t>وجود إجراءات تفصيلية واضحة لتنفيذ الواجبات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Traditional Arabic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12120" indent="-312120" algn="r" rtl="1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  <a:cs typeface="Traditional Arabic"/>
              </a:rPr>
              <a:t>الاختيار المناسب للموظفين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Traditional Arabic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12120" indent="-312120" algn="r" rtl="1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  <a:cs typeface="Traditional Arabic"/>
              </a:rPr>
              <a:t>رقابة الأداء للموظفين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Traditional Arabic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12120" indent="-312120" algn="r" rtl="1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  <a:cs typeface="Traditional Arabic"/>
              </a:rPr>
              <a:t>استخدام الوسائل الآلية المناسبة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Traditional Arabic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9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73DE6-0CBA-41B4-ACF1-CA5D972BFEA3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أساليب الرقابة الداخلية 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 أساليب الرقابة المحاسبية الهادفة إلى حماية الأصول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فصل بين الاختصاصات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دليل الإجراءات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لوائح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تغيير الدوري بين العاملين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تمتع الموظف بإجازته السنوي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رقابة المزدوج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جرد المفاجئ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41629-D6A5-4AC3-8089-F555B77487FB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أساليب الرقابة الداخلية 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أساليب الرقابة المحاسبية الهادفة إلى التأكد من دقة البيانات المحاسبية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وجود نظام محاسبي سليم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وجود نظام حسابات المراقبة والمطابقات الدوري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جرد المستمر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مذكرات تسوية البنك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عتماد قيود المراجعة الشهري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A1192-5000-49B1-B907-A966A1214499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أساليب الرقابة الداخلية 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أساليب الرقابة الإدارية الهادفة إلى رفع الكفاءة الانتاجية وضمان الالتزام بالسياسات والخطط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ميزانية التقديري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تكاليف المعياري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تقارير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برامج التدريب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حوافز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تطبيق نظام محاسبة المسؤولي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1D8CA-6D7C-4401-8FA3-D803D00A3B1C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المراجعة الداخل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000000"/>
                </a:solidFill>
                <a:uFillTx/>
                <a:latin typeface="Arial Narrow"/>
              </a:rPr>
              <a:t>تعريف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: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68520" indent="-257040" algn="just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هي وظيفة مستقلة من داخل المشروع  لفحص العمليات المالية والإدارية وتقييم مدى الالتزام بالأنظمة والإجراءات الداخلية ووسائل الرقابة الداخلية واقتراح التحسينات اللازمة لرفع الكفاية الإنتاجية 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68520" indent="-257040" algn="just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إذاً المراجعة الداخلية جزء من نظام الرقابة الداخلية وليس العكس ، حيث تقوم إدارة المراجعة الداخلية بفحص وتقييم نظام الرقابة الداخلية وإكتشاف نواحى القصور وتقديم توصيات بالتحسينات المطلوبة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9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283CD-3E84-4906-B577-7803F2473270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 Narrow"/>
              </a:rPr>
              <a:t>السمات التى تميز المراجعة الداخلية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 تهدف لخدمة إدارة المنشأ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just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تؤدى بواسطة موظفين مستقلين من داخل المنشأ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just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تشمل جميع عمليات المنشأ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just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مراجع الداخلى عمله اشتشارى وليس تنفيذى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4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36283-1ACF-4F3E-84BA-93D9B597D26D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أهداف المراجعة الداخل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تقييم نظام الرقابة الداخل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-32220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تأكد من دقة وصحة العمليات المال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-32220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حماية أصول المنشأ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-322200"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تقييم مدى الالتزام بالسياسات والإجراءات الداخل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-322200" algn="r" rtl="1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إستخدام الفعال والإقتصادى لموارد المنشأ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-322200" algn="r" rtl="1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قتراح التحسينات اللازمة لرفع الكفاية الإنتاج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9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F9FE2-99FB-4252-9469-2DDCF759B08F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معايير المراجعة الداخل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معيار الكفاءة المهن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معيار الإستقلال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معيار مجال المراجعة الداخلي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معيار إدارة العمل بوحدة المراجعة الداخلي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معيار التنفيذ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4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D4CC1-B202-42B1-8139-D072F6FE1F64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أهداف المراجع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0000"/>
                </a:solidFill>
                <a:uFillTx/>
                <a:latin typeface="Arial Narrow"/>
              </a:rPr>
              <a:t>هدف رئيسي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056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000000"/>
                </a:solidFill>
                <a:latin typeface="Arial Narrow"/>
              </a:rPr>
              <a:t>إبداء الرأى في القوائم المالية وعن مدى عدالتها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 بالتحقق من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17080" algn="r" rtl="1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 Narrow"/>
              </a:rPr>
              <a:t>صحة العرض بالقوائم المالية وكفاية الإفصاح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17080" algn="r" rtl="1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 Narrow"/>
              </a:rPr>
              <a:t>شرعية وصحة العمليات المالية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17080" algn="r" rtl="1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 Narrow"/>
              </a:rPr>
              <a:t>الملكية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17080" algn="r" rtl="1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 Narrow"/>
              </a:rPr>
              <a:t>استقلال الفترات المالية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17080" algn="r" rtl="1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 Narrow"/>
              </a:rPr>
              <a:t>صحة التقويم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17080" algn="r" rtl="1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 Narrow"/>
              </a:rPr>
              <a:t>الوجود الفعلي للاصول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853F3-89D0-44A6-9FAD-1BF056D9F2B3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 Narrow"/>
                <a:cs typeface="Simplified Arabic"/>
              </a:rPr>
              <a:t>معايير المراجعة الداخلية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  <a:cs typeface="Simplified Arabic"/>
              </a:rPr>
              <a:t>توفر المؤهلات العلمية والخبرات العملية الكافية لدى المراجع الداخلي ومعاونيه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  <a:cs typeface="Simplified Arabic"/>
              </a:rPr>
              <a:t>تبعية إدارة المراجعة الداخلية لأعلى سلطة في المنشأ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  <a:cs typeface="Simplified Arabic"/>
              </a:rPr>
              <a:t>عدم قيام إدارة المراجعة الداخلية بأي عمل يتعلق بالعمليات التي تقوم بمراجعتها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abic Transparen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abic Transparent"/>
                <a:cs typeface="Simplified Arabic"/>
              </a:rPr>
              <a:t>تحديد الإطار العام لعملية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  <a:ea typeface="Simplified Arabic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abic Transparent"/>
                <a:cs typeface="Simplified Arabic"/>
              </a:rPr>
              <a:t>المراجعة الداخلية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  <a:ea typeface="Simplified Arab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abic Transparen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abic Transparent"/>
                <a:cs typeface="Simplified Arabic"/>
              </a:rPr>
              <a:t>وضع دليل للعمل بمكتب المراجعة الداخلية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  <a:ea typeface="Simplified Arab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abic Transparen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abic Transparent"/>
                <a:cs typeface="Simplified Arabic"/>
              </a:rPr>
              <a:t>التقييم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  <a:ea typeface="Simplified Arabic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abic Transparent"/>
                <a:cs typeface="Simplified Arabic"/>
              </a:rPr>
              <a:t>المستمر لنظام الرقابة الداخلية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  <a:ea typeface="Simplified Arabic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abic Transparen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abic Transparent"/>
                <a:cs typeface="Simplified Arabic"/>
              </a:rPr>
              <a:t>وضع برنامج لتنفيذ عمل المراجعة الداخلية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  <a:ea typeface="Simplified Arabic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abic Transparen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abic Transparent"/>
                <a:cs typeface="Simplified Arabic"/>
              </a:rPr>
              <a:t>إعداد تقرير المراجعة الداخلية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  <a:ea typeface="Simplified Arab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9" name="مستطيل 5"/>
          <p:cNvSpPr/>
          <p:nvPr/>
        </p:nvSpPr>
        <p:spPr>
          <a:xfrm>
            <a:off x="70560" y="618156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18FD2-90A3-4E67-8EF8-3F1F721697DD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 Narrow"/>
                <a:cs typeface="Simplified Arabic"/>
              </a:rPr>
              <a:t>أنواع الخدمات التى تقدمها المراجعة الداخلية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Arial Narrow"/>
              </a:rPr>
              <a:t>- الحماية والوقاية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وذلك عن طريق حماية أصول المنشأة والتحقق من صحة ودقة البيانات المالية ومراجعة مدى التزام إدارة الوحدة وعدم مخالفة السياسات والإجراءات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-3016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Arial Narrow"/>
              </a:rPr>
              <a:t>- البناء والإصلاح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وذلك عن طريق تقويم اساليب الرقابة وتقويم الأداء وتقديم التوصيات اللازمة لإجراء التعديلات المقترح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4" name="مستطيل 5"/>
          <p:cNvSpPr/>
          <p:nvPr/>
        </p:nvSpPr>
        <p:spPr>
          <a:xfrm>
            <a:off x="70560" y="603900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F8813-8E84-4F87-A2FB-48A5E5323FC9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مهام المهنية لإدارة المراجعة الداخلية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(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فحص وتقييم أنظمة الرقابة الداخلية الحالية والمساعدة في فحص الأنظمة الجديدة قبل وضعها موضع التنفيذ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تقييم دقة وسلامة البيانات التي تحتويها الدفاتر والسجلات والقوائم المالي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تحقق من تنفيذ السياسات التي تضعها المنشأة وتقييم مدى التوافق مع القوانين والأنظمة الخاصة بالجهات ذات العلاقة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فحص وتقييم الإجراءات الخاصة بالمحافظة على أصول المنشأة وحمايتها من الإهمال و الغش والسرق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0" algn="just" rtl="1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9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AF6BC-03FB-449A-9B14-999713D85AA0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مهام المهنية لإدارة المراجعة الداخلية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(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5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. التحقق من الكفاية والفعالية في استخدام المصادر المتاحة للمنشأ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تحقيق فيما يشتبه به من نشاطات غير مناسبة في المنشأة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كتابة للإدارة التنفيذية حول نتائج عمليات المراجعة والفحوصات التي تم تنفيذها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متابعة تنفيذ التوصيات والتحقق من اتخاذ الإجراءات التصحيحية المناسبة بخصوصها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تدريب ، أو الإشراف على تدريب ، الموظفين الجدد والقدامى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تسهيل عمل المراجع الخارجي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8BFE7-22ED-4909-9C87-C2FBE963C3F7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Simplified Arabic"/>
              </a:rPr>
              <a:t>تخطيط عملية المراجع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وضع برنامج عمل يحدد الهدف من عملية المراجعة والمجالات التى يجب مراجعتها والإجراءات التى يجب اتباعها والوقت المحدد لإنجاز عملية المراجع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تشتمل خطة المراجعة على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- الهدف من المراجعة الداخل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-  مجالات المراجعة الداخلية (جداول العمل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- إجراءات المراجعة الداخلية والتكليفات المطلوب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- نماذج التقارير التى تصدر عن قسم المراجعة الداخل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9" name="مستطيل 5"/>
          <p:cNvSpPr/>
          <p:nvPr/>
        </p:nvSpPr>
        <p:spPr>
          <a:xfrm>
            <a:off x="70560" y="618156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5A868-59A0-4C14-8471-A897392A73F5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أوجه التشابه بين المراجعة الداخلية والخارج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 algn="r" rtl="1"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ترتكز عملية المراجعة بصفة أساسية بغض النظر عن نوعها على نظام الرقابة الداخلية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48280" indent="-548280" algn="r" rtl="1"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تهدف عملية المراجعة إلى المحافظة على كافة الحقوق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48280" indent="-548280" algn="r" rtl="1"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تساعد عملية المراجعة فى التحليل المالى واستخراج المؤشرات المالية وقياس الإنحرافات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48280" indent="-548280" algn="r" rtl="1"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تتطلب عملية المراجعة بصفة عامة التمتع بدرجة من الاستقلال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48280" indent="-548280" algn="r" rtl="1"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محصلة النهائية لعملية المراجعة هى إعداد تقرير للجهة المسئولة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4" name="مستطيل 5"/>
          <p:cNvSpPr/>
          <p:nvPr/>
        </p:nvSpPr>
        <p:spPr>
          <a:xfrm>
            <a:off x="70560" y="618156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77BA0-5E51-4E05-BDC2-0B83AE4A6AF6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أوجه الإختلاف بين المراجعة الداخلية والخارج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- درجة الإستقلال التى يتمتع بها المراجع الخارجى أعلى من المراجع الداخلى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 مجال الإستفادة من خدمات المراجعة الخارجية أكبر من المراجعة الداخل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- الهدف من فحص وتقييم نظام الرقابة الداخلية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- مجالات المساءل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9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FFB4E-FED3-4D75-A9F8-8A19351EFD65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مجالات التعاون بين المراجع الداخلى والخارجى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- تقع على المراجع الداخلى مهمة تنفيذ التوصيات التى يبديها المراجع الخارجى فى تقريره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 algn="r" rtl="1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- يختص المراجع الداخلى بمهمة تجهيز البيانات المحاسبية بينما يقع على المراجع الخارجى استخراج المعلومات المحاسبية من تلك البيانات وتوصيلها إلى مستخدميها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 algn="r" rtl="1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- يقوم المراجع الخارجى ببعض الأعمال التى يطلبها المراجع الخارجى مثل جرد الصندوق خلال السنة المالية، الرد على استفسارات المراجع الخارجى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4" name="مستطيل 5"/>
          <p:cNvSpPr/>
          <p:nvPr/>
        </p:nvSpPr>
        <p:spPr>
          <a:xfrm>
            <a:off x="70560" y="618156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4FE68-E962-40A4-96A7-521FC4E2BD50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أهمية المراجع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</a:rPr>
              <a:t>أهمية كبرى (رئيسية) :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إعطاء ثقة لدى مستخدمي القوائم المالية - سواء من داخل المنشأة أو خارجها - بأنها تعبر بصدق وعدالة عن المركز المالي للمنشأة وأنها تتفق مع المبادئ المحاسبية المتعارف عليها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FA85D-E2F7-4443-8F25-CA59F9305F43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أدلة الإثبات في المراجع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000000"/>
                </a:solidFill>
                <a:uFillTx/>
                <a:latin typeface="Arial Narrow"/>
              </a:rPr>
              <a:t>تعريف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 :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just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هي عبارة عن حقائق وقرائن واقعة بالفعل وملموسة يحصل عليها المراجع لتساعده في الحكم على صحة أو عدم صحة فرضيةٍ ما حول القوائم المالية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B9F21-AAD2-42D5-B250-C85162621989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أنواع أدلة الإثبات في المراجعة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-536040" algn="just" rtl="1">
              <a:spcBef>
                <a:spcPts val="77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Arial Narrow"/>
              </a:rPr>
              <a:t>الوجود الفعلي للشيء الممثل في الحسابات وفحصه مادياً بواسطة المراجع</a:t>
            </a:r>
            <a:r>
              <a:rPr b="0" lang="en-US" sz="3100" spc="-1" strike="noStrike">
                <a:solidFill>
                  <a:srgbClr val="000000"/>
                </a:solidFill>
                <a:latin typeface="Arial Narrow"/>
              </a:rPr>
              <a:t> . </a:t>
            </a:r>
            <a:endParaRPr b="0" lang="en-US" sz="3100" spc="-1" strike="noStrike">
              <a:solidFill>
                <a:srgbClr val="000000"/>
              </a:solidFill>
              <a:latin typeface="Arial Narrow"/>
            </a:endParaRPr>
          </a:p>
          <a:p>
            <a:pPr marL="536040" indent="-536040" algn="just" rtl="1">
              <a:spcBef>
                <a:spcPts val="77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Arial Narrow"/>
              </a:rPr>
              <a:t>المستندات المؤيدة للعمليات - الخارجية والداخلية</a:t>
            </a:r>
            <a:r>
              <a:rPr b="0" lang="en-US" sz="3100" spc="-1" strike="noStrike">
                <a:solidFill>
                  <a:srgbClr val="000000"/>
                </a:solidFill>
                <a:latin typeface="Arial Narrow"/>
              </a:rPr>
              <a:t> . </a:t>
            </a:r>
            <a:endParaRPr b="0" lang="en-US" sz="3100" spc="-1" strike="noStrike">
              <a:solidFill>
                <a:srgbClr val="000000"/>
              </a:solidFill>
              <a:latin typeface="Arial Narrow"/>
            </a:endParaRPr>
          </a:p>
          <a:p>
            <a:pPr marL="536040" indent="-536040" algn="just" rtl="1">
              <a:spcBef>
                <a:spcPts val="77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Arial Narrow"/>
              </a:rPr>
              <a:t>الإقرارات التي يحصل عليها المراجع من الغير</a:t>
            </a:r>
            <a:r>
              <a:rPr b="0" lang="en-US" sz="31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100" spc="-1" strike="noStrike">
              <a:solidFill>
                <a:srgbClr val="000000"/>
              </a:solidFill>
              <a:latin typeface="Arial Narrow"/>
            </a:endParaRPr>
          </a:p>
          <a:p>
            <a:pPr marL="536040" indent="-536040" algn="just" rtl="1">
              <a:spcBef>
                <a:spcPts val="77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Arial Narrow"/>
              </a:rPr>
              <a:t>الشهادات التي يحصل عليها المراجع من إدارة المنشأة</a:t>
            </a:r>
            <a:r>
              <a:rPr b="0" lang="en-US" sz="31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100" spc="-1" strike="noStrike">
              <a:solidFill>
                <a:srgbClr val="000000"/>
              </a:solidFill>
              <a:latin typeface="Arial Narrow"/>
            </a:endParaRPr>
          </a:p>
          <a:p>
            <a:pPr marL="536040" indent="-536040" algn="just" rtl="1">
              <a:spcBef>
                <a:spcPts val="77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Arial Narrow"/>
              </a:rPr>
              <a:t>وجود نظام سليم للرقابة الداخلية</a:t>
            </a:r>
            <a:r>
              <a:rPr b="0" lang="en-US" sz="31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100" spc="-1" strike="noStrike">
              <a:solidFill>
                <a:srgbClr val="000000"/>
              </a:solidFill>
              <a:latin typeface="Arial Narrow"/>
            </a:endParaRPr>
          </a:p>
          <a:p>
            <a:pPr marL="536040" indent="-536040" algn="just" rtl="1">
              <a:spcBef>
                <a:spcPts val="77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Arial Narrow"/>
              </a:rPr>
              <a:t>العمليات الحسابية التي يقوم بها المراجع</a:t>
            </a:r>
            <a:r>
              <a:rPr b="0" lang="en-US" sz="31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100" spc="-1" strike="noStrike">
              <a:solidFill>
                <a:srgbClr val="000000"/>
              </a:solidFill>
              <a:latin typeface="Arial Narrow"/>
            </a:endParaRPr>
          </a:p>
          <a:p>
            <a:pPr marL="536040" indent="-536040" algn="just" rtl="1">
              <a:spcBef>
                <a:spcPts val="77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Arial Narrow"/>
              </a:rPr>
              <a:t>الارتباط بين البيانات محل الفحص</a:t>
            </a:r>
            <a:r>
              <a:rPr b="0" lang="en-US" sz="31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1ABDD-2C4E-471A-9741-98EE1A4B357C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وسائل (أساليب) الحصول على أدلة الإثبات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جرد الفعلي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مراجعة المستندية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مراجعة الحسابية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مراجعة القيدية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مراجعة الموضوعية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عنصر نائب للتذييل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عنصر نائب لرقم الشريحة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A2B38-72DA-42BA-9744-255E9E4FFDE0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-1357200" y="-71280"/>
          <a:ext cx="7415280" cy="847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357200" y="-71280"/>
                    <a:ext cx="7415280" cy="847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4"/>
          <p:cNvSpPr/>
          <p:nvPr/>
        </p:nvSpPr>
        <p:spPr>
          <a:xfrm rot="20799600">
            <a:off x="2448360" y="76320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00000"/>
                </a:solidFill>
                <a:uFillTx/>
                <a:latin typeface="Times New Roman"/>
              </a:rPr>
              <a:t>أنواع المراجع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4000" spc="-1" strike="noStrike" u="sng">
                <a:solidFill>
                  <a:srgbClr val="000000"/>
                </a:solidFill>
                <a:uFillTx/>
                <a:latin typeface="Times New Roman"/>
              </a:rPr>
              <a:t>من حيث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مستطيل 5"/>
          <p:cNvSpPr/>
          <p:nvPr/>
        </p:nvSpPr>
        <p:spPr>
          <a:xfrm>
            <a:off x="4356720" y="528624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14023-23FD-4600-9BB8-56BA02A5A3B3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نظام الرقابة الداخل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</a:rPr>
              <a:t>تعريف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 :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676080" indent="-259920" algn="just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هي الخطة التنظيمية وجميع الإجراءات والوسائل التي تتبع في داخل المنشأة التي من شأنها المحافظة على أصولها ، والتأكد من دقة وصحة البيانات المحاسبية المسجلة في الدفاتر ودرجة الاعتماد عليها ، وتحقيق أكبر قدر من الكفاية الإنتاجية في عمليات المنشـأة ، والالتزام بتنفيذ السياسات الإدارية المرسـومة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AED52-47E4-4D72-A9CC-539B560419AE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رقابة على النقدي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رقابة على النقدية والأصول المتداولة الأخرى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رقابة على جميع الحسابات (الرقابة المحاسبية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رقابة المحاسبية والإداري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مراحل تطور الرقابة الداخل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" name="Line 5"/>
          <p:cNvSpPr/>
          <p:nvPr/>
        </p:nvSpPr>
        <p:spPr>
          <a:xfrm>
            <a:off x="4572000" y="2514600"/>
            <a:ext cx="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مستطيل 6"/>
          <p:cNvSpPr/>
          <p:nvPr/>
        </p:nvSpPr>
        <p:spPr>
          <a:xfrm>
            <a:off x="70560" y="603900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2T05:06:08Z</dcterms:created>
  <dc:creator>MISHAL</dc:creator>
  <dc:description/>
  <dc:language>en-US</dc:language>
  <cp:lastModifiedBy>mohamed</cp:lastModifiedBy>
  <cp:lastPrinted>2002-01-05T10:39:02Z</cp:lastPrinted>
  <dcterms:modified xsi:type="dcterms:W3CDTF">2008-03-26T17:52:26Z</dcterms:modified>
  <cp:revision>58</cp:revision>
  <dc:subject/>
  <dc:title>أهداف المراجعة</dc:title>
</cp:coreProperties>
</file>