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wmf" ContentType="image/x-wmf"/>
  <Override PartName="/ppt/media/image13.wmf" ContentType="image/x-wmf"/>
  <Override PartName="/ppt/media/chimes.wav" ContentType="audio/x-wav"/>
  <Override PartName="/ppt/media/image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4D6A8-2C12-4D45-B477-B0439F050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58423-CAEA-419B-898C-A610FF35C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F77B1-4CA9-437E-A219-C928E15C1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7F3A9-A9EC-4505-B298-2EDA73749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79006-5784-45E2-8619-D7170B021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34601-D3F3-4362-859C-9084D06EE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AF386-AAEF-453D-99BA-477CABB63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06065-B85C-476C-AD3B-18E02F973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47467-C61F-4798-9FC9-E71B1DC1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E5C05-BBE4-45A1-BC21-954059C56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58EE-EBAC-4131-9AB4-3E4DD1D46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15943-13F4-4B9F-8BD1-71D4DCAE7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256A-749A-4C30-8D70-5BBA9DF57C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Andalus"/>
              </a:rPr>
              <a:t>المخصصات</a:t>
            </a:r>
            <a:endParaRPr b="0" lang="en-US" sz="7200" spc="-1" strike="noStrike">
              <a:solidFill>
                <a:srgbClr val="000000"/>
              </a:solidFill>
              <a:latin typeface="Arial"/>
            </a:endParaRPr>
          </a:p>
        </p:txBody>
      </p:sp>
    </p:spTree>
  </p:cSld>
  <p:transition spd="med">
    <p:comb dir="vert"/>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760320" y="476280"/>
          <a:ext cx="7570800" cy="3670200"/>
        </p:xfrm>
        <a:graphic>
          <a:graphicData uri="http://schemas.openxmlformats.org/presentationml/2006/ole">
            <p:oleObj progId="Word.Document.12" r:id="rId1" spid="">
              <p:embed/>
              <p:pic>
                <p:nvPicPr>
                  <p:cNvPr id="57" name="" descr=""/>
                  <p:cNvPicPr/>
                  <p:nvPr/>
                </p:nvPicPr>
                <p:blipFill>
                  <a:blip r:embed="rId2"/>
                  <a:stretch/>
                </p:blipFill>
                <p:spPr>
                  <a:xfrm>
                    <a:off x="760320" y="476280"/>
                    <a:ext cx="7570800" cy="3670200"/>
                  </a:xfrm>
                  <a:prstGeom prst="rect">
                    <a:avLst/>
                  </a:prstGeom>
                  <a:ln w="0">
                    <a:noFill/>
                  </a:ln>
                </p:spPr>
              </p:pic>
            </p:oleObj>
          </a:graphicData>
        </a:graphic>
      </p:graphicFrame>
      <p:sp>
        <p:nvSpPr>
          <p:cNvPr id="58" name=""/>
          <p:cNvSpPr/>
          <p:nvPr/>
        </p:nvSpPr>
        <p:spPr>
          <a:xfrm>
            <a:off x="-145080" y="4521960"/>
            <a:ext cx="9394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ماً بأن رصيد المدينون الظاهر في الميزانية هو الرصي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طرح الديون المعدومة التي حصلت عند الجرد.</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360"/>
            <a:ext cx="8893080" cy="612612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3</a:t>
            </a:r>
            <a:r>
              <a:rPr b="1" lang="ar-SA" sz="4000" spc="-1" strike="noStrike" u="sng">
                <a:solidFill>
                  <a:srgbClr val="000000"/>
                </a:solidFill>
                <a:uFillTx/>
                <a:latin typeface="Arial"/>
              </a:rPr>
              <a:t>-  مخصص الأجيــو:</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كوين هذا المخصص لمواجهة احتمال قيام المنشأة بخصم الأوراق التجارية في البنك قبل تاريخ الاستحقاق وذلك في حالة احتياجها لأموال نقدية، ويتم تقدير مصروفات خصم أوراق القبض على أساس قيمة الفائدة عن المدة من تاريخ إعداد القوائم المالية إلى تاريخ استحقاق أوراق القبض. وتسهيلاً للعمليات الحسابية يتم استخدام متوسط تاريخ استحقاق لاستخراج قيمة الفائدة على الأوراق التجارية جميعها.</a:t>
            </a:r>
            <a:endParaRPr b="0" lang="en-US" sz="40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ستخدم هذا المخصص لتغطية مصروفات خصم الأوراق التجارية التي تتم فعلاً خلال الفترة المالية. ويظهر مخصص خصم أوراق القبض مطروحاً من رصيد حـ/ أوراق القبض في جانب الأصول بالميزانية على النحو التالي:</a:t>
            </a:r>
            <a:endParaRPr b="0" lang="en-US" sz="40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ـيزان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1120680" y="1622520"/>
          <a:ext cx="6889680" cy="3450960"/>
        </p:xfrm>
        <a:graphic>
          <a:graphicData uri="http://schemas.openxmlformats.org/presentationml/2006/ole">
            <p:oleObj progId="Word.Document.12" r:id="rId1" spid="">
              <p:embed/>
              <p:pic>
                <p:nvPicPr>
                  <p:cNvPr id="63" name="" descr=""/>
                  <p:cNvPicPr/>
                  <p:nvPr/>
                </p:nvPicPr>
                <p:blipFill>
                  <a:blip r:embed="rId2"/>
                  <a:stretch/>
                </p:blipFill>
                <p:spPr>
                  <a:xfrm>
                    <a:off x="1120680" y="1622520"/>
                    <a:ext cx="6889680" cy="3450960"/>
                  </a:xfrm>
                  <a:prstGeom prst="rect">
                    <a:avLst/>
                  </a:prstGeom>
                  <a:ln w="0">
                    <a:noFill/>
                  </a:ln>
                </p:spPr>
              </p:pic>
            </p:oleObj>
          </a:graphicData>
        </a:graphic>
      </p:graphicFrame>
      <p:sp>
        <p:nvSpPr>
          <p:cNvPr id="64" name=""/>
          <p:cNvSpPr/>
          <p:nvPr/>
        </p:nvSpPr>
        <p:spPr>
          <a:xfrm>
            <a:off x="-21600" y="5016960"/>
            <a:ext cx="91846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الطبع يجب مقارنة المخصص المطلوب مع المخص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وجود سابقاً وزيادته أو تخفيضه.</a:t>
            </a:r>
            <a:endParaRPr b="0" lang="en-US" sz="32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4</a:t>
            </a:r>
            <a:r>
              <a:rPr b="1" lang="ar-SA" sz="3600" spc="-1" strike="noStrike" u="sng">
                <a:solidFill>
                  <a:srgbClr val="000000"/>
                </a:solidFill>
                <a:uFillTx/>
                <a:latin typeface="Arial"/>
              </a:rPr>
              <a:t>-  مخصص هبوط أسعار أوراق مالية:</a:t>
            </a:r>
            <a:endParaRPr b="0" lang="en-US" sz="36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م الأوراق المالية كاستثمارات قصيرة الأجل على أساس التكلفة وفي حالة انخفاض القيمة السوقية لها عن التكلفة يكون بالفرق مخصص هبوط أسعار أوراق مالية (أو استثمارات).</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ستخدم هذا المخصص لمقابلة الخسائر الناتجة عن بيع الأوراق المالية بأقل من تكلفتها. أما إذا بيعت هذه الأوراق بسعر أعلى من التكلفة فإنه يتم إقفال المخصص بترحيل رصيده إلى الإيرادات بقائمة الدخل أو بحساب الأرباح والخسائ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مخصص هبوط أسعار الأوراق المالية مطروحاً من رصيد حـ/ الأوراق المالية في جانب الأصول بالميزانية.</a:t>
            </a:r>
            <a:endParaRPr b="0" lang="en-US" sz="3200" spc="-1" strike="noStrike">
              <a:solidFill>
                <a:srgbClr val="000000"/>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عالجة المحاسبية للمخصصات:</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كون قيود التسويات الجردية التي يتم إجراؤها في نهاية الفترة المالية عند تكون مخصص جديد أو زيادة قيمة مخصص حالي على النحو التالي:</a:t>
            </a:r>
            <a:endParaRPr b="0" lang="en-US" sz="40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78080" y="115920"/>
            <a:ext cx="5929200" cy="65689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عندما يكون المخصص الموجود سابقاً أكبر من المخصص المطلوب تشكيله يتم تخفيض المخصص وتحويل الزيادة إلى الأرباح والخسائر أو قائمة الأرباح (الدخل)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9" name="" descr=""/>
          <p:cNvPicPr/>
          <p:nvPr/>
        </p:nvPicPr>
        <p:blipFill>
          <a:blip r:embed="rId1"/>
          <a:stretch/>
        </p:blipFill>
        <p:spPr>
          <a:xfrm>
            <a:off x="1442880" y="2781360"/>
            <a:ext cx="6161400" cy="185256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ثبات الديون المعدوم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عندما يصبح تحصيل أحد الديون مستحيلاً يصبح الدين معدوم أي خسارة واقعة لذلك لابد من إثباتها وتخفيض رصيد المدينون ويتم ذلك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2082960" y="2935440"/>
            <a:ext cx="6161040" cy="305568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وفي بعض الأحيان قد يقوم العميل الذي تقرر إعدام دينه بسداد الدين للمنشأة في فترة مالية تالية. وفي هذه الحالة يتم إجراء قيد عكسي للدين السابق إعدامه، ثم إجراء قيد آخر لتحصيل هذا الدين.</a:t>
            </a:r>
            <a:r>
              <a:rPr b="0" lang="ar-SY" sz="3200" spc="-1" strike="noStrike">
                <a:solidFill>
                  <a:srgbClr val="000000"/>
                </a:solidFill>
                <a:latin typeface="Arial"/>
              </a:rPr>
              <a:t> </a:t>
            </a:r>
            <a:r>
              <a:rPr b="0" lang="ar-SA" sz="3200" spc="-1" strike="noStrike">
                <a:solidFill>
                  <a:srgbClr val="000000"/>
                </a:solidFill>
                <a:latin typeface="Arial"/>
              </a:rPr>
              <a:t>لذلك تكون القيود على الوجه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85920" y="2044800"/>
            <a:ext cx="7796160" cy="491004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60"/>
            <a:ext cx="86868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4000" spc="-1" strike="noStrike">
                <a:solidFill>
                  <a:srgbClr val="000000"/>
                </a:solidFill>
                <a:latin typeface="Arial"/>
              </a:rPr>
              <a:t>مبدأ الحـيطة والحـذر:</a:t>
            </a:r>
            <a:r>
              <a:rPr b="1" lang="ar-SA" sz="4000" spc="-1" strike="noStrike">
                <a:solidFill>
                  <a:srgbClr val="000000"/>
                </a:solidFill>
                <a:latin typeface="Arial"/>
              </a:rPr>
              <a:t>	</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يعتبر مبدأ الحيطة والحذر من أهم المبادئ المحاسبية ويقضي هذا المبدأ بما</a:t>
            </a:r>
            <a:r>
              <a:rPr b="0" lang="ar-SY" sz="3200" spc="-1" strike="noStrike">
                <a:solidFill>
                  <a:srgbClr val="000000"/>
                </a:solidFill>
                <a:latin typeface="Arial"/>
              </a:rPr>
              <a:t> </a:t>
            </a:r>
            <a:r>
              <a:rPr b="0" lang="ar-SA" sz="3200" spc="-1" strike="noStrike">
                <a:solidFill>
                  <a:srgbClr val="000000"/>
                </a:solidFill>
                <a:latin typeface="Arial"/>
              </a:rPr>
              <a:t>يلي:</a:t>
            </a:r>
            <a:endParaRPr b="0" lang="en-US" sz="3200" spc="-1" strike="noStrike">
              <a:solidFill>
                <a:srgbClr val="000000"/>
              </a:solidFill>
              <a:latin typeface="Arial"/>
            </a:endParaRPr>
          </a:p>
        </p:txBody>
      </p:sp>
      <p:sp>
        <p:nvSpPr>
          <p:cNvPr id="43" name=""/>
          <p:cNvSpPr/>
          <p:nvPr/>
        </p:nvSpPr>
        <p:spPr>
          <a:xfrm>
            <a:off x="5148360" y="404640"/>
            <a:ext cx="3852720" cy="8636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92360" y="2781360"/>
            <a:ext cx="6840360" cy="194292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9640" y="2913120"/>
            <a:ext cx="93535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إذا كان هنالك ربح متوقع يترك لحي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حقيقه، أما إذا كانت هنالك خسارة متوقع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يجب تشكيل مخصص لها فوراً ].</a:t>
            </a:r>
            <a:endParaRPr b="0" lang="en-US" sz="3600" spc="-1" strike="noStrike">
              <a:solidFill>
                <a:srgbClr val="000000"/>
              </a:solidFill>
              <a:latin typeface="Arial"/>
            </a:endParaRPr>
          </a:p>
        </p:txBody>
      </p:sp>
      <p:sp>
        <p:nvSpPr>
          <p:cNvPr id="46" name=""/>
          <p:cNvSpPr/>
          <p:nvPr/>
        </p:nvSpPr>
        <p:spPr>
          <a:xfrm>
            <a:off x="200160" y="5004360"/>
            <a:ext cx="920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طبق هذا المبدأ على جميع الأصول المتداو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ضاعة – المدينون – أوراق القبض – الأوراق المالية).</a:t>
            </a:r>
            <a:endParaRPr b="0" lang="en-US" sz="32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تظهر حسابات مصروفات الديون المشكوك فيها، ومصروفات الأجيو ومصروفات هبوط أسعار البضائع ومصروفات هبوط أسعار أوراق مالية ضمن عناصر المصروفات الجارية في قائمة الدخل. أما حسابات المخصصات فتعتبر حسابات مقابلة لأصول معينة تظهر في قائمة المركز المالي مطروحة من أرصدة حسابات هذه الأصول.</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ـثال شـا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يلي بعض أرصدة المراجعة لمنشأة سالم في </a:t>
            </a:r>
            <a:r>
              <a:rPr b="0" lang="ar-SA" sz="3200" spc="-1" strike="noStrike">
                <a:solidFill>
                  <a:srgbClr val="000000"/>
                </a:solidFill>
                <a:latin typeface="Arial"/>
              </a:rPr>
              <a:t>31/12/2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ينو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5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وراق المالية</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7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راق القبض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5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ديون مشكوك فيها</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6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أجيو</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أوراق مالية</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5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بضائع</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3000</a:t>
            </a:r>
            <a:endParaRPr b="0" lang="en-US" sz="32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إذا علمت بأ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 ) قدرت بضاعة آخر المدة بمبلغ </a:t>
            </a:r>
            <a:r>
              <a:rPr b="0" lang="ar-SA" sz="3200" spc="-1" strike="noStrike">
                <a:solidFill>
                  <a:srgbClr val="000000"/>
                </a:solidFill>
                <a:latin typeface="Arial"/>
              </a:rPr>
              <a:t>60000</a:t>
            </a:r>
            <a:r>
              <a:rPr b="0" lang="ar-SA" sz="3200" spc="-1" strike="noStrike">
                <a:solidFill>
                  <a:srgbClr val="000000"/>
                </a:solidFill>
                <a:latin typeface="Arial"/>
              </a:rPr>
              <a:t> بحسب سعر التكلفة وبمبلغ </a:t>
            </a:r>
            <a:r>
              <a:rPr b="0" lang="ar-SA" sz="3200" spc="-1" strike="noStrike">
                <a:solidFill>
                  <a:srgbClr val="000000"/>
                </a:solidFill>
                <a:latin typeface="Arial"/>
              </a:rPr>
              <a:t>50000</a:t>
            </a:r>
            <a:r>
              <a:rPr b="0" lang="ar-SA" sz="3200" spc="-1" strike="noStrike">
                <a:solidFill>
                  <a:srgbClr val="000000"/>
                </a:solidFill>
                <a:latin typeface="Arial"/>
              </a:rPr>
              <a:t> بسعر السو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أعدم عند الجرد دين بمبلغ </a:t>
            </a:r>
            <a:r>
              <a:rPr b="0" lang="ar-SA" sz="3200" spc="-1" strike="noStrike">
                <a:solidFill>
                  <a:srgbClr val="000000"/>
                </a:solidFill>
                <a:latin typeface="Arial"/>
              </a:rPr>
              <a:t>500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 ) يراد تشكيل مخصص للديون المشكوك فيها بواقع </a:t>
            </a:r>
            <a:r>
              <a:rPr b="0" lang="ar-SA" sz="3200" spc="-1" strike="noStrike">
                <a:solidFill>
                  <a:srgbClr val="000000"/>
                </a:solidFill>
                <a:latin typeface="Arial"/>
              </a:rPr>
              <a:t>10</a:t>
            </a:r>
            <a:r>
              <a:rPr b="0" lang="ar-SA" sz="3200" spc="-1" strike="noStrike">
                <a:solidFill>
                  <a:srgbClr val="000000"/>
                </a:solidFill>
                <a:latin typeface="Arial"/>
              </a:rPr>
              <a:t>% من رصيد المدينو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 يراد تشكيل مخصص للأجيو بواقع </a:t>
            </a:r>
            <a:r>
              <a:rPr b="0" lang="ar-SA" sz="3200" spc="-1" strike="noStrike">
                <a:solidFill>
                  <a:srgbClr val="000000"/>
                </a:solidFill>
                <a:latin typeface="Arial"/>
              </a:rPr>
              <a:t>5</a:t>
            </a:r>
            <a:r>
              <a:rPr b="0" lang="ar-SA" sz="3200" spc="-1" strike="noStrike">
                <a:solidFill>
                  <a:srgbClr val="000000"/>
                </a:solidFill>
                <a:latin typeface="Arial"/>
              </a:rPr>
              <a:t>% من رصيد أوراق القبض علماً بأن وسطي الاستحقاق هو </a:t>
            </a:r>
            <a:r>
              <a:rPr b="0" lang="ar-SA" sz="3200" spc="-1" strike="noStrike">
                <a:solidFill>
                  <a:srgbClr val="000000"/>
                </a:solidFill>
                <a:latin typeface="Arial"/>
              </a:rPr>
              <a:t>6</a:t>
            </a:r>
            <a:r>
              <a:rPr b="0" lang="ar-SA" sz="3200" spc="-1" strike="noStrike">
                <a:solidFill>
                  <a:srgbClr val="000000"/>
                </a:solidFill>
                <a:latin typeface="Arial"/>
              </a:rPr>
              <a:t> أش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ـ) قدرت الأوراق المالية بنهاية العام بمبلغ </a:t>
            </a:r>
            <a:r>
              <a:rPr b="0" lang="ar-SA" sz="3200" spc="-1" strike="noStrike">
                <a:solidFill>
                  <a:srgbClr val="000000"/>
                </a:solidFill>
                <a:latin typeface="Arial"/>
              </a:rPr>
              <a:t>80000</a:t>
            </a:r>
            <a:r>
              <a:rPr b="0" lang="ar-SA" sz="3200" spc="-1" strike="noStrike">
                <a:solidFill>
                  <a:srgbClr val="000000"/>
                </a:solidFill>
                <a:latin typeface="Arial"/>
              </a:rPr>
              <a:t> بحسب سعر السوق (البورصة).</a:t>
            </a:r>
            <a:endParaRPr b="0" lang="en-US" sz="32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طلـوب:</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إجراء قيود التسوية اللازمة.</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بيان أثر الملاحظات السابقة على كل من الأرباح والخسائر والميزانية.</a:t>
            </a: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6300720" y="620640"/>
            <a:ext cx="2519280" cy="64764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  </a:t>
            </a:r>
            <a:r>
              <a:rPr b="1" lang="ar-SA" sz="3600" spc="-1" strike="noStrike">
                <a:solidFill>
                  <a:srgbClr val="000000"/>
                </a:solidFill>
                <a:latin typeface="Arial"/>
              </a:rPr>
              <a:t>الحـ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معالجة بضاعة آخر المد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ما أن سعر التكلفة أكبر من سعر السوق لذلك يوجد خسارة متوقعة بشكل لها مخصص فوراً وفق مبدأ الحيطة والحذر.</a:t>
            </a:r>
            <a:endParaRPr b="0" lang="en-US" sz="3600" spc="-1" strike="noStrike">
              <a:solidFill>
                <a:srgbClr val="000000"/>
              </a:solidFill>
              <a:latin typeface="Arial"/>
            </a:endParaRPr>
          </a:p>
        </p:txBody>
      </p:sp>
      <p:sp>
        <p:nvSpPr>
          <p:cNvPr id="80" name=""/>
          <p:cNvSpPr/>
          <p:nvPr/>
        </p:nvSpPr>
        <p:spPr>
          <a:xfrm>
            <a:off x="7451640" y="260280"/>
            <a:ext cx="1575000" cy="7207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579680" y="2987640"/>
            <a:ext cx="6161040" cy="34657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442880" y="1844640"/>
            <a:ext cx="6161400" cy="392292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ـي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a:t>
            </a:r>
            <a:r>
              <a:rPr b="0" lang="ar-SA" sz="4000" spc="-1" strike="noStrike">
                <a:solidFill>
                  <a:srgbClr val="000000"/>
                </a:solidFill>
                <a:latin typeface="Arial"/>
              </a:rPr>
              <a:t> مصروف هبوط أسعار بضائع مع المصاريف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هبوط أسعار البضائع مطروحاً من حساب البضاعة في الميزانية.</a:t>
            </a:r>
            <a:endParaRPr b="0" lang="en-US" sz="40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 </a:t>
            </a:r>
            <a:r>
              <a:rPr b="1" lang="ar-SA" sz="3200" spc="-1" strike="noStrike" u="sng">
                <a:solidFill>
                  <a:srgbClr val="000000"/>
                </a:solidFill>
                <a:uFillTx/>
                <a:latin typeface="Arial"/>
              </a:rPr>
              <a:t>إثبات الديون المعدوم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تبر الديون المعدومة خسارة واقعة تؤدي إلى تخفيض رصيد المدينون ويتم إثباتها كماي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011320" y="3152880"/>
            <a:ext cx="6521400" cy="2286000"/>
          </a:xfrm>
          <a:prstGeom prst="rect">
            <a:avLst/>
          </a:prstGeom>
          <a:ln w="0">
            <a:noFill/>
          </a:ln>
        </p:spPr>
      </p:pic>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5000</a:t>
            </a:r>
            <a:r>
              <a:rPr b="0" lang="ar-SA" sz="4000" spc="-1" strike="noStrike">
                <a:solidFill>
                  <a:srgbClr val="000000"/>
                </a:solidFill>
                <a:latin typeface="Arial"/>
              </a:rPr>
              <a:t> ديون معدومة مع المصاريف والخسائر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حساب المدينون بالميزانية بالرصيد النهائي بعد طرح الديون المعدومة </a:t>
            </a:r>
            <a:r>
              <a:rPr b="0" lang="ar-SA" sz="4000" spc="-1" strike="noStrike">
                <a:solidFill>
                  <a:srgbClr val="000000"/>
                </a:solidFill>
                <a:latin typeface="Arial"/>
              </a:rPr>
              <a:t>105000</a:t>
            </a:r>
            <a:r>
              <a:rPr b="0" lang="ar-SA" sz="4000" spc="-1" strike="noStrike">
                <a:solidFill>
                  <a:srgbClr val="000000"/>
                </a:solidFill>
                <a:latin typeface="Arial"/>
              </a:rPr>
              <a:t> – </a:t>
            </a:r>
            <a:r>
              <a:rPr b="0" lang="ar-SA" sz="4000" spc="-1" strike="noStrike">
                <a:solidFill>
                  <a:srgbClr val="000000"/>
                </a:solidFill>
                <a:latin typeface="Arial"/>
              </a:rPr>
              <a:t>5000</a:t>
            </a:r>
            <a:r>
              <a:rPr b="0" lang="ar-SA" sz="4000" spc="-1" strike="noStrike">
                <a:solidFill>
                  <a:srgbClr val="000000"/>
                </a:solidFill>
                <a:latin typeface="Arial"/>
              </a:rPr>
              <a:t> = </a:t>
            </a:r>
            <a:r>
              <a:rPr b="0" lang="ar-SA" sz="4000" spc="-1" strike="noStrike">
                <a:solidFill>
                  <a:srgbClr val="000000"/>
                </a:solidFill>
                <a:latin typeface="Arial"/>
              </a:rPr>
              <a:t>100000</a:t>
            </a:r>
            <a:endParaRPr b="0" lang="en-US" sz="4000" spc="-1" strike="noStrike">
              <a:solidFill>
                <a:srgbClr val="000000"/>
              </a:solidFill>
              <a:latin typeface="Arial"/>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ـ ) </a:t>
            </a:r>
            <a:r>
              <a:rPr b="1" lang="ar-SA" sz="3600" spc="-1" strike="noStrike" u="sng">
                <a:solidFill>
                  <a:srgbClr val="000000"/>
                </a:solidFill>
                <a:uFillTx/>
                <a:latin typeface="Arial"/>
              </a:rPr>
              <a:t>تشكيل مخصص ل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 descr=""/>
          <p:cNvPicPr/>
          <p:nvPr/>
        </p:nvPicPr>
        <p:blipFill>
          <a:blip r:embed="rId1"/>
          <a:stretch/>
        </p:blipFill>
        <p:spPr>
          <a:xfrm>
            <a:off x="1442880" y="1341360"/>
            <a:ext cx="6161400" cy="43801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عريف المخصص وأهمية تكوينه:</a:t>
            </a:r>
            <a:endParaRPr b="0" lang="en-US" sz="3600" spc="-1" strike="noStrike">
              <a:solidFill>
                <a:srgbClr val="000000"/>
              </a:solidFill>
              <a:latin typeface="Arial"/>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المخصص حجز جزء من إيرادات الفترة المالية لمقابلة النقص المتوقع حدوثه في أصل من الأصول أو الزيادة المحتملة في قيمة التزام من الالتزامات، ومن أمثلة المخصصات مخصص الديون المشكوك في تحصيلها الذي يكون لمواجهة ما قد تتحمله المنشأة من أعباء عند إعدام دين خلال الفترة المحاسبية التالية، ومخصص الأجيو الذي يكون لمواجهة ما قد تتحمله المنشأة من مصروفات عند خصم أوراق القبض خلال الفترة المحاسبية التالية، ومخصص هبوط أسعار أوراق مالية الذي يكون لمواجهة ما قد تتحمله المنشأة من أعباء عند هبوط القيمة السوقية للأوراق المالية عن تكلفتها.</a:t>
            </a:r>
            <a:endParaRPr b="0" lang="en-US" sz="36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1"/>
          <a:stretch/>
        </p:blipFill>
        <p:spPr>
          <a:xfrm>
            <a:off x="914400" y="1989000"/>
            <a:ext cx="6689880" cy="3175200"/>
          </a:xfrm>
          <a:prstGeom prst="rect">
            <a:avLst/>
          </a:prstGeom>
          <a:ln w="0">
            <a:noFill/>
          </a:ln>
        </p:spPr>
      </p:pic>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4000</a:t>
            </a:r>
            <a:r>
              <a:rPr b="0" lang="ar-SA" sz="4000" spc="-1" strike="noStrike">
                <a:solidFill>
                  <a:srgbClr val="000000"/>
                </a:solidFill>
                <a:latin typeface="Arial"/>
              </a:rPr>
              <a:t> مصروف ديون مشكوك فيها مع المصاريف بالطرف المدين لحساب الأرباح والخسائر.</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ديون مشكوك فيها مطروحاً من حـ/ المدينون في الميزانية.</a:t>
            </a:r>
            <a:endParaRPr b="0" lang="en-US" sz="4000" spc="-1" strike="noStrike">
              <a:solidFill>
                <a:srgbClr val="000000"/>
              </a:solidFill>
              <a:latin typeface="Arial"/>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د  ) </a:t>
            </a:r>
            <a:r>
              <a:rPr b="1" lang="ar-SA" sz="3200" spc="-1" strike="noStrike" u="sng">
                <a:solidFill>
                  <a:srgbClr val="000000"/>
                </a:solidFill>
                <a:uFillTx/>
                <a:latin typeface="Arial"/>
              </a:rPr>
              <a:t>تشكيل مخصص للأجيو (خصم الأوراق التجا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مخصص الأجيو = أوراق القبض × معدل الخصم × الزمن (متوسطة فترة الاستحقا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Y" sz="3200" spc="-1" strike="noStrike">
                <a:solidFill>
                  <a:srgbClr val="000000"/>
                </a:solidFill>
                <a:latin typeface="Arial"/>
              </a:rPr>
              <a:t>  </a:t>
            </a:r>
            <a:r>
              <a:rPr b="0" lang="ar-SY" sz="3200" spc="-1" strike="noStrike" u="sng">
                <a:solidFill>
                  <a:srgbClr val="000000"/>
                </a:solidFill>
                <a:uFillTx/>
                <a:latin typeface="Arial"/>
              </a:rPr>
              <a:t>6</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Y" sz="3200" spc="-1" strike="noStrike">
                <a:solidFill>
                  <a:srgbClr val="000000"/>
                </a:solidFill>
                <a:latin typeface="Arial"/>
              </a:rPr>
              <a:t>12</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125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كن يوجد لدينا مخصص سابق مقداره</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u="sng">
                <a:solidFill>
                  <a:srgbClr val="000000"/>
                </a:solidFill>
                <a:uFillTx/>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ذلك يشكل مخصص بالفرق</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250</a:t>
            </a:r>
            <a:endParaRPr b="0" lang="en-US" sz="3200" spc="-1" strike="noStrike">
              <a:solidFill>
                <a:srgbClr val="000000"/>
              </a:solidFill>
              <a:latin typeface="Arial"/>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1"/>
          <a:stretch/>
        </p:blipFill>
        <p:spPr>
          <a:xfrm>
            <a:off x="914400" y="1989000"/>
            <a:ext cx="7531200" cy="389916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تأثيـر :</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250</a:t>
            </a:r>
            <a:r>
              <a:rPr b="0" lang="ar-SA" sz="4400" spc="-1" strike="noStrike">
                <a:solidFill>
                  <a:srgbClr val="000000"/>
                </a:solidFill>
                <a:latin typeface="Arial"/>
              </a:rPr>
              <a:t> مصروف أجيو مع المصاريف بالطرف المدين لحساب الأرباح والخسائر.</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1250</a:t>
            </a:r>
            <a:r>
              <a:rPr b="0" lang="ar-SA" sz="4400" spc="-1" strike="noStrike">
                <a:solidFill>
                  <a:srgbClr val="000000"/>
                </a:solidFill>
                <a:latin typeface="Arial"/>
              </a:rPr>
              <a:t> مخصص أجيو مطروحاً من أوراق القبض في الميزانية.</a:t>
            </a:r>
            <a:endParaRPr b="0" lang="en-US" sz="4400" spc="-1" strike="noStrike">
              <a:solidFill>
                <a:srgbClr val="000000"/>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ـ) </a:t>
            </a:r>
            <a:r>
              <a:rPr b="1" lang="ar-SA" sz="3600" spc="-1" strike="noStrike" u="sng">
                <a:solidFill>
                  <a:srgbClr val="000000"/>
                </a:solidFill>
                <a:uFillTx/>
                <a:latin typeface="Arial"/>
              </a:rPr>
              <a:t>معالجة الأوراق المالية ومخصصات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 descr=""/>
          <p:cNvPicPr/>
          <p:nvPr/>
        </p:nvPicPr>
        <p:blipFill>
          <a:blip r:embed="rId1"/>
          <a:stretch/>
        </p:blipFill>
        <p:spPr>
          <a:xfrm>
            <a:off x="1442880" y="1844640"/>
            <a:ext cx="6161400" cy="276876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قيد التسـوية:</a:t>
            </a:r>
            <a:endParaRPr b="0" lang="en-US" sz="4000" spc="-1" strike="noStrike">
              <a:solidFill>
                <a:srgbClr val="000000"/>
              </a:solidFill>
              <a:latin typeface="Arial"/>
            </a:endParaRPr>
          </a:p>
        </p:txBody>
      </p:sp>
      <p:pic>
        <p:nvPicPr>
          <p:cNvPr id="100" name="" descr=""/>
          <p:cNvPicPr/>
          <p:nvPr/>
        </p:nvPicPr>
        <p:blipFill>
          <a:blip r:embed="rId1"/>
          <a:stretch/>
        </p:blipFill>
        <p:spPr>
          <a:xfrm>
            <a:off x="826920" y="2141640"/>
            <a:ext cx="7490160" cy="25272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5000</a:t>
            </a:r>
            <a:r>
              <a:rPr b="0" lang="ar-SA" sz="4000" spc="-1" strike="noStrike">
                <a:solidFill>
                  <a:srgbClr val="000000"/>
                </a:solidFill>
                <a:latin typeface="Arial"/>
              </a:rPr>
              <a:t> مخصص هبوط أسعار أوراق مالية مع الإيرادات والأرباح في الطرف الدائن ل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0</a:t>
            </a:r>
            <a:r>
              <a:rPr b="0" lang="ar-SA" sz="4000" spc="-1" strike="noStrike">
                <a:solidFill>
                  <a:srgbClr val="000000"/>
                </a:solidFill>
                <a:latin typeface="Arial"/>
              </a:rPr>
              <a:t> الأوراق المالية بسعر التكلفة مع الأصول بالميزانية.</a:t>
            </a:r>
            <a:endParaRPr b="0" lang="en-US" sz="40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واع المخصصا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1</a:t>
            </a:r>
            <a:r>
              <a:rPr b="1" lang="ar-SA" sz="3600" spc="-1" strike="noStrike" u="sng">
                <a:solidFill>
                  <a:srgbClr val="000000"/>
                </a:solidFill>
                <a:uFillTx/>
                <a:latin typeface="Arial"/>
              </a:rPr>
              <a:t>-  مخصص هبوط أسعار البضائع:</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حالة سـعر السـوق يساوي سـعر التكلف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لا يكون هنالك ربح متوقع أو خسارة متوقعة لذلك تظهر البضاعة في الميزانية بسعر التكلفة.</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453360"/>
          </a:xfrm>
          <a:prstGeom prst="rect">
            <a:avLst/>
          </a:prstGeom>
          <a:noFill/>
          <a:ln w="0">
            <a:noFill/>
          </a:ln>
        </p:spPr>
        <p:txBody>
          <a:bodyPr lIns="90000" rIns="90000" tIns="46800" bIns="46800"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 – </a:t>
            </a:r>
            <a:r>
              <a:rPr b="1" lang="ar-SA" sz="3600" spc="-1" strike="noStrike" u="sng">
                <a:solidFill>
                  <a:srgbClr val="000000"/>
                </a:solidFill>
                <a:uFillTx/>
                <a:latin typeface="Arial"/>
              </a:rPr>
              <a:t>حالة سعر السوق أكبر من 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ربح متوقع يترك لحين تحقيقه وتظهر البضاعة في الميزانية أيضاً ب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 – </a:t>
            </a:r>
            <a:r>
              <a:rPr b="1" lang="ar-SA" sz="3600" spc="-1" strike="noStrike" u="sng">
                <a:solidFill>
                  <a:srgbClr val="000000"/>
                </a:solidFill>
                <a:uFillTx/>
                <a:latin typeface="Arial"/>
              </a:rPr>
              <a:t>حالة سعر التكلفة أكبر من سعر السوق:</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خسارة متوقعة بمقدار الفرق فإذا كانت تكلفة البضاعة </a:t>
            </a:r>
            <a:r>
              <a:rPr b="0" lang="ar-SA" sz="3600" spc="-1" strike="noStrike">
                <a:solidFill>
                  <a:srgbClr val="000000"/>
                </a:solidFill>
                <a:latin typeface="Arial"/>
              </a:rPr>
              <a:t>100000</a:t>
            </a:r>
            <a:r>
              <a:rPr b="0" lang="ar-SA" sz="3600" spc="-1" strike="noStrike">
                <a:solidFill>
                  <a:srgbClr val="000000"/>
                </a:solidFill>
                <a:latin typeface="Arial"/>
              </a:rPr>
              <a:t> وسعرها السوقي </a:t>
            </a:r>
            <a:r>
              <a:rPr b="0" lang="ar-SA" sz="3600" spc="-1" strike="noStrike">
                <a:solidFill>
                  <a:srgbClr val="000000"/>
                </a:solidFill>
                <a:latin typeface="Arial"/>
              </a:rPr>
              <a:t>80000</a:t>
            </a:r>
            <a:r>
              <a:rPr b="0" lang="ar-SA" sz="3600" spc="-1" strike="noStrike">
                <a:solidFill>
                  <a:srgbClr val="000000"/>
                </a:solidFill>
                <a:latin typeface="Arial"/>
              </a:rPr>
              <a:t> تكون الخسارة المتوقعة </a:t>
            </a:r>
            <a:r>
              <a:rPr b="0" lang="ar-SA" sz="3600" spc="-1" strike="noStrike">
                <a:solidFill>
                  <a:srgbClr val="000000"/>
                </a:solidFill>
                <a:latin typeface="Arial"/>
              </a:rPr>
              <a:t>20000</a:t>
            </a:r>
            <a:r>
              <a:rPr b="0" lang="ar-SA" sz="3600" spc="-1" strike="noStrike">
                <a:solidFill>
                  <a:srgbClr val="000000"/>
                </a:solidFill>
                <a:latin typeface="Arial"/>
              </a:rPr>
              <a:t> ويشكل لها مخصص فوراً يسمى مخصص هبوط أسعار بضائ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هذا المخصص مطروحاً من تكلفة الأصل في الميزانية على النحو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3200" spc="-1" strike="noStrike">
                <a:solidFill>
                  <a:srgbClr val="000000"/>
                </a:solidFill>
                <a:latin typeface="Arial"/>
              </a:rPr>
              <a:t>المـيزانية</a:t>
            </a:r>
            <a:endParaRPr b="0" lang="en-US" sz="3200" spc="-1" strike="noStrike">
              <a:solidFill>
                <a:srgbClr val="000000"/>
              </a:solidFill>
              <a:latin typeface="Arial"/>
            </a:endParaRPr>
          </a:p>
        </p:txBody>
      </p:sp>
      <p:graphicFrame>
        <p:nvGraphicFramePr>
          <p:cNvPr id="51" name=""/>
          <p:cNvGraphicFramePr/>
          <p:nvPr/>
        </p:nvGraphicFramePr>
        <p:xfrm>
          <a:off x="179280" y="2332080"/>
          <a:ext cx="7921800" cy="3530520"/>
        </p:xfrm>
        <a:graphic>
          <a:graphicData uri="http://schemas.openxmlformats.org/drawingml/2006/table">
            <a:tbl>
              <a:tblPr/>
              <a:tblGrid>
                <a:gridCol w="216000"/>
                <a:gridCol w="2583720"/>
                <a:gridCol w="404280"/>
                <a:gridCol w="1364760"/>
                <a:gridCol w="2312640"/>
                <a:gridCol w="10404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زون البضاعة</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100000</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صص هبوط أسعار بضائع</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imes New Roman"/>
                          <a:ea typeface="Simplified Arabic"/>
                        </a:rPr>
                        <a:t>8000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637236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مبلغ مقابل للمخصص مع المصاريف في حساب الأرباح والخسائر أو قائمة الدخل مع المصاريف ويسمى مصروف هبوط أسعار بضائع.</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لكن هنا يجب الانتباه إلى أنه في حال وجود مخصص سابق يتم مقارنته مع المخصص  المطلوب وزيادته أو تخفيضه بحسب الحالة.</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2</a:t>
            </a:r>
            <a:r>
              <a:rPr b="1" lang="ar-SA" sz="3600" spc="-1" strike="noStrike" u="sng">
                <a:solidFill>
                  <a:srgbClr val="000000"/>
                </a:solidFill>
                <a:uFillTx/>
                <a:latin typeface="Arial"/>
              </a:rPr>
              <a:t>-  مخصص ا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ثيراً ما يحدث في العمليات التجارية عدم تمكن المنشأة من تحصيل الديون المترتبة لها على الغير وتسمى في هذه الحالة ديون معدومة، ونتوقع دوماً في نهاية كل دورة مالية بأنه سيحصل ديون معدومة في الدورة التالية وتعتبر هذه الديون خسارة متوقعة لذلك سيشكل لها مخصص يسمى مخصص ديون مشكوك فيها.</a:t>
            </a:r>
            <a:endParaRPr b="0" lang="en-US" sz="36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قدير الديون المشكوك في تحصيلها على أساس نسبة معينة من رصيد المدينين الظاهر بميزان المراجعة في نهاية الفترة المالية بعد طرح الديون المعدومة عند الجرد ثم مقارنة مقدار الديون المشكوك في تحصيلها برصيد المخصص المرحل من الفترة السابقة ويتم زيادة أو تخفيض رصيد المخصص بالفرق.</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المخصص مطروحاً من رصيد المدينون في الميزانية على النحو التالي:</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5:21:43Z</dcterms:created>
  <dc:creator>Merri Merri</dc:creator>
  <dc:description/>
  <dc:language>en-US</dc:language>
  <cp:lastModifiedBy>aa</cp:lastModifiedBy>
  <dcterms:modified xsi:type="dcterms:W3CDTF">2005-10-11T17:11:00Z</dcterms:modified>
  <cp:revision>6</cp:revision>
  <dc:subject/>
  <dc:title>الشريحة 1</dc:title>
</cp:coreProperties>
</file>