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112A-1B46-42AD-B0F2-47F097A56D4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E471-1508-4C78-A6C5-328D13EF64E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CB0C-CB81-40E3-91E4-64687B7F2AF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A27E-A26B-4258-8DB0-A3D973A79AB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3557-8D7A-4C42-B08F-CED9A173943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80E4-53B8-429E-B4CE-306C4CC4642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8108-6CAE-41F4-AC7D-8D0B33925B1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AC93-2E20-4A99-86A2-10B1B4362C6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0E3B-D210-49DA-891D-D96762EE11E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BA33-08C8-47A2-86E1-04A582CE36B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A93F-82DA-4E95-A46C-023F4CD0EF2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C328-9D88-4D02-B0DA-F25C8EAF2D5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CD74-DFE7-46E2-9E89-0626F6F6BD0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7EF5-C7B1-44B9-A014-1B55DCDCA78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DCDA-CF6E-4081-91BA-7EC0BE653C7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0FCA-6B24-4898-8E96-5478A558E34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F1EA-00C5-4349-A776-5E807F9072D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4635D-94AE-4F6D-9BF9-61531E6DFA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47179-BE00-499F-8F55-1626326D63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C1C2E-FA07-4F93-8634-313DFA7646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50B00-C080-477A-9B11-E4591ACE23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CF6BF-6C72-4A06-8118-D620CDCF22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828AA-30FA-4981-A872-2A318ECD07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24F61-376D-4991-B731-DDB78EDF5E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C701D-86F2-40A3-8273-6F6E01CBC0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E13A5-0D60-45FB-AD8C-E176ED6A58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A7E79-753D-4FF5-9225-BD5C673CD3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51588-BCEF-4B71-BA2E-8324448D6B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C2F4A-BC18-4D3E-AFAF-30CC4E4E2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520" y="61722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2-</a:t>
            </a:r>
            <a:fld id="{00064F69-6FDB-4E0E-A125-06C65D53D15D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5909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©2003 Prentice Hall Business Publishing,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Accounting Information Systems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, 9/e, Romney/Steinbart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7086240" y="609588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E3C7E1AD-1EFB-49F2-B089-54E311D29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3720" y="6095880"/>
            <a:ext cx="358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©2003 Prentice Hall Business Publishing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Accounting Information Systems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, 9/e, Romney/Steinb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م الله الرحمن الرحيم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فصل الثاني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 of Business Processes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لسلسلة العمليات التجار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tch processing is the periodic updating of the data stored about resources and ag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معالجة الرزم هي تحديث للبيانات المخزنة عن المصادر والعملاء بشكل دور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-line, real-time processing is the immediate updating as each transaction occu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المعالجة المباشرة 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في الوقت الحقيقي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هي تحديث للبيانات في وقت وقوع كل حدث تجار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ocessing Cycle: Data Processing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ة معالجة البيانات: معالجة البيان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2C7A1-A573-458F-806E-F6ABADE16C4C}" type="slidenum">
              <a:t>10</a:t>
            </a:fld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ntity is something about which information is sto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الكيانات أو الأشياء 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بضاعة، موظف، زبون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هي الأشياء التي يتم تخزين معلومات عنها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entity has attributes or characteristics of interest, which need to be sto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لكل كيان صفات أو خصائص ذات أهمية، والتي بحاجة لتخزي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ocessing Cycle: Data Storag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ة معالجة البيانات: تخزين البيان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850BC-830C-4A28-AA78-DC5047FB8CBE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0106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Transaction Data in Journals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جيل بيانات الأحداث التجارية في اليومي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transaction data have been captured on source documents, the next step is to record the data in a jour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عد أخذ بيانات الحدث التجاري على وثائق أصلية، تكون الخطوة التالية بتسجيلها في اليومي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ournal entry is made for each transaction showing the accounts and amounts to be debited and credi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د يومية يعمل لكل حدث تجاري، ويظهر الحسابات وقيمها المدينة والدائنة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ral journal records infrequent or nonroutine transac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جلات دفتر اليومية نادرة أو ليست روتينية الأحداث التجاري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ized journals simplify the process of recording large numbers of repetitive transac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يوميات المتخصصة تسهل إجراءات تسجيل الأرقام الكبيرة للأحداث التجارية السابقة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ur most common types of transactions: Credit sales, Cash receipts, Purchases on account, Cash disburse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99302-936C-4AD9-97CA-9262F0248E57}" type="slidenum">
              <a:t>12</a:t>
            </a:fld>
          </a:p>
        </p:txBody>
      </p:sp>
    </p:spTree>
  </p:cSld>
  <p:transition advTm="4000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0106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 Transactions to Ledgers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حيل الأحداث التجارية إلى الأستا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917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dgers are used to summarize the financial status, including the current balance, of individual acc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ستاذ يستخدم لتلخيص الوضع المالي لكل حساب على حده، إضافة لرصيد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ral ledger contains summary-level data for every asset, liability, equity, revenue, and expense account of an orga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حتوي دفتر الأستاذ العام على بيانات ملخصة لحسابات الأصول، والخصوم، وحقوق الملكية، والإيرادات، والمصاريف في للمنشأ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bsidiary ledger records all the detailed data for any general ledger account that has many individual sub acc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تر الأستاذ المساعد يسجل كل البيانات المفصلة لأي حساب أستاذ عام له العديد من الحسابات الفرعية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6DB1D-A13D-4613-AA6D-2B7BEE9515E6}" type="slidenum">
              <a:t>13</a:t>
            </a:fld>
          </a:p>
        </p:txBody>
      </p:sp>
    </p:spTree>
  </p:cSld>
  <p:transition>
    <p:blinds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0106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 Transactions to Ledgers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حيل الأحداث التجارية إلى الأستا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commonly used subsidiary ledgers: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اتر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ستاذ المساعد المستخدم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s receivable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تر الأستاذ المساعد للذمم المدين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ntory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تر الأستاذ للمخزو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s payable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تر الأستاذ المساعد للذمم المدين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ral ledger account corresponding to a subsidiary ledger called control accou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مى حساب الأستاذ العام الممثل للأستاذ الفرعي بحساب السيطرة أو التحك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trol account contains the total amount for all individual accounts in the subsidiary led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حوي حساب التحكم القيمة الكاملة لكل الحسابات المنفردة في الأستاذ المساع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F94EF-9DA4-4A82-BA42-54ADA145BA85}" type="slidenum">
              <a:t>14</a:t>
            </a:fld>
          </a:p>
        </p:txBody>
      </p:sp>
    </p:spTree>
  </p:cSld>
  <p:transition>
    <p:blinds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Chart of Accounts</a:t>
            </a:r>
            <a:br>
              <a:rPr sz="3400"/>
            </a:b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خريطة الحسابات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hart of accounts is a list of all general ledger accounts used by an organiz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خريطة الحسابات هي قائمة بكل حسابات الأستاذ العام والتي تستخدمها المنشأ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important that the chart of accounts contains sufficient detail to meet the information needs of the organiza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من المهم تحتوي خريطة الحسابات على تفاصيل كافية لتقابل المعلومات التي تحتاجها المنشأ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B3378-95EA-4AC2-9B81-3485AEB9863D}" type="slidenum">
              <a:t>15</a:t>
            </a:fld>
          </a:p>
        </p:txBody>
      </p:sp>
    </p:spTree>
  </p:cSld>
  <p:transition>
    <p:blinds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ing Information for Decision Making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زويد المعلومات لاتخاذ القرار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cond 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AIS is to provide management with information useful for decision ma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ن الوظيفة الثانية لنظام المعلومات المحاسبية هي تزويد الإدارة بمعلومات نافعة في اتخاذ القرا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formation an AIS provides falls into two main catego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ومات التي يزودها نظام المعلومات المحاسبية تقع ضمن فئتان رئيسيتان ه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Statements - (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شوف </a:t>
            </a:r>
            <a:r>
              <a:rPr b="0" lang="ar-JO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لي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ial Reports - (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ارير </a:t>
            </a:r>
            <a:r>
              <a:rPr b="0" lang="ar-JO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دارية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BF71E-E6D0-4F3E-92E7-A60DFEF15844}" type="slidenum">
              <a:t>16</a:t>
            </a:fld>
          </a:p>
        </p:txBody>
      </p:sp>
    </p:spTree>
  </p:cSld>
  <p:transition>
    <p:blinds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560" y="4572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nancial Statements </a:t>
            </a: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الكشوف/التقارير المالي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e a trial balance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إعداد ميزان المراجعة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adjusting entries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عمل قيود التسوية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e the adjusted trial balance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إعداد ميزان المراجعة بعد التسويات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 the income statement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عمل قائمة الدخل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closing entries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عمل قيود الإغلاق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 the balance sheet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عمل قائمة المركز المالي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الميزانية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e the statement of cash flows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إعداد قائمة التدفقات النقدية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95055-FB37-44C9-8EFF-71D5FDFFE772}" type="slidenum">
              <a:t>17</a:t>
            </a:fld>
          </a:p>
        </p:txBody>
      </p:sp>
    </p:spTree>
  </p:cSld>
  <p:transition>
    <p:blinds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ial Reports         </a:t>
            </a:r>
            <a:r>
              <a:rPr b="0" lang="ar-SA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ارير الإداري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IS must also be able to provide managers with detailed operational information about the organization’s perform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أن يكون نظام المعلومات المحاسبية قادراً على تزويد الإداريين بمعلومات عملية ومفصلة عن أداء المنشأ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important types of managerial reports are:      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م تقريران إداريا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get: which is the formal expression of goals in financial terms (e.g. Cash Budge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ازنة التقديرية: وهي تعبير منهجي عن الأهداف من خلال بنود مالية (مثل موازنة نقدي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reports: lists the budgeted and actual amounts of revenues and expenses and also shows the variances, or differences, between these two amou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رير الأداء: يقارن بين الموازنة التقديرية والقيم الحقيقية للإيرادات والمصاريف والفروقات بينهما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D20C3-10E4-49E6-AF4B-4A6EFD920220}" type="slidenum">
              <a:t>18</a:t>
            </a:fld>
          </a:p>
        </p:txBody>
      </p:sp>
    </p:spTree>
  </p:cSld>
  <p:transition>
    <p:blinds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ic Co. Monthly Performance Report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رير الأداء الشهري لشركة ماجي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udg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c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ar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ازنة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فعلي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فر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بيعات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4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5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of Goods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كلفة البضائع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2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4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000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ss Margin (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جمالي الدخل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4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5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Expenses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صاريف أخرى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9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7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ng Income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خل من التشغيل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4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5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523880" y="380880"/>
            <a:ext cx="7010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agerial Reports        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التقارير الإداري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57E4A-6ADC-48C6-B4B6-02F7DDC9A01C}" type="slidenum">
              <a:t>19</a:t>
            </a:fld>
          </a:p>
        </p:txBody>
      </p:sp>
    </p:spTree>
  </p:cSld>
  <p:transition>
    <p:blinds dir="ver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520" y="3808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ree Basic Functions Performed by an A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ثلاثة وظائف الأساسية التي يؤديه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llect and store data about the organization’s business activities and transactions efficiently and effective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جميع وتخزين البيانات المتعلقة بالأشطة والأحداث التجارية للمنشأة التجارية بكفائة وفاعلية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ture transaction data on source docu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خذ بيانات الحدث التجاري على وثائق أصلي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transaction data in journals, which present a chronological record of what occurr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جيل بيانات الحدث التجاري في دفتر اليومية، بشكل يظهر ترتيب حدوثها الزمني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 data from journals to ledgers, which sort data by account typ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حيل البيانات من اليومية إلى الأستاذ، والذي يخزن البيانات حسب نوع الحساب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A62BC-25B1-4237-9C84-E18AE33AA1DA}" type="slidenum">
              <a:t>2</a:t>
            </a:fld>
          </a:p>
        </p:txBody>
      </p:sp>
    </p:spTree>
  </p:cSld>
  <p:transition advTm="5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Control Considerations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بارات الرقابة الداخلي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ird function of an AIS is to provide adequate internal controls to accomplish three basic objectiv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ن الوظيفة الثالثة لنظام المعلومات المحاسبية هي التزويد بمراقة داخلية ملائمة لتحقيق ثلاثة أهداف رئيس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the information is reliable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أن المعلومات يعتمد عليها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ثوقٌ به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business activities are performed efficient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أن الأنشطة التجارية أُنجزت بشكل فعّا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guard organizational assets.   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ماية أصول المنشأ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wo important methods for accomplishing these objectiv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طرقتان المهمتان لتحقيق تلك الأهداف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for adequate documentation of all business activ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زود بالتوثيق الملائم لكل الأنشطة التجاري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the AIS for effective segregation of du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صميم نظام معلومات محاسبي فعّال في فصل الواجبات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1F0B7-31D3-4750-AB51-D001C2CF586C}" type="slidenum">
              <a:t>20</a:t>
            </a:fld>
          </a:p>
        </p:txBody>
      </p:sp>
    </p:spTree>
  </p:cSld>
  <p:transition>
    <p:blinds dir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quate Documentation     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وثيق الملائ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47560" y="91440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ation allows management to verify that assigned responsibilities were completed correct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وثيق يتيح للإدارة للتحقق من أن المسؤوليات المخصصة (المحددة) أنجزت بشكل صحيح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243828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regation of Duties           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صل الواجبات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28954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3048120"/>
            <a:ext cx="74678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regation of duties refers to dividing responsibility for different portions of a transaction among several people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صل الواجبات تعزى إلى تقسيم المسؤوليات لمختلف أجزاء الحدث التجاري بين عدّة أشخاص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that should be performed by different people: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ظائف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هام الواجب إنجازها من قبل الأشخاص المختلفين: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rizing transactions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فويض بالأحداث التجارية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ing transactions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جيل الأحداث التجارية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ing custody of assets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احتفاظ برعاية الأصول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AB5AC-A0C4-4270-9886-1E5AA16BC3F0}" type="slidenum">
              <a:t>21</a:t>
            </a:fld>
          </a:p>
        </p:txBody>
      </p:sp>
    </p:spTree>
  </p:cSld>
  <p:transition>
    <p:blinds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vide management with information useful for decision mak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زويد الإدارة بمعلومات نافعة في اتخاذ القرار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anual systems, this information is provided in the form of reports that fall into two main catego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النظام اليدوي يتم تزويد هذه المعلومات على شكل تقارير تقع ضمن فئتان رئيستان هما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statements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شوف المالية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ial reports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ارير الإدارية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523880" y="419040"/>
            <a:ext cx="74678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ree Basic Functions Performed by an A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ثلاثة وظائف الأساسية التي يؤديه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97FEF-5887-461C-9B0A-6FAB949FECB3}" type="slidenum">
              <a:t>3</a:t>
            </a:fld>
          </a:p>
        </p:txBody>
      </p:sp>
    </p:spTree>
  </p:cSld>
  <p:transition advTm="4000">
    <p:blinds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52280" y="1752480"/>
            <a:ext cx="8686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vide adequate internal contro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زويد بمراقبة داخلية ملائمة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the information produced by the system is reli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أن المعلومات الناتجة عن النظام يعتمد عليها (موثوقٌ بها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business activities are performed efficiently and in accordance with management’s objecti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أن الأنشطة التجارية أنجزت بشكل فعّال ومنسجم مع أهداف الإدار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guard organizational ass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ماية أصول المنشأ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ree Basic Functions Performed by an A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ثلاثة وظائف الأساسية التي يؤديه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D00F6-F6B8-40CC-A12E-96AC0CB9C4FC}" type="slidenum">
              <a:t>4</a:t>
            </a:fld>
          </a:p>
        </p:txBody>
      </p:sp>
    </p:spTree>
  </p:cSld>
  <p:transition advTm="5000">
    <p:blinds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0106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ubsystems in the AIS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نظمة الفرعية الأساسية في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55400" indent="-4554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revenue cycl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s activities of selling goods or services and collecting payment for those sa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إيرادات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بيع البضائع والخدمات وتحصيل التسديدات لتلك المبيعات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expenditure cycle: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lves activities of buying and paying for goods or services used by the organiz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مصروفات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شراء البضائع والخدمات المستخدمة من قبل المنشأة، وتسديد ثمنها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human resources/payroll cycl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s activities of hiring and paying employe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موارد البشرية/رواتب العاملين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تعيين ودفع رواتب الموظفي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FB19C-8395-4DE6-AB01-2C13EFC6D969}" type="slidenum">
              <a:t>5</a:t>
            </a:fld>
          </a:p>
        </p:txBody>
      </p:sp>
    </p:spTree>
  </p:cSld>
  <p:transition advTm="4000">
    <p:blinds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28600" y="20574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production cycl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s activities converting raw materials and labor into finished go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إنتاج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تحويل للمواد الخام والعمالة إلى بضائع جاهز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financing cycl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s activities of obtaining necessary funds to run the organization, repay creditors, and distribute profits to invest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تمويل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الحصول على الاعتمادات المالية اللازمة لتشغيل المنشأة، وتسديد المقرضين، وتوزيع الأرباح على المستثمري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ubsystems in the AIS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نظمة الفرعية الأساسية في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3F975-1E23-4F41-94C2-AC1C2DFC9E91}" type="slidenum">
              <a:t>6</a:t>
            </a:fld>
          </a:p>
        </p:txBody>
      </p:sp>
    </p:spTree>
  </p:cSld>
  <p:transition advTm="3000">
    <p:blinds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1371600" y="1752480"/>
            <a:ext cx="6781320" cy="3733560"/>
            <a:chOff x="1371600" y="1752480"/>
            <a:chExt cx="6781320" cy="3733560"/>
          </a:xfrm>
        </p:grpSpPr>
        <p:sp>
          <p:nvSpPr>
            <p:cNvPr id="108" name=""/>
            <p:cNvSpPr/>
            <p:nvPr/>
          </p:nvSpPr>
          <p:spPr>
            <a:xfrm>
              <a:off x="3691440" y="1752480"/>
              <a:ext cx="2141280" cy="100764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Expenditure Cycl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دورة المصروفات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11640" y="1752480"/>
              <a:ext cx="2141280" cy="100764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Human Resources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الموارد البشرية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82480" y="4478760"/>
              <a:ext cx="2141280" cy="100728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Production Cycl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دورة الإنتاج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0400" y="4478760"/>
              <a:ext cx="2141280" cy="100728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Revenue Cycl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دورة الإيرادات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71600" y="1752480"/>
              <a:ext cx="2141280" cy="100764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Financing Cycl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دورة التمويل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47160" y="3293640"/>
              <a:ext cx="5829840" cy="88884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1a00"/>
                  </a:solidFill>
                  <a:latin typeface="Times New Roman"/>
                </a:rPr>
                <a:t>General Ledger &amp; Reporting System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1a1a00"/>
                  </a:solidFill>
                  <a:latin typeface="Times New Roman"/>
                </a:rPr>
                <a:t>الأستاذ العام  </a:t>
              </a:r>
              <a:r>
                <a:rPr b="0" lang="ar-JO" sz="2000" spc="-1" strike="noStrike">
                  <a:solidFill>
                    <a:srgbClr val="1a1a00"/>
                  </a:solidFill>
                  <a:latin typeface="Times New Roman"/>
                </a:rPr>
                <a:t>+  </a:t>
              </a:r>
              <a:r>
                <a:rPr b="0" lang="ar-SA" sz="2000" spc="-1" strike="noStrike">
                  <a:solidFill>
                    <a:srgbClr val="1a1a00"/>
                  </a:solidFill>
                  <a:latin typeface="Times New Roman"/>
                </a:rPr>
                <a:t>ونظام التقارير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42240" y="2761200"/>
              <a:ext cx="0" cy="70992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453480" y="4124160"/>
              <a:ext cx="0" cy="35424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82280" y="2761200"/>
              <a:ext cx="0" cy="70992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62440" y="2761200"/>
              <a:ext cx="0" cy="53208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6076080" y="4124160"/>
              <a:ext cx="0" cy="35424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010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ubsystems in the AIS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نظمة الفرعية الأساسية في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285D8-9DF0-4FA4-BAF4-2582E7C0E097}" type="slidenum">
              <a:t>7</a:t>
            </a:fld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701064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ata Processing Cycle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ة معالجة البيان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ata processing cycle consists of four step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ألف دورة معالجة البيانات من خمسة خطوات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input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دخال البيان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torage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خزين البيان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ocessing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عالجة البيان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Output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خراج المعلوم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rigger for data input is usually business activity.  Data must be collected abou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صدر البيانات عادة ما يكون الأنشطة التجارية. ويجب جمع البيانات عن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event of interest  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ل حدث ذا أهمي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ources affected by each event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صادر المتأثرة بكل حدث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gents who participate in each event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ملاء المشاركين في كل حدث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FB393-1001-4B1A-A93E-9861B0733905}" type="slidenum">
              <a:t>8</a:t>
            </a:fld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ocessing Cycle: Data Input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ة معالجة البيانات: إدخال البيان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ically, most businesses used paper source documents to collect data and then transferred that data into a compu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ريخياً، معظم الأعمال التجارية استخدمت وثائق أصلية ورقية لتجميع البيانات ومن ثم نقلها على الحاسب الآلي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, most data are recorded directly through data entry scree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يوم، يتم تسجيل معظم البيانات من خلال شاشات إدخال مباشر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over data collection is improved by: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يطرة على تجميع البيانات تحسن ب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numbering each source document  and using turnaround docu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رقيم المسبق لكل وثيقة أصلية واستخدام إعادة الوثائ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ing the system automatically assign a sequential number to each new transaction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عل النظام يعين رقماً تسلسلي لكل حدت جدي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loying source data automation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صدر آلي للبيان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72E4D-68E4-45E8-AB6B-717A5835151B}" type="slidenum">
              <a:t>9</a:t>
            </a:fld>
          </a:p>
        </p:txBody>
      </p:sp>
    </p:spTree>
  </p:cSld>
  <p:transition advTm="5000">
    <p:blinds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17:18:51Z</dcterms:created>
  <dc:creator>S. Bhattacharya</dc:creator>
  <dc:description/>
  <dc:language>en-US</dc:language>
  <cp:lastModifiedBy>dr-mahmood</cp:lastModifiedBy>
  <cp:lastPrinted>2004-09-25T05:48:13Z</cp:lastPrinted>
  <dcterms:modified xsi:type="dcterms:W3CDTF">2005-03-04T04:55:49Z</dcterms:modified>
  <cp:revision>112</cp:revision>
  <dc:subject/>
  <dc:title>Accounting  Information  Systems 9th Edition</dc:title>
</cp:coreProperties>
</file>