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52F1-5BBA-4AD0-B42C-3068A33F264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C4D0-9FAA-4D05-A67F-240BAED6020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B01E-C1E9-4762-BAB2-5F22A208605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53AB-9A71-4E92-93BD-E92396F9970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2AC2-84D7-4D63-8AD8-90ACBBD5CF1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4E57-0C2E-4F6F-A660-A13C14D914A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722C-83AA-44AA-ACFF-8C2D3A369C2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EBC4-4763-4764-BC6F-794642F2784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000B-E18A-4DC3-A6B4-349C6E3D5A3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347F-0596-4FF6-8DB1-440183355CB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B7E1-7533-4AF4-8544-6FD83F70C3C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B096-5920-4EEB-89E7-4A55AB0A377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4DE9-550D-4CF3-B970-7F356302782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36B2-6194-4D93-AC4F-C5EA8AA7585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CC4D-E184-4DEF-B00E-415D87927BB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2BF1-45D5-4F84-A7EA-765C57FE210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8999-14EB-4E81-8CA4-BFEA876573A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C0A76-0767-445F-B16B-58733B206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FF5FF-D93D-4D10-8E72-A47DE9795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C1F00-DB53-41EE-81C9-6C09A5BC7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C06A7-8402-457D-A52C-53D0622AD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EA0DB-9B79-4C03-93C3-3CD616CA0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04FB9-87D3-4AAE-8001-ECD0B2A9E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41B3E-1C37-48E0-AEFC-2F05BDBE1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FAB63-6584-43FE-8016-BB009E0E4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1902E-F098-4282-BD38-EC217AA55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E8025-9723-44F6-93AF-7FA224BE8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700DA-3D7C-46DD-97F8-24E99265A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94176-ACC0-4B80-A444-310CDE90D3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52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2-</a:t>
            </a:r>
            <a:fld id="{D8D09326-8D15-444D-9EED-F5793236FD80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5909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©2003 Prentice Hall Business Publishing,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Accounting Information Systems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, 9/e, Romney/Steinbart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7086240" y="609588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7207851D-01BA-4E99-B0F6-5F2EAB4E1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3720" y="609588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©2003 Prentice Hall Business Publishing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Accounting Information Systems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, 9/e, Romney/Steinb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م الله الرحمن الرحيم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صل الثاني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 of Business Processes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لسلسلة العمليات التجار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tch processing is the periodic updating of the data stored about resources and ag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معالجة الرزم هي تحديث للبيانات المخزنة عن المصادر والعملاء بشكل دور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-line, real-time processing is the immediate updating as each transaction occu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معالجة المباشرة 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في الوقت الحقيقي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هي تحديث للبيانات في وقت وقوع كل حدث تجار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Process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معالجة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C7323-C31E-49D6-AD71-F07BB9C03815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ntity is something about which information is st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كيانات أو الأشياء 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بضاعة، موظف، زبون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هي الأشياء التي يتم تخزين معلومات عنه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entity has attributes or characteristics of interest, which need to be st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لكل كيان صفات أو خصائص ذات أهمية، والتي بحاجة لتخز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Storag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تخزين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5B888-D785-4252-A4CD-89F6BE491F56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010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Transaction Data in Journal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بيانات الأحداث التجارية في اليوم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transaction data have been captured on source documents, the next step is to record the data in a jour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عد أخذ بيانات الحدث التجاري على وثائق أصلية، تكون الخطوة التالية بتسجيلها في اليوم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ournal entry is made for each transaction showing the accounts and amounts to be debited and credi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د يومية يعمل لكل حدث تجاري، ويظهر الحسابات وقيمها المدينة والدائنة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journal records infrequent or nonroutine trans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دفتر اليومية نادرة أو ليست روتينية الأحداث التجار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zed journals simplify the process of recording large numbers of repetitive trans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يوميات المتخصصة تسهل إجراءات تسجيل الأرقام الكبيرة للأحداث التجارية السابقة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ur most common types of transactions: Credit sales, Cash receipts, Purchases on account, Cash disburs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2ADE6-9311-40B8-AA78-82EB06FA986C}" type="slidenum">
              <a:t>12</a:t>
            </a:fld>
          </a:p>
        </p:txBody>
      </p:sp>
    </p:spTree>
  </p:cSld>
  <p:transition advTm="4000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0106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Transactions to Ledger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أحداث التجارية إلى الأستا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gers are used to summarize the financial status, including the current balance, of individual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ستاذ يستخدم لتلخيص الوضع المالي لكل حساب على حده، إضافة لرصيد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ledger contains summary-level data for every asset, liability, equity, revenue, and expense account of an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توي دفتر الأستاذ العام على بيانات ملخصة لحسابات الأصول، والخصوم، وحقوق الملكية، والإيرادات، والمصاريف في للمنشأ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sidiary ledger records all the detailed data for any general ledger account that has many individual sub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يسجل كل البيانات المفصلة لأي حساب أستاذ عام له العديد من الحسابات الفرعية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0C333-AF3C-46F1-9791-81FC194E1693}" type="slidenum">
              <a:t>13</a:t>
            </a:fld>
          </a:p>
        </p:txBody>
      </p:sp>
    </p:spTree>
  </p:cSld>
  <p:transition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0106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Transactions to Ledger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أحداث التجارية إلى الأستا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commonly used subsidiary ledgers: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اتر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ستاذ المساعد المستخدم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s receivable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للذمم المدين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ntory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للمخزو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s payable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للذمم المدين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ledger account corresponding to a subsidiary ledger called control accou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مى حساب الأستاذ العام الممثل للأستاذ الفرعي بحساب السيطرة أو التحك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rol account contains the total amount for all individual accounts in the subsidiary led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وي حساب التحكم القيمة الكاملة لكل الحسابات المنفردة في الأستاذ المساع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0FAB2-B1FC-4198-87AC-742FA43927F0}" type="slidenum">
              <a:t>14</a:t>
            </a:fld>
          </a:p>
        </p:txBody>
      </p:sp>
    </p:spTree>
  </p:cSld>
  <p:transition>
    <p:blinds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Chart of Accounts</a:t>
            </a:r>
            <a:br>
              <a:rPr sz="3400"/>
            </a:b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خريطة الحسابا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hart of accounts is a list of all general ledger accounts used by an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خريطة الحسابات هي قائمة بكل حسابات الأستاذ العام والتي تستخدمها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important that the chart of accounts contains sufficient detail to meet the information needs of the organiz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من المهم تحتوي خريطة الحسابات على تفاصيل كافية لتقابل المعلومات التي تحتاجها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25F00-A0C2-4105-AEAB-CADA3370EDD1}" type="slidenum">
              <a:t>15</a:t>
            </a:fld>
          </a:p>
        </p:txBody>
      </p:sp>
    </p:spTree>
  </p:cSld>
  <p:transition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Information for Decision Making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ويد المعلومات لاتخاذ القرار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cond 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AIS is to provide management with information useful for decision m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 الوظيفة الثانية لنظام المعلومات المحاسبية هي تزويد الإدارة بمعلومات نافعة في اتخاذ القر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ormation an AIS provides falls into two main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تي يزودها نظام المعلومات المحاسبية تقع ضمن فئتان رئيسيتان ه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tatements - 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شوف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ل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- 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اري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75397-FF1D-4B3A-B9A5-19595D125653}" type="slidenum">
              <a:t>16</a:t>
            </a:fld>
          </a:p>
        </p:txBody>
      </p:sp>
    </p:spTree>
  </p:cSld>
  <p:transition>
    <p:blinds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nancial Statements 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الكشوف/التقارير المال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a trial balance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ميزان المراجع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adjusting entrie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يود التسو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the adjusted trial balance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ميزان المراجعة بعد التسويات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the income statement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ائمة الدخل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closing entrie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يود الإغلاق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the balance sheet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ائمة المركز المالي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ميزان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the statement of cash flow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قائمة التدفقات النقد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5889D-AF5E-4B31-BB60-3F23D201916E}" type="slidenum">
              <a:t>17</a:t>
            </a:fld>
          </a:p>
        </p:txBody>
      </p:sp>
    </p:spTree>
  </p:cSld>
  <p:transition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        </a:t>
            </a:r>
            <a:r>
              <a:rPr b="0" lang="ar-SA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الإدار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IS must also be able to provide managers with detailed operational information about the organization’s perform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ن يكون نظام المعلومات المحاسبية قادراً على تزويد الإداريين بمعلومات عملية ومفصلة عن أداء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important types of managerial reports are:      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م تقريران إداريا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: which is the formal expression of goals in financial terms (e.g. Cash Budge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زنة التقديرية: وهي تعبير منهجي عن الأهداف من خلال بنود مالية (مثل موازنة نقدي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reports: lists the budgeted and actual amounts of revenues and expenses and also shows the variances, or differences, between these two amou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ير الأداء: يقارن بين الموازنة التقديرية والقيم الحقيقية للإيرادات والمصاريف والفروقات بينهم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6B176-EB9D-43DD-9714-C95FFDE9B97A}" type="slidenum">
              <a:t>18</a:t>
            </a:fld>
          </a:p>
        </p:txBody>
      </p:sp>
    </p:spTree>
  </p:cSld>
  <p:transition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ic Co. Monthly Performance Report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ير الأداء الشهري لشركة ماجي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ud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r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زن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فعلي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ر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Goods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لفة البضائع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2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4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0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ss Margin 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مالي الدخل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Expense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صاريف أخرى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7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Income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خل من التشغي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rial Reports        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التقارير الإدار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78A5E-A800-4231-A0AD-0199EC77B43F}" type="slidenum">
              <a:t>19</a:t>
            </a:fld>
          </a:p>
        </p:txBody>
      </p:sp>
    </p:spTree>
  </p:cSld>
  <p:transition>
    <p:blinds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3808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llect and store data about the organization’s business activities and transactions efficiently and effective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جميع وتخزين البيانات المتعلقة بالأشطة والأحداث التجارية للمنشأة التجارية بكفائة وفاعلي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ure transaction data on source docu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خذ بيانات الحدث التجاري على وثائق أصل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transaction data in journals, which present a chronological record of what occur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بيانات الحدث التجاري في دفتر اليومية، بشكل يظهر ترتيب حدوثها الزمني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data from journals to ledgers, which sort data by account typ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بيانات من اليومية إلى الأستاذ، والذي يخزن البيانات حسب نوع الحساب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B6D21-8457-4F0C-AA21-4EC6D39C4A38}" type="slidenum">
              <a:t>2</a:t>
            </a:fld>
          </a:p>
        </p:txBody>
      </p:sp>
    </p:spTree>
  </p:cSld>
  <p:transition advTm="5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Control Consideration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بارات الرقابة الداخل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ird function of an AIS is to provide adequate internal controls to accomplish three basic obj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 الوظيفة الثالثة لنظام المعلومات المحاسبية هي التزويد بمراقة داخلية ملائمة لتحقيق ثلاثة أهداف رئيس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information is reliable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معلومات يعتمد عليها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ثوقٌ به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business activities are performed efficien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أنشطة التجارية أُنجزت بشكل فعّا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guard organizational assets.   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اية أصول المنشأ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important methods for accomplishing these obj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طرقتان المهمتان لتحقيق تلك الأهداف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for adequate documentation of all business activ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زود بالتوثيق الملائم لكل الأنشطة التجار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AIS for effective segregation of du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صميم نظام معلومات محاسبي فعّال في فصل الواجبا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0BCA1-0ADF-4D09-8E4F-735C39E41D90}" type="slidenum">
              <a:t>20</a:t>
            </a:fld>
          </a:p>
        </p:txBody>
      </p:sp>
    </p:spTree>
  </p:cSld>
  <p:transition>
    <p:blinds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Documentation     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ثيق الملائ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560" y="9144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 allows management to verify that assigned responsibilities were completed correc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ثيق يتيح للإدارة للتحقق من أن المسؤوليات المخصصة (المحددة) أنجزت بشكل صحيح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243828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regation of Duties           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صل الواجبات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28954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3048120"/>
            <a:ext cx="74678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regation of duties refers to dividing responsibility for different portions of a transaction among several people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صل الواجبات تعزى إلى تقسيم المسؤوليات لمختلف أجزاء الحدث التجاري بين عدّة أشخاص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that should be performed by different people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ظائف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هام الواجب إنجازها من قبل الأشخاص المختلفين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izing transaction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فويض بالأحداث التجارية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ing transaction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الأحداث التجارية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ing custody of asset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حتفاظ برعاية الأصول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BBD42-F03D-4C84-9480-BE422F76E9EB}" type="slidenum">
              <a:t>21</a:t>
            </a:fld>
          </a:p>
        </p:txBody>
      </p:sp>
    </p:spTree>
  </p:cSld>
  <p:transition>
    <p:blinds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management with information useful for decision mak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ويد الإدارة بمعلومات نافعة في اتخاذ القرار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ual systems, this information is provided in the form of reports that fall into two main categ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نظام اليدوي يتم تزويد هذه المعلومات على شكل تقارير تقع ضمن فئتان رئيستان هما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tatement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شوف المال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الإدار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523880" y="419040"/>
            <a:ext cx="7467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980E0-78B0-4734-8A66-32C654DA40A8}" type="slidenum">
              <a:t>3</a:t>
            </a:fld>
          </a:p>
        </p:txBody>
      </p:sp>
    </p:spTree>
  </p:cSld>
  <p:transition advTm="4000">
    <p:blinds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adequate internal contro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زويد بمراقبة داخلية ملائم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information produced by the system is reli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معلومات الناتجة عن النظام يعتمد عليها (موثوقٌ بها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business activities are performed efficiently and in accordance with management’s object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أنشطة التجارية أنجزت بشكل فعّال ومنسجم مع أهداف الإدار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guard organizational ass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اية أصول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C247D-EE34-4152-85EF-AFA8D24995EA}" type="slidenum">
              <a:t>4</a:t>
            </a:fld>
          </a:p>
        </p:txBody>
      </p:sp>
    </p:spTree>
  </p:cSld>
  <p:transition advTm="5000"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revenue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selling goods or services and collecting payment for those s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إيرادات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بيع البضائع والخدمات وتحصيل التسديدات لتلك المبيعا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expenditure cycle: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s activities of buying and paying for goods or services used by the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مصروفات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شراء البضائع والخدمات المستخدمة من قبل المنشأة، وتسديد ثمنه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human resources/payroll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hiring and paying employe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موارد البشرية/رواتب العاملين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تعيين ودفع رواتب الموظف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07460-BBA7-44AE-B1FE-6BE42657E028}" type="slidenum">
              <a:t>5</a:t>
            </a:fld>
          </a:p>
        </p:txBody>
      </p:sp>
    </p:spTree>
  </p:cSld>
  <p:transition advTm="4000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600" y="20574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roduction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converting raw materials and labor into finished go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إنتاج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تحويل للمواد الخام والعمالة إلى بضائع جاهز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financing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obtaining necessary funds to run the organization, repay creditors, and distribute profits to inves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تمويل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الحصول على الاعتمادات المالية اللازمة لتشغيل المنشأة، وتسديد المقرضين، وتوزيع الأرباح على المستثمر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D5047-721B-4C3F-9B44-0CCB50163F63}" type="slidenum">
              <a:t>6</a:t>
            </a:fld>
          </a:p>
        </p:txBody>
      </p:sp>
    </p:spTree>
  </p:cSld>
  <p:transition advTm="3000"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371600" y="1752480"/>
            <a:ext cx="6781320" cy="3733560"/>
            <a:chOff x="1371600" y="1752480"/>
            <a:chExt cx="6781320" cy="3733560"/>
          </a:xfrm>
        </p:grpSpPr>
        <p:sp>
          <p:nvSpPr>
            <p:cNvPr id="108" name=""/>
            <p:cNvSpPr/>
            <p:nvPr/>
          </p:nvSpPr>
          <p:spPr>
            <a:xfrm>
              <a:off x="369144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Expenditure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مصروفات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1164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Human Resources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الموارد البشرية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82480" y="4478760"/>
              <a:ext cx="2141280" cy="100728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Production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إنتاج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0400" y="4478760"/>
              <a:ext cx="2141280" cy="100728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Revenue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إيرادات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160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Financing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تمويل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47160" y="3293640"/>
              <a:ext cx="5829840" cy="8888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1a00"/>
                  </a:solidFill>
                  <a:latin typeface="Times New Roman"/>
                </a:rPr>
                <a:t>General Ledger &amp; Reporting System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1a1a00"/>
                  </a:solidFill>
                  <a:latin typeface="Times New Roman"/>
                </a:rPr>
                <a:t>الأستاذ العام  </a:t>
              </a:r>
              <a:r>
                <a:rPr b="0" lang="ar-JO" sz="2000" spc="-1" strike="noStrike">
                  <a:solidFill>
                    <a:srgbClr val="1a1a00"/>
                  </a:solidFill>
                  <a:latin typeface="Times New Roman"/>
                </a:rPr>
                <a:t>+  </a:t>
              </a:r>
              <a:r>
                <a:rPr b="0" lang="ar-SA" sz="2000" spc="-1" strike="noStrike">
                  <a:solidFill>
                    <a:srgbClr val="1a1a00"/>
                  </a:solidFill>
                  <a:latin typeface="Times New Roman"/>
                </a:rPr>
                <a:t>ونظام التقارير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42240" y="2761200"/>
              <a:ext cx="0" cy="70992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53480" y="4124160"/>
              <a:ext cx="0" cy="3542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82280" y="2761200"/>
              <a:ext cx="0" cy="70992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62440" y="2761200"/>
              <a:ext cx="0" cy="53208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076080" y="4124160"/>
              <a:ext cx="0" cy="3542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64BB2-5287-4C58-B33A-BBCD5516FEB8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Processing Cycle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processing cycle consists of four ste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ألف دورة معالجة البيانات من خمسة خطوات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npu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خال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orage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خزين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الجة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Outpu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راج المعلوم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igger for data input is usually business activity.  Data must be collected abou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صدر البيانات عادة ما يكون الأنشطة التجارية. ويجب جمع البيانات عن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event of interest  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 حدث ذا أهم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ources affected by each even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صادر المتأثرة بكل حد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gents who participate in each even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 المشاركين في كل حد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0633E-C984-4D9B-ABED-031EE0849211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Inpu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إدخال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cally, most businesses used paper source documents to collect data and then transferred that data into a compu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ريخياً، معظم الأعمال التجارية استخدمت وثائق أصلية ورقية لتجميع البيانات ومن ثم نقلها على الحاسب الآلي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, most data are recorded directly through data entry scre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يوم، يتم تسجيل معظم البيانات من خلال شاشات إدخال مباشر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over data collection is improved by: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يطرة على تجميع البيانات تحسن ب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numbering each source document  and using turnaround doc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رقيم المسبق لكل وثيقة أصلية واستخدام إعادة الوثائ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the system automatically assign a sequential number to each new transaction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عل النظام يعين رقماً تسلسلي لكل حدت جدي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ing source data automation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صدر آلي ل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99F61-F824-4A98-BCC5-574D4E8F69A3}" type="slidenum">
              <a:t>9</a:t>
            </a:fld>
          </a:p>
        </p:txBody>
      </p:sp>
    </p:spTree>
  </p:cSld>
  <p:transition advTm="5000">
    <p:blinds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17:18:51Z</dcterms:created>
  <dc:creator>S. Bhattacharya</dc:creator>
  <dc:description/>
  <dc:language>en-US</dc:language>
  <cp:lastModifiedBy>dr-mahmood</cp:lastModifiedBy>
  <cp:lastPrinted>2004-09-25T05:48:13Z</cp:lastPrinted>
  <dcterms:modified xsi:type="dcterms:W3CDTF">2005-03-04T04:55:49Z</dcterms:modified>
  <cp:revision>112</cp:revision>
  <dc:subject/>
  <dc:title>Accounting  Information  Systems 9th Edition</dc:title>
</cp:coreProperties>
</file>