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DCF13-67DA-485C-AD91-5845A9EB49EE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8028-84A1-47BB-8416-4B52DBBC5CB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3A1D-9A4A-490A-A41D-F82F9CF1FC54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5BAB-82A5-49A4-AFF2-75A985E8BE6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A1D2-8657-45C3-AC5B-DA8B43B1020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4596-3B0E-4B1E-B782-CE630A29F678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703D-BB07-4634-AA4C-A8038553DC3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0AA4-3E13-4F17-A4FB-0CEE2DF18CFC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DEFE-989B-44D8-BB6F-107878409DCD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0ACFC-ADF8-4359-AD9A-0F63AE3D7436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3548-6FA9-4EE5-B111-AC15DD0591E2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F7152-D48C-470B-A911-BA0944B2AE03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0BB3-0A66-4AA2-A04A-9AD76EE44D7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4B58-FA42-41DD-9173-7909A7E46C4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CE58-B401-4927-BD09-D65EF558914B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5B65-DCA9-458B-ADA8-C3C182BCBD97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491B6-D29D-434E-81D9-030025EF3EA9}" type="slidenum">
              <a:rPr b="0" lang="ar-SA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9604C-2D6A-4286-953F-49A65FC12F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CBBE7-0BDD-4D7E-BB95-C4F7253D3B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6181F-DDB1-4495-9FE7-1CB4CF1813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B1C15-31D7-4E49-8199-B677A68DBB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7963D-FFBD-4C87-91D5-02EEE34856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24448-6CFE-46EC-9144-DE9357F8A3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8C3924-9235-413B-8765-7AE1811BA4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DAA08-35A9-4FE0-A9F5-2D21CFDACD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5FA0A-0128-4AFE-B57C-A96BD379CA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E2D10-CD88-4B00-BC85-CB2A76D294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B79C0-B9E3-45AA-9243-847C0B58E9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EE714-DFE3-4A6A-996F-D57F520041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66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520" y="61722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2-</a:t>
            </a:r>
            <a:fld id="{998566A2-599E-4136-85EA-8330CF2A13E7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590920" y="617220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©2003 Prentice Hall Business Publishing,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Accounting Information Systems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  <a:ea typeface="Arial"/>
              </a:rPr>
              <a:t>, 9/e, Romney/Steinbart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7086240" y="609588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-</a:t>
            </a:r>
            <a:fld id="{A328F080-D1D8-482F-B470-C3024AF2A0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3720" y="6095880"/>
            <a:ext cx="3581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©2003 Prentice Hall Business Publishing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ff"/>
                </a:solidFill>
                <a:latin typeface="Times New Roman"/>
              </a:rPr>
              <a:t>Accounting Information Systems</a:t>
            </a:r>
            <a:r>
              <a:rPr b="0" lang="en-US" sz="1000" spc="-1" strike="noStrike">
                <a:solidFill>
                  <a:srgbClr val="0000ff"/>
                </a:solidFill>
                <a:latin typeface="Times New Roman"/>
              </a:rPr>
              <a:t>, 9/e, Romney/Steinba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81080" y="457200"/>
            <a:ext cx="70106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سم الله الرحمن الرحيم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pter 2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فصل الثاني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view of Business Processes</a:t>
            </a:r>
            <a:br>
              <a:rPr sz="3600"/>
            </a:br>
            <a:r>
              <a:rPr b="0" lang="ar-SA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راجعة لسلسلة العمليات التجاري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tch processing is the periodic updating of the data stored about resources and ag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معالجة الرزم هي تحديث للبيانات المخزنة عن المصادر والعملاء بشكل دور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n-line, real-time processing is the immediate updating as each transaction occu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المعالجة المباشرة 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في الوقت الحقيقي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هي تحديث للبيانات في وقت وقوع كل حدث تجار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523880" y="190080"/>
            <a:ext cx="7010640" cy="156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ocessing Cycle: Data Processing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ة معالجة البيانات: معالجة البيان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6C7E1-C61D-47C4-9CA5-EEDC6991980E}" type="slidenum">
              <a:t>10</a:t>
            </a:fld>
          </a:p>
        </p:txBody>
      </p:sp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ntity is something about which information is sto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الكيانات أو الأشياء 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بضاعة، موظف، زبون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هي الأشياء التي يتم تخزين معلومات عنها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ch entity has attributes or characteristics of interest, which need to be sto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لكل كيان صفات أو خصائص ذات أهمية، والتي بحاجة لتخزي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ocessing Cycle: Data Storage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ة معالجة البيانات: تخزين البيان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2B93C-C8A9-40CC-A4BD-00B95C3F0D74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01064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Transaction Data in Journals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جيل بيانات الأحداث التجارية في اليومي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ter transaction data have been captured on source documents, the next step is to record the data in a jour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بعد أخذ بيانات الحدث التجاري على وثائق أصلية، تكون الخطوة التالية بتسجيلها في اليومي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journal entry is made for each transaction showing the accounts and amounts to be debited and credit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قيد يومية يعمل لكل حدث تجاري، ويظهر الحسابات وقيمها المدينة والدائنة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eral journal records infrequent or nonroutine transac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سجلات دفتر اليومية نادرة أو ليست روتينية الأحداث التجاري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alized journals simplify the process of recording large numbers of repetitive transac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يوميات المتخصصة تسهل إجراءات تسجيل الأرقام الكبيرة للأحداث التجارية السابقة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our most common types of transactions: Credit sales, Cash receipts, Purchases on account, Cash disburse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9B89D-88B5-4C97-95AF-3859674D4635}" type="slidenum">
              <a:t>12</a:t>
            </a:fld>
          </a:p>
        </p:txBody>
      </p:sp>
    </p:spTree>
  </p:cSld>
  <p:transition advTm="4000">
    <p:blinds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0106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 Transactions to Ledgers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حيل الأحداث التجارية إلى الأستا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9172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dgers are used to summarize the financial status, including the current balance, of individual acc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ستاذ يستخدم لتلخيص الوضع المالي لكل حساب على حده، إضافة لرصيد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eral ledger contains summary-level data for every asset, liability, equity, revenue, and expense account of an organiz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حتوي دفتر الأستاذ العام على بيانات ملخصة لحسابات الأصول، والخصوم، وحقوق الملكية، والإيرادات، والمصاريف في للمنشأ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ubsidiary ledger records all the detailed data for any general ledger account that has many individual sub accou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r" rtl="1">
              <a:lnSpc>
                <a:spcPct val="90000"/>
              </a:lnSpc>
              <a:spcBef>
                <a:spcPts val="6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تر الأستاذ المساعد يسجل كل البيانات المفصلة لأي حساب أستاذ عام له العديد من الحسابات الفرعية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A0313-1E5A-4E2A-BAC4-D8827D8DA959}" type="slidenum">
              <a:t>13</a:t>
            </a:fld>
          </a:p>
        </p:txBody>
      </p:sp>
    </p:spTree>
  </p:cSld>
  <p:transition>
    <p:blinds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01064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 Transactions to Ledgers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حيل الأحداث التجارية إلى الأستا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me commonly used subsidiary ledgers: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اتر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ستاذ المساعد المستخدم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s receivable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تر الأستاذ المساعد للذمم المدين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ntory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تر الأستاذ للمخزو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ounts payable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فتر الأستاذ المساعد للذمم المدين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general ledger account corresponding to a subsidiary ledger called control accou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سمى حساب الأستاذ العام الممثل للأستاذ الفرعي بحساب السيطرة أو التحك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trol account contains the total amount for all individual accounts in the subsidiary led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حوي حساب التحكم القيمة الكاملة لكل الحسابات المنفردة في الأستاذ المساع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EC7C2-1A60-42B3-8CF9-06B9489CC529}" type="slidenum">
              <a:t>14</a:t>
            </a:fld>
          </a:p>
        </p:txBody>
      </p:sp>
    </p:spTree>
  </p:cSld>
  <p:transition>
    <p:blinds dir="ver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e Chart of Accounts</a:t>
            </a:r>
            <a:br>
              <a:rPr sz="3400"/>
            </a:b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خريطة الحسابات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15364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hart of accounts is a list of all general ledger accounts used by an organiz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خريطة الحسابات هي قائمة بكل حسابات الأستاذ العام والتي تستخدمها المنشأ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important that the chart of accounts contains sufficient detail to meet the information needs of the organization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من المهم تحتوي خريطة الحسابات على تفاصيل كافية لتقابل المعلومات التي تحتاجها المنشأ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E481B-879D-4846-8077-512CDBD3B33A}" type="slidenum">
              <a:t>15</a:t>
            </a:fld>
          </a:p>
        </p:txBody>
      </p:sp>
    </p:spTree>
  </p:cSld>
  <p:transition>
    <p:blinds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ing Information for Decision Making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زويد المعلومات لاتخاذ القرار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cond 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 the AIS is to provide management with information useful for decision mak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ن الوظيفة الثانية لنظام المعلومات المحاسبية هي تزويد الإدارة بمعلومات نافعة في اتخاذ القرا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information an AIS provides falls into two main categor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علومات التي يزودها نظام المعلومات المحاسبية تقع ضمن فئتان رئيسيتان هم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Statements - (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شوف </a:t>
            </a:r>
            <a:r>
              <a:rPr b="0" lang="ar-JO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الية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ial Reports - (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ارير </a:t>
            </a:r>
            <a:r>
              <a:rPr b="0" lang="ar-JO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دارية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2BDEC-B23E-41E1-B6D4-1C1CDD3A5E78}" type="slidenum">
              <a:t>16</a:t>
            </a:fld>
          </a:p>
        </p:txBody>
      </p:sp>
    </p:spTree>
  </p:cSld>
  <p:transition>
    <p:blinds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560" y="45720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Financial Statements </a:t>
            </a:r>
            <a:r>
              <a:rPr b="0" lang="ar-SA" sz="3400" spc="-1" strike="noStrike">
                <a:solidFill>
                  <a:srgbClr val="000000"/>
                </a:solidFill>
                <a:latin typeface="Arial"/>
              </a:rPr>
              <a:t>الكشوف/التقارير المالي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pare a trial balance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إعداد ميزان المراجعة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adjusting entries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عمل قيود التسوية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pare the adjusted trial balance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إعداد ميزان المراجعة بعد التسويات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 the income statement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عمل قائمة الدخل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closing entries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عمل قيود الإغلاق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duce the balance sheet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عمل قائمة المركز المالي</a:t>
            </a:r>
            <a:r>
              <a:rPr b="0" lang="ar-JO" sz="2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الميزانية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pare the statement of cash flows. (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إعداد قائمة التدفقات النقدية</a:t>
            </a:r>
            <a:r>
              <a:rPr b="0" lang="ar-SA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1818D-C273-4DB2-BBCE-4546B65EC95F}" type="slidenum">
              <a:t>17</a:t>
            </a:fld>
          </a:p>
        </p:txBody>
      </p:sp>
    </p:spTree>
  </p:cSld>
  <p:transition>
    <p:blinds dir="ver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560" y="30456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ial Reports         </a:t>
            </a:r>
            <a:r>
              <a:rPr b="0" lang="ar-SA" sz="34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ارير الإدارية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8839440" cy="472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IS must also be able to provide managers with detailed operational information about the organization’s performan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يجب أن يكون نظام المعلومات المحاسبية قادراً على تزويد الإداريين بمعلومات عملية ومفصلة عن أداء المنشأ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important types of managerial reports are:      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هم تقريران إداريا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get: which is the formal expression of goals in financial terms (e.g. Cash Budget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ازنة التقديرية: وهي تعبير منهجي عن الأهداف من خلال بنود مالية (مثل موازنة نقدي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reports: lists the budgeted and actual amounts of revenues and expenses and also shows the variances, or differences, between these two amou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رير الأداء: يقارن بين الموازنة التقديرية والقيم الحقيقية للإيرادات والمصاريف والفروقات بينهما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45AEA-DC64-4687-8B29-C06AD39002C4}" type="slidenum">
              <a:t>18</a:t>
            </a:fld>
          </a:p>
        </p:txBody>
      </p:sp>
    </p:spTree>
  </p:cSld>
  <p:transition>
    <p:blinds dir="vert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gic Co. Monthly Performance Report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قرير الأداء الشهري لشركة ماجي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udge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ctua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Var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وازنة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الفعلي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فر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بيعات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4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5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 of Goods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كلفة البضائع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2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4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000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ss Margin (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جمالي الدخل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4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5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Expenses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صاريف أخرى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9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70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0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293760"/>
                <a:tab algn="l" pos="587520"/>
                <a:tab algn="l" pos="880920"/>
                <a:tab algn="l" pos="1174680"/>
                <a:tab algn="l" pos="1468440"/>
                <a:tab algn="l" pos="1762200"/>
                <a:tab algn="l" pos="2055960"/>
                <a:tab algn="l" pos="2349360"/>
                <a:tab algn="l" pos="2643120"/>
                <a:tab algn="l" pos="2936880"/>
                <a:tab algn="l" pos="3230640"/>
                <a:tab algn="l" pos="3524400"/>
                <a:tab algn="l" pos="3817800"/>
                <a:tab algn="l" pos="4111560"/>
                <a:tab algn="l" pos="4405320"/>
                <a:tab algn="l" pos="4699080"/>
                <a:tab algn="l" pos="4992840"/>
                <a:tab algn="l" pos="5286240"/>
                <a:tab algn="l" pos="5580000"/>
                <a:tab algn="l" pos="58737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ing Income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دخل من التشغيل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4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5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0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523880" y="380880"/>
            <a:ext cx="70106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nagerial Reports         </a:t>
            </a:r>
            <a:r>
              <a:rPr b="0" lang="ar-SA" sz="3000" spc="-1" strike="noStrike">
                <a:solidFill>
                  <a:srgbClr val="000000"/>
                </a:solidFill>
                <a:latin typeface="Arial"/>
              </a:rPr>
              <a:t>التقارير الإداري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2914D-6802-48B5-B801-9D98F2D889AF}" type="slidenum">
              <a:t>19</a:t>
            </a:fld>
          </a:p>
        </p:txBody>
      </p:sp>
    </p:spTree>
  </p:cSld>
  <p:transition>
    <p:blinds dir="vert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520" y="38088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ree Basic Functions Performed by an A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ثلاثة وظائف الأساسية التي يؤديه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llect and store data about the organization’s business activities and transactions efficiently and effectivel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جميع وتخزين البيانات المتعلقة بالأشطة والأحداث التجارية للمنشأة التجارية بكفائة وفاعلية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ture transaction data on source documen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خذ بيانات الحدث التجاري على وثائق أصلي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 transaction data in journals, which present a chronological record of what occurre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جيل بيانات الحدث التجاري في دفتر اليومية، بشكل يظهر ترتيب حدوثها الزمني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t data from journals to ledgers, which sort data by account typ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رحيل البيانات من اليومية إلى الأستاذ، والذي يخزن البيانات حسب نوع الحساب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682D9-5B95-46E8-8903-2CE5396ECC00}" type="slidenum">
              <a:t>2</a:t>
            </a:fld>
          </a:p>
        </p:txBody>
      </p:sp>
    </p:spTree>
  </p:cSld>
  <p:transition advTm="5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8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Control Considerations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عتبارات الرقابة الداخلي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9172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ird function of an AIS is to provide adequate internal controls to accomplish three basic objectiv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ن الوظيفة الثالثة لنظام المعلومات المحاسبية هي التزويد بمراقة داخلية ملائمة لتحقيق ثلاثة أهداف رئيسة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the information is reliable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أن المعلومات يعتمد عليها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وثوقٌ بها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business activities are performed efficient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أن الأنشطة التجارية أُنجزت بشكل فعّال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guard organizational assets.   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ماية أصول المنشأ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wo important methods for accomplishing these objectiv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طرقتان المهمتان لتحقيق تلك الأهداف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 for adequate documentation of all business activ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زود بالتوثيق الملائم لكل الأنشطة التجاري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ign the AIS for effective segregation of du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صميم نظام معلومات محاسبي فعّال في فصل الواجبات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575C5-95F6-4155-96E2-254C8CDD38D2}" type="slidenum">
              <a:t>20</a:t>
            </a:fld>
          </a:p>
        </p:txBody>
      </p:sp>
    </p:spTree>
  </p:cSld>
  <p:transition>
    <p:blinds dir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0106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equate Documentation     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وثيق الملائ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447560" y="91440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ation allows management to verify that assigned responsibilities were completed correctl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وثيق يتيح للإدارة للتحقق من أن المسؤوليات المخصصة (المحددة) أنجزت بشكل صحيح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2438280"/>
            <a:ext cx="7010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regation of Duties           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صل الواجبات</a:t>
            </a:r>
            <a:endParaRPr b="0" lang="en-US" sz="3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28954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3048120"/>
            <a:ext cx="746784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regation of duties refers to dividing responsibility for different portions of a transaction among several people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صل الواجبات تعزى إلى تقسيم المسؤوليات لمختلف أجزاء الحدث التجاري بين عدّة أشخاص.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 that should be performed by different people: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وظائف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هام الواجب إنجازها من قبل الأشخاص المختلفين: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rizing transactions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فويض بالأحداث التجارية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rding transactions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سجيل الأحداث التجارية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taining custody of assets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احتفاظ برعاية الأصول</a:t>
            </a:r>
            <a:endParaRPr b="0" lang="en-US" sz="2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0F48D-81D7-4911-A538-656E8AB23221}" type="slidenum">
              <a:t>21</a:t>
            </a:fld>
          </a:p>
        </p:txBody>
      </p:sp>
    </p:spTree>
  </p:cSld>
  <p:transition>
    <p:blinds dir="ver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vide management with information useful for decision mak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زويد الإدارة بمعلومات نافعة في اتخاذ القرار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anual systems, this information is provided in the form of reports that fall into two main categor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في النظام اليدوي يتم تزويد هذه المعلومات على شكل تقارير تقع ضمن فئتان رئيستان هما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ncial statements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كشوف المالية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550"/>
              </a:spcBef>
              <a:buClr>
                <a:srgbClr val="cccc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ial reports (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قارير الإدارية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523880" y="419040"/>
            <a:ext cx="7467840" cy="8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ree Basic Functions Performed by an A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ثلاثة وظائف الأساسية التي يؤديه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F51B6-B680-483A-9F71-0E795F2D122A}" type="slidenum">
              <a:t>3</a:t>
            </a:fld>
          </a:p>
        </p:txBody>
      </p:sp>
    </p:spTree>
  </p:cSld>
  <p:transition advTm="4000">
    <p:blinds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52280" y="1752480"/>
            <a:ext cx="8686800" cy="381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rovide adequate internal control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زويد بمراقبة داخلية ملائمة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the information produced by the system is reli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أن المعلومات الناتجة عن النظام يعتمد عليها (موثوقٌ بها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sure that business activities are performed efficiently and in accordance with management’s objectiv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أكد من أن الأنشطة التجارية أنجزت بشكل فعّال ومنسجم مع أهداف الإدار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feguard organizational asse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حماية أصول المنشأ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523880" y="30456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hree Basic Functions Performed by an A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ثلاثة وظائف الأساسية التي يؤديه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902E4-7308-44E4-A3C7-CD32962C684D}" type="slidenum">
              <a:t>4</a:t>
            </a:fld>
          </a:p>
        </p:txBody>
      </p:sp>
    </p:spTree>
  </p:cSld>
  <p:transition advTm="5000">
    <p:blinds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70106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ubsystems in the AIS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نظمة الفرعية الأساسية في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55400" indent="-4554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revenue cycl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lves activities of selling goods or services and collecting payment for those sa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إيرادات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بيع البضائع والخدمات وتحصيل التسديدات لتلك المبيعات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expenditure cycle: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olves activities of buying and paying for goods or services used by the organiz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مصروفات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شراء البضائع والخدمات المستخدمة من قبل المنشأة، وتسديد ثمنها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human resources/payroll cycl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lves activities of hiring and paying employe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400" indent="-4554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موارد البشرية/رواتب العاملين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تعيين ودفع رواتب الموظفي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F0355-7B83-46F9-B34B-DDF261A99E08}" type="slidenum">
              <a:t>5</a:t>
            </a:fld>
          </a:p>
        </p:txBody>
      </p:sp>
    </p:spTree>
  </p:cSld>
  <p:transition advTm="4000">
    <p:blinds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228600" y="20574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-57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production cycl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lves activities converting raw materials and labor into finished good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إنتاج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تحويل للمواد الخام والعمالة إلى بضائع جاهز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he financing cycle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volves activities of obtaining necessary funds to run the organization, repay creditors, and distribute profits to investo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 u="sng">
                <a:solidFill>
                  <a:srgbClr val="000000"/>
                </a:solidFill>
                <a:uFillTx/>
                <a:latin typeface="Times New Roman"/>
                <a:cs typeface="Times New Roman"/>
              </a:rPr>
              <a:t>دورة التمويل: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وتشمل عمليات الحصول على الاعتمادات المالية اللازمة لتشغيل المنشأة، وتسديد المقرضين، وتوزيع الأرباح على المستثمري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ubsystems in the AIS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نظمة الفرعية الأساسية في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C51E4-3ED6-4985-8F24-2D3B415524C7}" type="slidenum">
              <a:t>6</a:t>
            </a:fld>
          </a:p>
        </p:txBody>
      </p:sp>
    </p:spTree>
  </p:cSld>
  <p:transition advTm="3000">
    <p:blinds dir="ver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1371600" y="1752480"/>
            <a:ext cx="6781320" cy="3733560"/>
            <a:chOff x="1371600" y="1752480"/>
            <a:chExt cx="6781320" cy="3733560"/>
          </a:xfrm>
        </p:grpSpPr>
        <p:sp>
          <p:nvSpPr>
            <p:cNvPr id="108" name=""/>
            <p:cNvSpPr/>
            <p:nvPr/>
          </p:nvSpPr>
          <p:spPr>
            <a:xfrm>
              <a:off x="3691440" y="1752480"/>
              <a:ext cx="2141280" cy="100764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Expenditure Cycle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دورة المصروفات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011640" y="1752480"/>
              <a:ext cx="2141280" cy="100764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Human Resources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الموارد البشرية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82480" y="4478760"/>
              <a:ext cx="2141280" cy="100728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Production Cycle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دورة الإنتاج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0400" y="4478760"/>
              <a:ext cx="2141280" cy="100728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Revenue Cycle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دورة الإيرادات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371600" y="1752480"/>
              <a:ext cx="2141280" cy="100764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1a1a00"/>
                  </a:solidFill>
                  <a:latin typeface="Times New Roman"/>
                </a:rPr>
                <a:t>Financing Cycle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1800" spc="-1" strike="noStrike">
                  <a:solidFill>
                    <a:srgbClr val="1a1a00"/>
                  </a:solidFill>
                  <a:latin typeface="Times New Roman"/>
                </a:rPr>
                <a:t>دورة التمويل</a:t>
              </a:r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47160" y="3293640"/>
              <a:ext cx="5829840" cy="888840"/>
            </a:xfrm>
            <a:prstGeom prst="ellipse">
              <a:avLst/>
            </a:prstGeom>
            <a:solidFill>
              <a:srgbClr val="99cccc"/>
            </a:solidFill>
            <a:ln w="1260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a1a00"/>
                  </a:solidFill>
                  <a:latin typeface="Times New Roman"/>
                </a:rPr>
                <a:t>General Ledger &amp; Reporting System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000" spc="-1" strike="noStrike">
                  <a:solidFill>
                    <a:srgbClr val="1a1a00"/>
                  </a:solidFill>
                  <a:latin typeface="Times New Roman"/>
                </a:rPr>
                <a:t>الأستاذ العام  </a:t>
              </a:r>
              <a:r>
                <a:rPr b="0" lang="ar-JO" sz="2000" spc="-1" strike="noStrike">
                  <a:solidFill>
                    <a:srgbClr val="1a1a00"/>
                  </a:solidFill>
                  <a:latin typeface="Times New Roman"/>
                </a:rPr>
                <a:t>+  </a:t>
              </a:r>
              <a:r>
                <a:rPr b="0" lang="ar-SA" sz="2000" spc="-1" strike="noStrike">
                  <a:solidFill>
                    <a:srgbClr val="1a1a00"/>
                  </a:solidFill>
                  <a:latin typeface="Times New Roman"/>
                </a:rPr>
                <a:t>ونظام التقارير</a:t>
              </a:r>
              <a:endParaRPr b="0" lang="en-US" sz="20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442240" y="2761200"/>
              <a:ext cx="0" cy="70992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453480" y="4124160"/>
              <a:ext cx="0" cy="35424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82280" y="2761200"/>
              <a:ext cx="0" cy="70992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762440" y="2761200"/>
              <a:ext cx="0" cy="53208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6076080" y="4124160"/>
              <a:ext cx="0" cy="354240"/>
            </a:xfrm>
            <a:prstGeom prst="line">
              <a:avLst/>
            </a:prstGeom>
            <a:ln w="12600">
              <a:solidFill>
                <a:srgbClr val="33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66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010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ubsystems in the AIS</a:t>
            </a:r>
            <a:br>
              <a:rPr sz="2800"/>
            </a:br>
            <a:r>
              <a:rPr b="0" lang="ar-SA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نظمة الفرعية الأساسية في نظام المعلومات المحاسبي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09498-C303-4B1E-9994-2478CCD76FDE}" type="slidenum">
              <a:t>7</a:t>
            </a:fld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380880"/>
            <a:ext cx="701064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ata Processing Cycle</a:t>
            </a:r>
            <a:br>
              <a:rPr sz="3000"/>
            </a:b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ة معالجة البيان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data processing cycle consists of four step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تألف دورة معالجة البيانات من خمسة خطوات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input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إدخال البيان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storage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خزين البيان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ocessing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عالجة البيان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Output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خراج المعلوم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rigger for data input is usually business activity.  Data must be collected abou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r" rtl="1">
              <a:lnSpc>
                <a:spcPct val="8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مصدر البيانات عادة ما يكون الأنشطة التجارية. ويجب جمع البيانات عن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event of interest  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كل حدث ذا أهمية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ources affected by each event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صادر المتأثرة بكل حدث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gents who participate in each event </a:t>
            </a:r>
            <a:r>
              <a:rPr b="0" lang="ar-JO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عملاء المشاركين في كل حدث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84500-C40D-4881-A17D-6422E19D4FD6}" type="slidenum">
              <a:t>8</a:t>
            </a:fld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Processing Cycle: Data Input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ar-SA" sz="3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دورة معالجة البيانات: إدخال البيانات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storically, most businesses used paper source documents to collect data and then transferred that data into a comput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تاريخياً، معظم الأعمال التجارية استخدمت وثائق أصلية ورقية لتجميع البيانات ومن ثم نقلها على الحاسب الآلي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day, most data are recorded directly through data entry scree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r" rtl="1">
              <a:lnSpc>
                <a:spcPct val="100000"/>
              </a:lnSpc>
              <a:spcBef>
                <a:spcPts val="55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يوم، يتم تسجيل معظم البيانات من خلال شاشات إدخال مباشرة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over data collection is improved by:  </a:t>
            </a:r>
            <a:r>
              <a:rPr b="0" lang="ar-SA" sz="20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سيطرة على تجميع البيانات تحسن ب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numbering each source document  and using turnaround docu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r" rtl="1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ترقيم المسبق لكل وثيقة أصلية واستخدام إعادة الوثائ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ing the system automatically assign a sequential number to each new transaction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جعل النظام يعين رقماً تسلسلي لكل حدت جدي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ploying source data automation - </a:t>
            </a:r>
            <a:r>
              <a:rPr b="0" lang="ar-SA" sz="22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ستخدام مصدر آلي للبيانات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F601C-8BA6-4533-A161-8A4EEFE5CFE6}" type="slidenum">
              <a:t>9</a:t>
            </a:fld>
          </a:p>
        </p:txBody>
      </p:sp>
    </p:spTree>
  </p:cSld>
  <p:transition advTm="5000">
    <p:blinds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17:18:51Z</dcterms:created>
  <dc:creator>S. Bhattacharya</dc:creator>
  <dc:description/>
  <dc:language>en-US</dc:language>
  <cp:lastModifiedBy>dr-mahmood</cp:lastModifiedBy>
  <cp:lastPrinted>2004-09-25T05:48:13Z</cp:lastPrinted>
  <dcterms:modified xsi:type="dcterms:W3CDTF">2005-03-04T04:55:49Z</dcterms:modified>
  <cp:revision>112</cp:revision>
  <dc:subject/>
  <dc:title>Accounting  Information  Systems 9th Edition</dc:title>
</cp:coreProperties>
</file>