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9ADA-FB76-4200-8E5D-1618D479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C58E-D3F0-4BEC-BB97-6D149BFD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D83C-C818-445D-AFA0-F989EAA0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CDCA-6055-466F-B718-913B5AF6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BC5E-FCBF-42B7-8F70-FC2BCEF1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694-26E5-4D3C-A260-F657EA78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1C4F-05B8-4DD3-AC00-C671C704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2395-7AF7-4935-B323-B813724F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EDA8-94CE-4338-8B4D-A30C04ED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990F-CD72-44E2-9F9F-4178D596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524D-948B-43E9-82D6-6006014F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E617-C192-4738-818D-494D23D4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0969-FA9B-4010-8F88-83A1585843B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C737-55BC-4791-9C97-C7745E5B7EE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فعالية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كموصل جيد للمعلوم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781200" y="2809800"/>
          <a:ext cx="7772400" cy="839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2809800"/>
                    <a:ext cx="7772400" cy="83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6224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505D-1278-4792-A648-FBA4F7AE0966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11280" y="2311560"/>
          <a:ext cx="8353440" cy="83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11560"/>
                    <a:ext cx="8353440" cy="83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018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6672-94F9-489C-B950-278402FF7ECC}" type="slidenum">
              <a:t>1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1760" y="2434320"/>
            <a:ext cx="7534800" cy="30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33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شمولية (الحد الأدنى من المعلومات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اعتماد المستفيدين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قراءة كل جزء من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فهم محتويات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981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ؤشرات فعالية التقارير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8573-93F9-47D5-B508-E9BF543D006A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4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 (العرض والافصا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de7b1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ا هو الافصاح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معلومات المهمة للمستفيدين من التقارير المالية بطريقة تساعد على التنبؤ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أو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قوائم المالية بكل وضوح طبقا للمبادئ المحاسبية المتعارف علي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A211-1292-4FAE-9017-76F19122E222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ية العرض والإفصا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يحقق عدد من المزاي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مداد المستفيدين بالمعلومات عن المنشأة أو المشروع وبالتالي ترشيد عملية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ستخدام الموارد الاقتصادية المتاحة بكفاءة وفعالية، بمعنى آخر يساعد على تخصيص وإعادة تخصيص الموارد بين المنشآت الاقتصا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7EB4-9FC6-4614-ADDA-07C6D8661F38}" type="slidenum">
              <a:t>4</a:t>
            </a:fld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736200"/>
            <a:ext cx="7772760" cy="835200"/>
          </a:xfrm>
          <a:prstGeom prst="rect">
            <a:avLst/>
          </a:prstGeom>
          <a:solidFill>
            <a:srgbClr val="fde7b1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افص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37640" y="2185200"/>
            <a:ext cx="2182320" cy="96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48680" y="2257920"/>
            <a:ext cx="1960920" cy="894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بيئ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10360" y="3971880"/>
            <a:ext cx="2514600" cy="212112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قتصا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جتماع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ياس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انونية (قوانين الشركات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3997440"/>
            <a:ext cx="2514600" cy="209556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55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لائمة المعلومات لاتخاذ القرارات (خصائص المعلومات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2600" y="4016520"/>
            <a:ext cx="2590560" cy="207648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جم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داول الاس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43480" y="2133720"/>
            <a:ext cx="228600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308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3206880"/>
            <a:ext cx="646200" cy="726840"/>
          </a:xfrm>
          <a:prstGeom prst="downArrow">
            <a:avLst>
              <a:gd name="adj1" fmla="val 50000"/>
              <a:gd name="adj2" fmla="val 2812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93720" y="3213000"/>
            <a:ext cx="601920" cy="792360"/>
          </a:xfrm>
          <a:prstGeom prst="downArrow">
            <a:avLst>
              <a:gd name="adj1" fmla="val 50000"/>
              <a:gd name="adj2" fmla="val 3291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02080" y="3213000"/>
            <a:ext cx="601560" cy="792360"/>
          </a:xfrm>
          <a:prstGeom prst="downArrow">
            <a:avLst>
              <a:gd name="adj1" fmla="val 50000"/>
              <a:gd name="adj2" fmla="val 32929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9E35-CDF5-48E5-B29D-5EB3B828C47E}" type="slidenum">
              <a:t>5</a:t>
            </a:fld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920" y="1819440"/>
          <a:ext cx="9304200" cy="83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1819440"/>
                    <a:ext cx="9304200" cy="83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019920" y="63849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52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0146-3E54-44E1-8C62-3F5995095362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6560" y="2860560"/>
          <a:ext cx="8498160" cy="805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860560"/>
                    <a:ext cx="8498160" cy="805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43496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890-8B12-42F3-86E6-6AC52C54B7B9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68360" y="2300400"/>
          <a:ext cx="8424720" cy="84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00400"/>
                    <a:ext cx="8424720" cy="84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859A-F9A1-4F0F-B180-179ACE16E214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68360" y="2133720"/>
          <a:ext cx="8136000" cy="83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136000" cy="83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1E35-34B5-461A-9909-7F13E77F1343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3:05:20Z</dcterms:modified>
  <cp:revision>28</cp:revision>
  <dc:subject/>
  <dc:title>التحليل المالي والائتماني</dc:title>
</cp:coreProperties>
</file>