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F839-1EC8-430A-B26D-E4481CAA5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6F0A-B27A-402D-BFB7-039AE5E0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33D7-02F8-4A1D-8969-073BF7921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B8EA-765F-443B-BF4A-D35490D00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BCDC-D71F-4D37-B219-3E018E74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4CC7-EB75-486B-875A-AD94A515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B6A6-DEE3-4CF4-B36F-89B4CD84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AACB-A6F0-46D5-8556-FCD9F6B0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8FB0-4E50-4102-AAF0-9CA3995F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79C3-BDB4-4C32-9135-12EFC770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9F59-89C7-4DBA-A6C6-E80044C4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8C74-0513-4649-9F03-173F643A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8424-CAD5-4F2C-8FE8-9E1D7B4E4A1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420640"/>
            <a:ext cx="6400800" cy="2305080"/>
          </a:xfrm>
          <a:prstGeom prst="rect">
            <a:avLst/>
          </a:prstGeom>
          <a:solidFill>
            <a:srgbClr val="ffe98d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تاس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 المحاسبية ونظريات الاستثمار الحديث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C855-9FF5-4848-BD21-51BCF74E896E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1023480"/>
            <a:ext cx="7772760" cy="9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ظرية محفظة الاوراق المالية والمعلومات المحاسب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2813040"/>
            <a:ext cx="7839000" cy="27036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50000">
                <a:srgbClr val="ccccff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قوم على أساس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نظرية المنفعة في اختيار البدائل الممك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ظرية الاحتمالات لتقدير العائد المتوقع من كل قرار استثمار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5790-ABAF-4900-B1A6-399E8FA6519B}" type="slidenum">
              <a:t>10</a:t>
            </a:fld>
          </a:p>
        </p:txBody>
      </p:sp>
    </p:spTree>
  </p:cSld>
  <p:transition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4360" y="1700280"/>
            <a:ext cx="7772760" cy="67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ed4c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فروض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ن</a:t>
            </a:r>
            <a:r>
              <a:rPr b="0" lang="ar-SA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ظرية محفظة الاوراق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3298680"/>
            <a:ext cx="7848720" cy="25783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خذ العائد المتوقع والخاطرة في الاعتب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ختيار المحفظة الكف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وزيع العائد عند مستوى م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ن من المخاط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مخاطرة تتناسب طرديا مع العائ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D8C8-96B3-4DFF-BE9C-368CC52FB263}" type="slidenum">
              <a:t>11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1144440"/>
            <a:ext cx="7772760" cy="707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نواع المخاط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78400" y="2472480"/>
            <a:ext cx="2849400" cy="9630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غير منتظ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43840" y="2471760"/>
            <a:ext cx="2631600" cy="94716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منتظمة (دوري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560" y="3959280"/>
            <a:ext cx="2668680" cy="220644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ي التي تؤثر في جميع الاوراق المالية ولا يمكن تجنبها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8200" y="3981600"/>
            <a:ext cx="2971800" cy="21970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ي التي تؤثر على العائد من نوع معين من الاستثمار ويمكن تجنبها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2720" y="352908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43640" y="350028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C89E-4516-44E8-845E-27322AFE2486}" type="slidenum">
              <a:t>12</a:t>
            </a:fld>
          </a:p>
        </p:txBody>
      </p:sp>
    </p:spTree>
  </p:cSld>
  <p:transition>
    <p:random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914400"/>
            <a:ext cx="7804440" cy="9082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ffff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راحل اتخاذ القر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2706840"/>
            <a:ext cx="7775280" cy="324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حديد المشك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حديد البدائل الممك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جمع 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قييم البدائ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ختيار البديل المناس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364D-D3EF-441F-8384-1930FE9B0870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780840"/>
            <a:ext cx="7772760" cy="907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ليل الاساس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2492280"/>
            <a:ext cx="7848360" cy="14274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cccc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هتمام بالارباح المتوقعة ونصيب السهم منها والمخاط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4363920"/>
            <a:ext cx="7775280" cy="17290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cccc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راحل التحليل الأساسي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منشأ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صناعة التي ينتمي إليها المشرو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نشاط الاقتصادي الك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11592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08A5-8332-423A-A482-4089E66ACD9B}" type="slidenum">
              <a:t>3</a:t>
            </a:fld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1419120"/>
            <a:ext cx="7772760" cy="908280"/>
          </a:xfrm>
          <a:prstGeom prst="rect">
            <a:avLst/>
          </a:prstGeom>
          <a:solidFill>
            <a:srgbClr val="cccc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ليل الفن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3360600"/>
            <a:ext cx="7704000" cy="194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هتم بدراسة السوق التي يتم الاستثمار فيها مثل سوق الاوراق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44C5-8EDC-4696-A3E7-049DF0E30EF1}" type="slidenum">
              <a:t>4</a:t>
            </a:fld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844560"/>
          </a:xfrm>
          <a:prstGeom prst="rect">
            <a:avLst/>
          </a:prstGeom>
          <a:solidFill>
            <a:srgbClr val="ccccff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ور المعلومات المحاسبية في العم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2421000"/>
            <a:ext cx="3581640" cy="8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ليل الاساس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4021200"/>
            <a:ext cx="35812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ليل الفن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468760"/>
            <a:ext cx="42670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ختيار الاستثمار الافض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279396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98d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25520" y="430704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98d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AADB-63BA-473E-B137-B2D5055B9649}" type="slidenum">
              <a:t>5</a:t>
            </a:fld>
          </a:p>
        </p:txBody>
      </p: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755640" y="1268280"/>
            <a:ext cx="7772760" cy="960120"/>
          </a:xfrm>
          <a:prstGeom prst="rect">
            <a:avLst/>
          </a:prstGeom>
          <a:solidFill>
            <a:srgbClr val="ccccff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ظرية السوق الكفء والمعلومات المحاسب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5640" y="3139920"/>
            <a:ext cx="7778880" cy="2953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e6dcac"/>
              </a:gs>
              <a:gs pos="100000">
                <a:srgbClr val="ccecff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هتم ببيان أثر المعلومات على أسعار الاوراق المالية في السوق ودراسة سلوك المستثمرين تجاه كل معلومة تنش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السوق الكفء هو الذي يتكيف أولا بأول لكل معلومة يتم نشرها وبالتالي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عكس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ثرها ع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ى أسعار الاوراق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6F3A-E9D5-4FAE-B5E5-24F77E63C5ED}" type="slidenum">
              <a:t>6</a:t>
            </a:fld>
          </a:p>
        </p:txBody>
      </p: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952200"/>
            <a:ext cx="7772760" cy="691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قوم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56640" y="2375640"/>
            <a:ext cx="2447280" cy="520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187680" y="2375640"/>
            <a:ext cx="2316960" cy="520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سو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27640" y="3284640"/>
            <a:ext cx="2314800" cy="280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ن حيث الآلية التي يعمل بها السو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3305160"/>
            <a:ext cx="2438280" cy="28605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رجة الفهم  الاستفادة من المعلومات المنشور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9720" y="3284640"/>
            <a:ext cx="2448000" cy="2936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جر الزاوية في الحكم على كفاءة السو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وعيتها(تاريخية، حالية،داخلية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  مالية ..الخ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وافر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صادرها وتكلفتها ودق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09920" y="2347920"/>
            <a:ext cx="2457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ثمر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9807-0277-4C76-8670-21E564036D88}" type="slidenum">
              <a:t>7</a:t>
            </a:fld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427640" y="2349360"/>
            <a:ext cx="288720" cy="8636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490760"/>
            <a:ext cx="7772760" cy="6202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78200" y="2765160"/>
            <a:ext cx="2165040" cy="62532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غير 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814720" y="2770200"/>
            <a:ext cx="2166840" cy="62064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53240" y="4032360"/>
            <a:ext cx="2190600" cy="191772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اريخ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قب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57320" y="4011480"/>
            <a:ext cx="2087640" cy="19098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اريخ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قب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4388400" y="1818360"/>
            <a:ext cx="279720" cy="25192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93960" y="347184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34160" y="348624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2B86-F5F0-46A4-9568-AD32983FBE9E}" type="slidenum">
              <a:t>8</a:t>
            </a:fld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6084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620640"/>
            <a:ext cx="7772760" cy="691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ويات السوق الكف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14600" y="1945080"/>
            <a:ext cx="2228400" cy="53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ادن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188760" y="1876680"/>
            <a:ext cx="2237040" cy="598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اعلى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27640" y="2911320"/>
            <a:ext cx="2232000" cy="18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جميع المعلومات المالية وغير المالية المتاح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1080" y="2924280"/>
            <a:ext cx="2303280" cy="181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المعلومات التاريخية والح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2868480"/>
            <a:ext cx="2232000" cy="187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المعلومات التاريخية فق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1080" y="1916280"/>
            <a:ext cx="2303280" cy="59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متوس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56360" y="5029200"/>
            <a:ext cx="237636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صعب التحقق لصعوبة التماث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5027760"/>
            <a:ext cx="244800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غير مقبول لصعوبة تحديد الاسعار بناء على معلومات تاريخ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5027760"/>
            <a:ext cx="237636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مقبول بشكل واس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40360" y="11592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2CFF-B41E-45C2-8AC1-BEA0AC6CB784}" type="slidenum">
              <a:t>9</a:t>
            </a:fld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2:45:21Z</dcterms:modified>
  <cp:revision>37</cp:revision>
  <dc:subject/>
  <dc:title>التحليل المالي والائتماني</dc:title>
</cp:coreProperties>
</file>