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D81C-DAFD-42B7-AECA-E4442746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14B5-BEE5-4139-BB54-3FC59630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9D0-F456-4939-8888-DE5D0DD7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B676-3B75-4594-8CA2-D523F827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F6E2-5F6D-43D6-8FAC-C4B144F6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84B1-6322-4FCD-A1DF-667CDB5A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E2A-F9B1-4405-83E2-869F7DF4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84D1-F7F7-4E8A-9769-EC60A2DE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1236-F3B4-434E-80FF-F3233F96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3776-3F70-4AA6-A920-554E9242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8C9D-246A-4E0C-BABB-A1D5E41E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3F18-9B1C-44F8-A157-302AA99F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6109-07BD-4A9B-876F-9F0628BF0E9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فصل الاو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ماهية التقارير الما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المستفيدون منه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أهداف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41600" y="1333440"/>
            <a:ext cx="7660800" cy="1031400"/>
          </a:xfrm>
          <a:prstGeom prst="rect">
            <a:avLst/>
          </a:prstGeom>
          <a:solidFill>
            <a:srgbClr val="ebd1a1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هدف من التقارير الم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9080" y="3130920"/>
            <a:ext cx="7580160" cy="2251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ظهار نتيجة نشاط المنشأة والمركز المالي والتغيرات في المركز المالي بكل عدالة ووضوح في ضوء المبادئ المحاسبية المقبو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إمداد المستفيدين بمعلومات موثوق بها عن نشاط المنشأة ومركزها المال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771480"/>
            <a:ext cx="7772760" cy="9082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خصائص النوعية ل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5040" y="2421000"/>
            <a:ext cx="3181320" cy="386856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لائ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دم التحي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ابلية للف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وقي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ار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5F99-02CF-4395-97A5-4D1E2D99B7CE}" type="slidenum">
              <a:t>11</a:t>
            </a:fld>
          </a:p>
        </p:txBody>
      </p:sp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764640"/>
            <a:ext cx="7772760" cy="12002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هدف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2320" y="2973240"/>
            <a:ext cx="5486400" cy="32641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نظمات المه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جهات المشرفة على البورص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نظام الاقتصادي الس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ضخ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دخل الحكو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EB04-D376-43A3-9725-706D4EBFC52D}" type="slidenum">
              <a:t>12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8960" y="1410480"/>
            <a:ext cx="7693200" cy="71784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37000"/>
            <a:ext cx="7775280" cy="35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كلفة التاريخ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خصص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تعدد 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عدم اشتمالها على بعض الأصول (الموارد البش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لغة التي تعد على أساسها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41600" y="1617480"/>
            <a:ext cx="7660800" cy="1031400"/>
          </a:xfrm>
          <a:prstGeom prst="rect">
            <a:avLst/>
          </a:prstGeom>
          <a:solidFill>
            <a:srgbClr val="eaeaea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دف المقر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25400" y="3486960"/>
            <a:ext cx="7607520" cy="1764360"/>
          </a:xfrm>
          <a:prstGeom prst="rect">
            <a:avLst/>
          </a:prstGeom>
          <a:solidFill>
            <a:srgbClr val="eaeaea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مكين الدارسين من التعرف على الأساليب العلمية المستخدمة في تحليل وتفسير القوائم المالية (التحليل المالي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6237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638440"/>
            <a:ext cx="7989840" cy="31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a7ff"/>
              </a:gs>
              <a:gs pos="50000">
                <a:srgbClr val="ffffff"/>
              </a:gs>
              <a:gs pos="100000">
                <a:srgbClr val="d3a7ff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جزء لا يتجزأ من التقارير الما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تبر القوائم المالية عصب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قارير المالية أعم من القوائم المالية فهي تشمل التقارير المالية ومعلومات أخرى مالية وغير مالية مثل المعلومات عن النشاط التسويقي والإنتاجي للمنشأة وتقرير مجلس الإدارة وتقرير المراجع الخارجي ...ال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ئولية المراجع فقط عن القوائم المالية والملاحظات المرفقة ب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الفرق بين التقارير المالية والقوائم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1ACD-539B-42E3-9940-BA6AEE393210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03640" y="2016000"/>
            <a:ext cx="3581640" cy="7653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0320" y="609120"/>
            <a:ext cx="7772400" cy="1143000"/>
          </a:xfrm>
          <a:prstGeom prst="rect">
            <a:avLst/>
          </a:prstGeom>
          <a:solidFill>
            <a:srgbClr val="ccccff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3105000"/>
            <a:ext cx="3529080" cy="828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مراج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46360" y="4221000"/>
            <a:ext cx="3581280" cy="866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مجلس الادا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300640"/>
            <a:ext cx="4267440" cy="8380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ادارة التنفيذ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15920"/>
            <a:ext cx="42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B7AF-F6BC-4793-8A45-04247D4F7E88}" type="slidenum">
              <a:t>4</a:t>
            </a:fld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280" y="549000"/>
            <a:ext cx="7993440" cy="69012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ولاً: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0200" y="2671560"/>
            <a:ext cx="3819600" cy="6490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فاهيم التي تؤثر على شكل ومحتوى القوائم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2673360"/>
            <a:ext cx="3168720" cy="6494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ناصر 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3836880"/>
            <a:ext cx="316692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صول (الموجود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لتزامات (المطلوب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يراد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صروف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في الدخ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3836880"/>
            <a:ext cx="180036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دو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حقق الإيرا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قاب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وحدة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اس النقد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838680"/>
            <a:ext cx="1873080" cy="23986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كلفة التاريخ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فصا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همية النسب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فظ (الحيطة والحذ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601640"/>
            <a:ext cx="7993080" cy="7192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ائمة المركز المالي – قائمة الدخل – قائمة التدفقات النقدية – قائمة الأرباح المحتج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32720" y="3429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465E-BA20-446E-A99F-146F51B5D497}" type="slidenum">
              <a:t>5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نياً: تقرير مراقب الحساب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نتيجة الفحص للقوائم المالية من حيث مدى دقة المعلومات التي تحتويها ومدى تمثيلها بصدق وعدالة للمركز المالي للمشروع ونتيجة نشاط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0C4B-4364-400B-8083-F84DC250A3E8}" type="slidenum">
              <a:t>6</a:t>
            </a:fld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لثاً: تقرير مجلس الإد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عامة عن المنشأة وأهدافها ومركزها المالي والتسويقي، ومعلومات عن الإنتاج ودرجة نمو المبيعات والأرباح والعوامل المؤثرة في نشاط المنشأة مستقبلا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لا تخضع المعلومات الواردة فيه لمراجعة مراقب الحسابا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ADB-5CE3-4DAD-86AF-88C59F87BD3E}" type="slidenum">
              <a:t>7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ابعاً: تقرير الإدارة التنفيذ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أكثر تفصيلاً من تقرير مجلس الإدارة، كالأصول والالتزامات وحقوق الملكية والتغيرات التي حدثت عليها خلال السنة المالية، ومعلومات عن العقود الجديدة وسياسة توزيع الأرباح والعاملين والخدمات المقدمة له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لزامي في بعض الدول كبريطاني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D225-A282-437B-A93E-29B6173C5C52}" type="slidenum">
              <a:t>8</a:t>
            </a:fld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704880"/>
            <a:ext cx="7772400" cy="1571760"/>
          </a:xfrm>
          <a:prstGeom prst="downArrowCallout">
            <a:avLst>
              <a:gd name="adj1" fmla="val -122318"/>
              <a:gd name="adj2" fmla="val 123626"/>
              <a:gd name="adj3" fmla="val 16667"/>
              <a:gd name="adj4" fmla="val 6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فيدون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2492280"/>
            <a:ext cx="5040360" cy="35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d1a1"/>
              </a:gs>
              <a:gs pos="50000">
                <a:srgbClr val="ffffff"/>
              </a:gs>
              <a:gs pos="100000">
                <a:srgbClr val="ebd1a1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إدارة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لاك المنشأة والمستثمرون المحتم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دائنو المنشأة و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جهات الحك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راكز الدراسات والبحو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4DD4-0B6A-4EB4-BE14-850073DDBA41}" type="slidenum">
              <a:t>9</a:t>
            </a:fld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2:41:08Z</dcterms:modified>
  <cp:revision>21</cp:revision>
  <dc:subject/>
  <dc:title>التحليل المالي والائتماني</dc:title>
</cp:coreProperties>
</file>