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FB2-A9DC-4D28-A024-DF07452D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9C1-51CB-4407-B11B-8FBA4990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4F9-ECBE-4784-AB2A-732B8EA9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C478-9E3D-4EAA-84C4-ABAA0309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A8F-F51C-4597-8144-0CE57347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13D-5555-4D82-8CBA-D5B4179B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8B9B-780A-464D-BA5D-2CE0AEB1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F5C7-B83F-4325-88B6-FB3B6B42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B2A-76DC-4AA0-B8B6-E220D800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A95-54AD-44F5-A89E-90CA6B13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32D4-E22D-456C-A564-A79EAE76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7AF3-FA3F-4151-BCDB-9C5699CA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0A92-FC72-41BE-B949-8AD67080C25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د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وحدود الاستفادة من النسب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6D2-42EB-4DFB-9F44-6F635E907D31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879480"/>
            <a:ext cx="7772760" cy="69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2421000"/>
            <a:ext cx="369720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رارات شراء أو بيع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ربحية والسي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3747960"/>
            <a:ext cx="273672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ارباح المحققة (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EPS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ي الرب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3718080"/>
            <a:ext cx="2521080" cy="20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عائد الحقيقي لل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بلغ الموز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ة السوق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716280"/>
            <a:ext cx="2592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5300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5720" y="4970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70E-05AD-45D8-8E13-649370B07C5F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809640"/>
            <a:ext cx="7772760" cy="78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دائنون والبن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514600"/>
            <a:ext cx="44654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مساعدة على منح الائتمان من عدم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930480"/>
            <a:ext cx="7488360" cy="223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سب القروض الى حقوق المساهم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تدا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خز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دين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D3CF-3AA2-4AA9-8073-DA3C23027768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985680"/>
            <a:ext cx="7772760" cy="716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دارة المنشأ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16320"/>
            <a:ext cx="7775280" cy="367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نصيب السهم من الأر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العائد على حقوق المل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قروض الى حقوق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رأس ال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اص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AC0-15D3-481A-A926-BECA1D3BD3A0}" type="slidenum">
              <a:t>4</a:t>
            </a:fld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275840"/>
            <a:ext cx="7772760" cy="71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احص الضري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900520"/>
            <a:ext cx="8001000" cy="2328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سترشاد بالنسب المالية للمساعدة على الاطمئنان الى صحة 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ص الرواتب ومقارنتها باجمالي الدخل ومقارنتها مع السنة الساب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0E9-533C-44DF-A76E-734BB508A6F6}" type="slidenum">
              <a:t>5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56960"/>
            <a:ext cx="7772760" cy="74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429000"/>
            <a:ext cx="7848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اعدة في ابداء الرأ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9B3-8E3F-4DF5-8FE4-FF17C15CF30E}" type="slidenum">
              <a:t>6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915920"/>
            <a:ext cx="777276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خيرا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500280"/>
            <a:ext cx="777528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من النسب المالية في الت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ؤ بنجاح أو ف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25F-1A0E-4834-90F8-644FA5F7CDE7}" type="slidenum">
              <a:t>7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907920"/>
            <a:ext cx="7772400" cy="1081080"/>
          </a:xfrm>
          <a:prstGeom prst="downArrowCallout">
            <a:avLst>
              <a:gd name="adj1" fmla="val -177836"/>
              <a:gd name="adj2" fmla="val 179737"/>
              <a:gd name="adj3" fmla="val 16667"/>
              <a:gd name="adj4" fmla="val 6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استفادة من التحليل الم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2205000"/>
            <a:ext cx="7775280" cy="37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سياسات و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بي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حجم المشرو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صناع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طبيعة النسب المالية وتركيب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حلل المال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ستفيدين من التحليل الم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4544-2C94-46EB-A7CE-8E77C355003A}" type="slidenum">
              <a:t>8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57:27Z</dcterms:modified>
  <cp:revision>28</cp:revision>
  <dc:subject/>
  <dc:title>التحليل المالي والائتماني</dc:title>
</cp:coreProperties>
</file>