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180E-6C06-4050-A60D-5E4F954B4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FC47-2D0C-42EB-845B-0381898B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80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432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80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987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2280" y="3987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432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987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432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5-</a:t>
            </a:r>
            <a:fld id="{A76B3E29-38B1-46F0-9EE9-72C43EF0018F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Costing an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d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(Peanut Butter)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anut Butter Costing Approach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traditional costing approach which uses broad averages to spread costs among products and services even though the resources are are consumed in a non-uniform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eads to overcosting and undercosting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48 - 1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1148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 cross-subsid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some products are overcosted, other products are undercos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overcosted products are subsidizing the undercosted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ining a Co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-51444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things to consider to improve an existing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-cost trac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 the amount of indirect costs by classifying more costs as 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-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and the number of indirect-cost pools until the costs in each pool are homogeneo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allocation bas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sider using a different cost-allocation base for each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285840"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sed on what causes the cost pool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y-Based Costing (AB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finement of an existing cost system which focuses on individual activities as the basic cost obje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activity is an event, task, or unit of work with a specified purpo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 of activities include designing the product or service, set up of machinery, operating machinery, distribution of finished product, administr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191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undamental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191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llocations 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Cost Objec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952880"/>
            <a:ext cx="1752480" cy="131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1600" indent="-201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562720"/>
            <a:ext cx="6858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2 - 15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181480"/>
            <a:ext cx="175248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 of 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81480"/>
            <a:ext cx="1752840" cy="85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Hierarch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en thinking about splitting indirect costs into homogeneous cost pools considering four cost hierarchies or cost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utput unit-level costs:  costs relating to individual units of output such as materia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tch-level costs:  costs relating to batches of output such as set-up char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-sustaining costs:  costs relating to the support of a particular product such as product design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ility-sustaining costs:  costs relating to the organization as a who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6477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5 - 15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versus ABC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raditional Costing 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6 - 16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346480"/>
            <a:ext cx="25909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direct Costs / DLH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 $2,000,000 / 40,0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$50 per DL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962520"/>
            <a:ext cx="236196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In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800600"/>
            <a:ext cx="121896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800600"/>
            <a:ext cx="121932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66680" y="4343400"/>
            <a:ext cx="60984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343400"/>
            <a:ext cx="60948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5486400"/>
            <a:ext cx="0" cy="38088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869080"/>
            <a:ext cx="2286000" cy="368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33920" y="1295280"/>
            <a:ext cx="5410080" cy="4957920"/>
            <a:chOff x="3733920" y="1295280"/>
            <a:chExt cx="5410080" cy="4957920"/>
          </a:xfrm>
        </p:grpSpPr>
        <p:sp>
          <p:nvSpPr>
            <p:cNvPr id="82" name=""/>
            <p:cNvSpPr/>
            <p:nvPr/>
          </p:nvSpPr>
          <p:spPr>
            <a:xfrm>
              <a:off x="4800600" y="1295280"/>
              <a:ext cx="342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BC Costing Syste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91120" y="3809880"/>
              <a:ext cx="167616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impl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816440"/>
              <a:ext cx="12193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Len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495680"/>
              <a:ext cx="76212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7816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10080" y="5502240"/>
              <a:ext cx="0" cy="3808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5884920"/>
              <a:ext cx="2286000" cy="368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Direct Cost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057400"/>
              <a:ext cx="2590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DL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500,000 / 4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2.50 per DL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00800" y="2057400"/>
              <a:ext cx="2743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5000"/>
            </a:bodyPr>
            <a:p>
              <a:pPr marL="325800" indent="-32580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s / MH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 $1,500,000 / 10,0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5800" indent="-325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= $150 per MH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3809880"/>
              <a:ext cx="1676520" cy="642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Indirect Cos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Pool 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10280" y="4495680"/>
              <a:ext cx="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714640" y="4495680"/>
              <a:ext cx="685800" cy="228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of ABC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48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motes the use of activity-based management (ABM) within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M focuses management’s attention on the activities that cause costs to b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tter product and pric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duced cost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forming activities more efficient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liminating activities that do not add val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ing product 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ventually leads to improved operations and processes, satisfied customers, and increased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1 -15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-Tale” Signs of Need to Consider A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gnificant amounts of costs are allocated using one or two cost pool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 or most of the costs are identified as output unit-leve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s make diverse demands on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 products show little profit while secondary products show large prof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lex products appear to be profitable while simple products appear to be losing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90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s and accounting staff disagree about the costs of manufacturing and marketing produc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4 -15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wing Interest in Activity-Based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1349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cost information for product pric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re accurate profit analys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du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2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custom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proces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y depart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performance measur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roved insight into cost caus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ource:  Armitage, H., and R. Nicholson, “Activity-Based Costing: A Survey of Canadian Practices”, supplement to CMA Magazine (1993)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4771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1:59:26Z</dcterms:created>
  <dc:creator>User</dc:creator>
  <dc:description/>
  <dc:language>en-US</dc:language>
  <cp:lastModifiedBy>John Moore</cp:lastModifiedBy>
  <cp:lastPrinted>1999-06-03T12:08:02Z</cp:lastPrinted>
  <dcterms:modified xsi:type="dcterms:W3CDTF">2003-03-22T13:11:26Z</dcterms:modified>
  <cp:revision>9</cp:revision>
  <dc:subject/>
  <dc:title>No Slide Title</dc:title>
</cp:coreProperties>
</file>