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4E82C-1FD2-4589-BEE3-D0A60A7C02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38564-7FE4-4144-8E48-A2D6065036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837432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8800" y="3879720"/>
            <a:ext cx="837432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000" y="132408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8800" y="387972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0000" y="387972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2696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20560" y="1324080"/>
            <a:ext cx="2696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51960" y="1324080"/>
            <a:ext cx="2696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8800" y="3879720"/>
            <a:ext cx="2696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20560" y="3879720"/>
            <a:ext cx="2696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51960" y="3879720"/>
            <a:ext cx="2696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8800" y="1324080"/>
            <a:ext cx="8374320" cy="48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837432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408636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0000" y="1324080"/>
            <a:ext cx="408636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8800" y="162000"/>
            <a:ext cx="8298000" cy="32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000" y="1324080"/>
            <a:ext cx="408636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8800" y="387972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408636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32408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000" y="387972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32408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8800" y="3879720"/>
            <a:ext cx="837432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8800" y="1324080"/>
            <a:ext cx="837432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1008000"/>
            <a:ext cx="914400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26520" y="6470640"/>
            <a:ext cx="29840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Copyright </a:t>
            </a:r>
            <a:r>
              <a:rPr b="0" lang="en-US" sz="1000" spc="-1" strike="noStrike">
                <a:solidFill>
                  <a:srgbClr val="fafd00"/>
                </a:solidFill>
                <a:latin typeface="Arial"/>
                <a:ea typeface="Arial"/>
              </a:rPr>
              <a:t>©</a:t>
            </a: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 2003 Pearson Education Canada Inc.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924680" y="6478560"/>
            <a:ext cx="97164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Slide 12-</a:t>
            </a:r>
            <a:fld id="{B11742EF-DB73-4DE6-8D39-044687711853}" type="slidenum">
              <a:rPr b="0" lang="en-US" sz="10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47280" y="1825200"/>
            <a:ext cx="7543800" cy="366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hapter 12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ricing Decisions, Product Profitability Decisions, and Cost Managemen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jor Influences on Pric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837432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485640" indent="-4856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he three major influences on pricing decisions: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856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1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ustomer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1002240" indent="-327960">
              <a:spcBef>
                <a:spcPts val="451"/>
              </a:spcBef>
              <a:buClr>
                <a:srgbClr val="fafd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xamine pricing problems through the eyes of the customer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856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2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mpetitors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1002240" indent="-327960">
              <a:spcBef>
                <a:spcPts val="451"/>
              </a:spcBef>
              <a:buClr>
                <a:srgbClr val="fafd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hink about prices as part of the total marketing package and strategic positioning of the company and its produc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856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3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s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1002240" indent="-327960">
              <a:spcBef>
                <a:spcPts val="451"/>
              </a:spcBef>
              <a:buClr>
                <a:srgbClr val="fafd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ices must cover all costs in the long-run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1002240" indent="-327960">
              <a:spcBef>
                <a:spcPts val="451"/>
              </a:spcBef>
              <a:buClr>
                <a:srgbClr val="fafd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mportant to know what your costs are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705720" y="646128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452 - 453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sting and Pricing for the Long Ru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837432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90680" indent="-4906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ccurate product cost information is essentia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90680" indent="-4906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 many industries, competitive market forces set prices (oil &amp; gas, mining)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90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afd00"/>
              </a:solidFill>
              <a:latin typeface="Arial"/>
            </a:endParaRPr>
          </a:p>
          <a:p>
            <a:pPr marL="490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wo Alternative Long-Run Pricing Approach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90680" indent="-490680">
              <a:spcBef>
                <a:spcPts val="601"/>
              </a:spcBef>
              <a:buClr>
                <a:srgbClr val="fafd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rket-based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971640" indent="-366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What do our customers want and what are our competitors doing?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90680" indent="-490680">
              <a:spcBef>
                <a:spcPts val="601"/>
              </a:spcBef>
              <a:buClr>
                <a:srgbClr val="fafd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-based (or cost-plus)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971640" indent="-366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What price should we charge to cover our costs and earn a profit?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705720" y="646128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455 - 458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arget Costing for Target Pric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8800" y="1219320"/>
            <a:ext cx="822168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475920" indent="-47592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Target price is the estimated price for a product or service that potential customers will be willing to pay</a:t>
            </a:r>
            <a:endParaRPr b="1" lang="en-US" sz="2200" spc="-1" strike="noStrike">
              <a:solidFill>
                <a:srgbClr val="fafd00"/>
              </a:solidFill>
              <a:latin typeface="Arial"/>
            </a:endParaRPr>
          </a:p>
          <a:p>
            <a:pPr marL="475920" indent="-47592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Based on an understanding of customers’ perceived value for a product and competitors’ responses</a:t>
            </a:r>
            <a:endParaRPr b="1" lang="en-US" sz="2200" spc="-1" strike="noStrike">
              <a:solidFill>
                <a:srgbClr val="fafd00"/>
              </a:solidFill>
              <a:latin typeface="Arial"/>
            </a:endParaRPr>
          </a:p>
          <a:p>
            <a:pPr marL="475920" indent="-47592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Target cost per unit is the estimated long-run cost per unit of product or service that, when sold at the target price, enables the company to achieve its target income</a:t>
            </a:r>
            <a:endParaRPr b="1" lang="en-US" sz="2200" spc="-1" strike="noStrike">
              <a:solidFill>
                <a:srgbClr val="fafd00"/>
              </a:solidFill>
              <a:latin typeface="Arial"/>
            </a:endParaRPr>
          </a:p>
          <a:p>
            <a:pPr marL="47592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afd00"/>
                </a:solidFill>
                <a:uFillTx/>
                <a:latin typeface="Arial"/>
              </a:rPr>
              <a:t>4 Steps in Target Pricing and Target Costing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7592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1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evelop a product that satisfies a customer need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75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2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hoose target price based on customers’ valu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75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3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erive a target cos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75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4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erform value engineering to achieve target cos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75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705720" y="646128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458 - 460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676520" y="3171960"/>
            <a:ext cx="5029200" cy="2057400"/>
          </a:xfrm>
          <a:custGeom>
            <a:avLst/>
            <a:gdLst/>
            <a:ahLst/>
            <a:rect l="l" t="t" r="r" b="b"/>
            <a:pathLst>
              <a:path w="3168" h="1296">
                <a:moveTo>
                  <a:pt x="0" y="1296"/>
                </a:moveTo>
                <a:lnTo>
                  <a:pt x="720" y="336"/>
                </a:lnTo>
                <a:lnTo>
                  <a:pt x="2592" y="192"/>
                </a:lnTo>
                <a:lnTo>
                  <a:pt x="3168" y="0"/>
                </a:lnTo>
              </a:path>
            </a:pathLst>
          </a:custGeom>
          <a:noFill/>
          <a:ln w="2844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st Incurrence and Locked-In Cos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8800" y="1142640"/>
            <a:ext cx="8221680" cy="1647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 incurrence occurs when a resource is sacrificed or used up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Locked-in (or designed-in) costs are costs that have not yet been incurred but are committed to be spen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676520" y="3171960"/>
            <a:ext cx="0" cy="205740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676520" y="5229360"/>
            <a:ext cx="533376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2280" y="3247920"/>
            <a:ext cx="16002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Arial"/>
              </a:rPr>
              <a:t>Cumulative</a:t>
            </a:r>
            <a:endParaRPr b="0" lang="en-US" sz="16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Arial"/>
              </a:rPr>
              <a:t>Costs</a:t>
            </a:r>
            <a:endParaRPr b="0" lang="en-US" sz="16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Arial"/>
              </a:rPr>
              <a:t>per unit</a:t>
            </a:r>
            <a:endParaRPr b="0" lang="en-US" sz="16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Arial"/>
              </a:rPr>
              <a:t>$</a:t>
            </a:r>
            <a:endParaRPr b="0" lang="en-US" sz="1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752480" y="5305320"/>
            <a:ext cx="624852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ctr" pos="577800"/>
                <a:tab algn="ctr" pos="2395440"/>
                <a:tab algn="ctr" pos="4387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afd00"/>
                </a:solidFill>
                <a:latin typeface="Arial"/>
              </a:rPr>
              <a:t>R&amp;D</a:t>
            </a:r>
            <a:r>
              <a:rPr b="1" lang="en-US" sz="16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afd00"/>
                </a:solidFill>
                <a:latin typeface="Arial"/>
              </a:rPr>
              <a:t>Marketing,</a:t>
            </a:r>
            <a:endParaRPr b="0" lang="en-US" sz="16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577800"/>
                <a:tab algn="ctr" pos="2395440"/>
                <a:tab algn="ctr" pos="4387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afd00"/>
                </a:solidFill>
                <a:latin typeface="Arial"/>
              </a:rPr>
              <a:t>and</a:t>
            </a:r>
            <a:r>
              <a:rPr b="1" lang="en-US" sz="16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afd00"/>
                </a:solidFill>
                <a:latin typeface="Arial"/>
              </a:rPr>
              <a:t>Manufacturing</a:t>
            </a:r>
            <a:r>
              <a:rPr b="1" lang="en-US" sz="16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afd00"/>
                </a:solidFill>
                <a:latin typeface="Arial"/>
              </a:rPr>
              <a:t>Distribution &amp;</a:t>
            </a:r>
            <a:endParaRPr b="0" lang="en-US" sz="16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577800"/>
                <a:tab algn="ctr" pos="2395440"/>
                <a:tab algn="ctr" pos="4387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afd00"/>
                </a:solidFill>
                <a:latin typeface="Arial"/>
              </a:rPr>
              <a:t>Design</a:t>
            </a:r>
            <a:r>
              <a:rPr b="1" lang="en-US" sz="16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afd00"/>
                </a:solidFill>
                <a:latin typeface="Arial"/>
              </a:rPr>
              <a:t>Customer Service</a:t>
            </a:r>
            <a:endParaRPr b="0" lang="en-US" sz="1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819520" y="3247920"/>
            <a:ext cx="0" cy="1981440"/>
          </a:xfrm>
          <a:prstGeom prst="line">
            <a:avLst/>
          </a:prstGeom>
          <a:ln w="12600">
            <a:solidFill>
              <a:srgbClr val="fafd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791320" y="3247920"/>
            <a:ext cx="0" cy="1981440"/>
          </a:xfrm>
          <a:prstGeom prst="line">
            <a:avLst/>
          </a:prstGeom>
          <a:ln w="12600">
            <a:solidFill>
              <a:srgbClr val="fafd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3171960"/>
            <a:ext cx="5029200" cy="2057400"/>
          </a:xfrm>
          <a:custGeom>
            <a:avLst/>
            <a:gdLst/>
            <a:ahLst/>
            <a:rect l="l" t="t" r="r" b="b"/>
            <a:pathLst>
              <a:path w="3168" h="1296">
                <a:moveTo>
                  <a:pt x="0" y="1296"/>
                </a:moveTo>
                <a:lnTo>
                  <a:pt x="720" y="1104"/>
                </a:lnTo>
                <a:lnTo>
                  <a:pt x="2592" y="384"/>
                </a:lnTo>
                <a:lnTo>
                  <a:pt x="3168" y="0"/>
                </a:lnTo>
              </a:path>
            </a:pathLst>
          </a:custGeom>
          <a:noFill/>
          <a:ln w="2844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620120" y="5303880"/>
            <a:ext cx="1295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Arial"/>
              </a:rPr>
              <a:t>Value-</a:t>
            </a:r>
            <a:endParaRPr b="0" lang="en-US" sz="16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Arial"/>
              </a:rPr>
              <a:t>Chain</a:t>
            </a:r>
            <a:endParaRPr b="0" lang="en-US" sz="16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Arial"/>
              </a:rPr>
              <a:t>Functions</a:t>
            </a:r>
            <a:endParaRPr b="0" lang="en-US" sz="1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276720" y="2943360"/>
            <a:ext cx="167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Locked-in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cost curve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886200" y="446724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Cost incurrence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curve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7390800" y="5305320"/>
            <a:ext cx="152280" cy="838440"/>
          </a:xfrm>
          <a:custGeom>
            <a:avLst/>
            <a:gdLst>
              <a:gd name="textAreaLeft" fmla="*/ 96840 w 152280"/>
              <a:gd name="textAreaRight" fmla="*/ 152280 w 152280"/>
              <a:gd name="textAreaTop" fmla="*/ 21600 h 838440"/>
              <a:gd name="textAreaBottom" fmla="*/ 816840 h 838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629400" y="3247920"/>
            <a:ext cx="0" cy="1981440"/>
          </a:xfrm>
          <a:prstGeom prst="line">
            <a:avLst/>
          </a:prstGeom>
          <a:ln w="12600">
            <a:solidFill>
              <a:srgbClr val="fafd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705720" y="646128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460 - 462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st Plus Pric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8440" y="1219320"/>
            <a:ext cx="814572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ctr" pos="1327320"/>
                <a:tab algn="ctr" pos="3722760"/>
                <a:tab algn="ctr" pos="5253120"/>
                <a:tab algn="ctr" pos="6378480"/>
                <a:tab algn="ctr" pos="733104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ost companies establish prices using either a market-based or cost-based approach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ctr" pos="1327320"/>
                <a:tab algn="ctr" pos="3722760"/>
                <a:tab algn="ctr" pos="5253120"/>
                <a:tab algn="ctr" pos="6378480"/>
                <a:tab algn="ctr" pos="733104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 plus pricing begins with some form of product or service cost and adds on an appropriate mark-up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spcBef>
                <a:spcPts val="249"/>
              </a:spcBef>
              <a:buNone/>
              <a:tabLst>
                <a:tab algn="ctr" pos="1327320"/>
                <a:tab algn="ctr" pos="3722760"/>
                <a:tab algn="ctr" pos="5253120"/>
                <a:tab algn="ctr" pos="6378480"/>
                <a:tab algn="ctr" pos="733104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ctr" pos="1327320"/>
                <a:tab algn="ctr" pos="3722760"/>
                <a:tab algn="ctr" pos="5253120"/>
                <a:tab algn="ctr" pos="6378480"/>
                <a:tab algn="ctr" pos="733104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Variable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buNone/>
              <a:tabLst>
                <a:tab algn="l" pos="0"/>
                <a:tab algn="ctr" pos="1327320"/>
                <a:tab algn="ctr" pos="3722760"/>
                <a:tab algn="ctr" pos="5253120"/>
                <a:tab algn="ctr" pos="6378480"/>
                <a:tab algn="ctr" pos="733104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nufacturing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+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65% markup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797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buNone/>
              <a:tabLst>
                <a:tab algn="l" pos="0"/>
                <a:tab algn="ctr" pos="1327320"/>
                <a:tab algn="ctr" pos="3722760"/>
                <a:tab algn="ctr" pos="5253120"/>
                <a:tab algn="ctr" pos="6378480"/>
                <a:tab algn="ctr" pos="733104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s $483.00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buNone/>
              <a:tabLst>
                <a:tab algn="l" pos="0"/>
                <a:tab algn="ctr" pos="1327320"/>
                <a:tab algn="ctr" pos="3722760"/>
                <a:tab algn="ctr" pos="5253120"/>
                <a:tab algn="ctr" pos="6378480"/>
                <a:tab algn="ctr" pos="733104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buNone/>
              <a:tabLst>
                <a:tab algn="l" pos="0"/>
                <a:tab algn="ctr" pos="1327320"/>
                <a:tab algn="ctr" pos="3722760"/>
                <a:tab algn="ctr" pos="5253120"/>
                <a:tab algn="ctr" pos="6378480"/>
                <a:tab algn="ctr" pos="733104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otal manufacturing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+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50% markup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810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buNone/>
              <a:tabLst>
                <a:tab algn="l" pos="0"/>
                <a:tab algn="ctr" pos="1327320"/>
                <a:tab algn="ctr" pos="3722760"/>
                <a:tab algn="ctr" pos="5253120"/>
                <a:tab algn="ctr" pos="6378480"/>
                <a:tab algn="ctr" pos="733104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s   $540.00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buNone/>
              <a:tabLst>
                <a:tab algn="l" pos="0"/>
                <a:tab algn="ctr" pos="1327320"/>
                <a:tab algn="ctr" pos="3722760"/>
                <a:tab algn="ctr" pos="5253120"/>
                <a:tab algn="ctr" pos="6378480"/>
                <a:tab algn="ctr" pos="733104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buNone/>
              <a:tabLst>
                <a:tab algn="l" pos="0"/>
                <a:tab algn="ctr" pos="1327320"/>
                <a:tab algn="ctr" pos="3722760"/>
                <a:tab algn="ctr" pos="5253120"/>
                <a:tab algn="ctr" pos="6378480"/>
                <a:tab algn="ctr" pos="733104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ull costs  $720.00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+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12% markup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806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705720" y="646128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464 - 467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st-Plus Target Rate of Return on Investmen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600" y="1324080"/>
            <a:ext cx="8755200" cy="3705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r" pos="6869160"/>
                <a:tab algn="ctr" pos="790884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One approach to determining the markup % is to consider the desired rate of return on the organization’s invested capita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15360" indent="0">
              <a:spcBef>
                <a:spcPts val="601"/>
              </a:spcBef>
              <a:buNone/>
              <a:tabLst>
                <a:tab algn="r" pos="6869160"/>
                <a:tab algn="ctr" pos="790884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15360" indent="0">
              <a:spcBef>
                <a:spcPts val="550"/>
              </a:spcBef>
              <a:buNone/>
              <a:tabLst>
                <a:tab algn="l" pos="0"/>
                <a:tab algn="r" pos="6869160"/>
                <a:tab algn="ctr" pos="790884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Invested capital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$96,000,000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(a)</a:t>
            </a:r>
            <a:endParaRPr b="1" lang="en-US" sz="2200" spc="-1" strike="noStrike">
              <a:solidFill>
                <a:srgbClr val="fafd00"/>
              </a:solidFill>
              <a:latin typeface="Arial"/>
            </a:endParaRPr>
          </a:p>
          <a:p>
            <a:pPr marL="315360" indent="0">
              <a:spcBef>
                <a:spcPts val="550"/>
              </a:spcBef>
              <a:buNone/>
              <a:tabLst>
                <a:tab algn="l" pos="0"/>
                <a:tab algn="r" pos="6869160"/>
                <a:tab algn="ctr" pos="790884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Target rate of return on investment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           18%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(b)</a:t>
            </a:r>
            <a:endParaRPr b="1" lang="en-US" sz="2200" spc="-1" strike="noStrike">
              <a:solidFill>
                <a:srgbClr val="fafd00"/>
              </a:solidFill>
              <a:latin typeface="Arial"/>
            </a:endParaRPr>
          </a:p>
          <a:p>
            <a:pPr marL="315360" indent="0">
              <a:spcBef>
                <a:spcPts val="550"/>
              </a:spcBef>
              <a:buNone/>
              <a:tabLst>
                <a:tab algn="l" pos="0"/>
                <a:tab algn="r" pos="6869160"/>
                <a:tab algn="ctr" pos="790884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Target  operating income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$17,280,000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(a x b)</a:t>
            </a:r>
            <a:endParaRPr b="1" lang="en-US" sz="2200" spc="-1" strike="noStrike">
              <a:solidFill>
                <a:srgbClr val="fafd00"/>
              </a:solidFill>
              <a:latin typeface="Arial"/>
            </a:endParaRPr>
          </a:p>
          <a:p>
            <a:pPr marL="315360" indent="0">
              <a:spcBef>
                <a:spcPts val="550"/>
              </a:spcBef>
              <a:buNone/>
              <a:tabLst>
                <a:tab algn="l" pos="0"/>
                <a:tab algn="r" pos="6869160"/>
                <a:tab algn="ctr" pos="790884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Total expected unit sales of product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 u="sng">
                <a:solidFill>
                  <a:srgbClr val="fafd00"/>
                </a:solidFill>
                <a:uFillTx/>
                <a:latin typeface="Arial"/>
              </a:rPr>
              <a:t>200,000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(c)</a:t>
            </a:r>
            <a:endParaRPr b="1" lang="en-US" sz="2200" spc="-1" strike="noStrike">
              <a:solidFill>
                <a:srgbClr val="fafd00"/>
              </a:solidFill>
              <a:latin typeface="Arial"/>
            </a:endParaRPr>
          </a:p>
          <a:p>
            <a:pPr marL="315360" indent="0">
              <a:spcBef>
                <a:spcPts val="550"/>
              </a:spcBef>
              <a:buNone/>
              <a:tabLst>
                <a:tab algn="l" pos="0"/>
                <a:tab algn="r" pos="6869160"/>
                <a:tab algn="ctr" pos="790884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Target operating income per unit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$86.40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(a x b / c)</a:t>
            </a:r>
            <a:endParaRPr b="1" lang="en-US" sz="2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6320" y="5334120"/>
            <a:ext cx="90676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ctr" pos="1039680"/>
                <a:tab algn="ctr" pos="2106720"/>
                <a:tab algn="ctr" pos="4184640"/>
                <a:tab algn="r" pos="6205680"/>
                <a:tab algn="ctr" pos="762012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Cost base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Target operating income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Target selling</a:t>
            </a:r>
            <a:endParaRPr b="0" lang="en-US" sz="2200" spc="-1" strike="noStrike">
              <a:solidFill>
                <a:srgbClr val="fafd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ctr" pos="1039680"/>
                <a:tab algn="ctr" pos="2106720"/>
                <a:tab algn="ctr" pos="4184640"/>
                <a:tab algn="r" pos="6205680"/>
                <a:tab algn="ctr" pos="762012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$720.00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per unit   $86.40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price $806.40</a:t>
            </a:r>
            <a:endParaRPr b="0" lang="en-US" sz="2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125800" y="5562720"/>
            <a:ext cx="473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ctr" pos="1039680"/>
                <a:tab algn="ctr" pos="2106720"/>
                <a:tab algn="ctr" pos="4184640"/>
                <a:tab algn="r" pos="6205680"/>
                <a:tab algn="ctr" pos="733104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164280" y="5562720"/>
            <a:ext cx="473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ctr" pos="1039680"/>
                <a:tab algn="ctr" pos="2106720"/>
                <a:tab algn="ctr" pos="4184640"/>
                <a:tab algn="r" pos="6205680"/>
                <a:tab algn="ctr" pos="733104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=</a:t>
            </a:r>
            <a:endParaRPr b="0" lang="en-US" sz="2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705720" y="646128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464 - 465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791320" y="3733920"/>
            <a:ext cx="1371600" cy="0"/>
          </a:xfrm>
          <a:prstGeom prst="line">
            <a:avLst/>
          </a:prstGeom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fe Cycle Product Budgeting and Cost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837432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oduct life cycle spans the time from initial R&amp;D to the time at which support from the customers is withdrawn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Life Cycle Budgeting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udget revenues and costs over the life cycle of the product or service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Life Cycle Costing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rack and accumulate costs over the life cycle of the product or servic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radle-to-grave” costing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womb-to-tomb” costing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629400" y="64612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469 - 472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03T23:46:26Z</dcterms:created>
  <dc:creator>User</dc:creator>
  <dc:description/>
  <dc:language>en-US</dc:language>
  <cp:lastModifiedBy>John Moore</cp:lastModifiedBy>
  <cp:lastPrinted>1999-06-04T00:42:38Z</cp:lastPrinted>
  <dcterms:modified xsi:type="dcterms:W3CDTF">2003-03-22T13:17:13Z</dcterms:modified>
  <cp:revision>12</cp:revision>
  <dc:subject/>
  <dc:title>No Slide Title</dc:title>
</cp:coreProperties>
</file>