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D4E8-471D-43A5-A180-EBD47ADAC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FA47-7BD5-4CBF-BA45-D00FDD572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4-</a:t>
            </a:r>
            <a:fld id="{48FAABE4-F20A-4201-883C-A3803E300DC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is the process of assigning indirect costs to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our Purposes of Cost Alloc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provide information for economic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otivate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justify costs or compute reimburs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easure income and assets for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29 - 53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riteria for Guiding Cost Allocation Deci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79930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use and eff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based on the variable or variables that cause cost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efits recei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among the beneficiaries in proportion to the benefits each rece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irness or equ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in such a manner as to be “fair” or “reasonable” for both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b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based on who can best absorb th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0 - 5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of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to cost objects using a 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= manufacturing overhead costs / labour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ual-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costs into cost variable and fixed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fixed costs as lump sums based on long-term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variable costs based on a single variable 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versus actual alloc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firms allocate at budgeted rates based on actual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6 - 5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ng Support Departmen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directly to operating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ep-down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some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to other support departments and operating departments in a pre-determined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iprocal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ll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among all departments using their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9 - 54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205740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5244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70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2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7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74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3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410080" y="2009880"/>
            <a:ext cx="3733920" cy="4057560"/>
            <a:chOff x="5410080" y="2009880"/>
            <a:chExt cx="3733920" cy="4057560"/>
          </a:xfrm>
        </p:grpSpPr>
        <p:sp>
          <p:nvSpPr>
            <p:cNvPr id="78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10080" y="441972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96080" y="320040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6080" y="56386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200988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ep-down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114800"/>
            <a:ext cx="2209680" cy="21337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1 - 5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520" y="2590920"/>
            <a:ext cx="4876560" cy="3657600"/>
            <a:chOff x="533520" y="2590920"/>
            <a:chExt cx="4876560" cy="3657600"/>
          </a:xfrm>
        </p:grpSpPr>
        <p:sp>
          <p:nvSpPr>
            <p:cNvPr id="91" name=""/>
            <p:cNvSpPr/>
            <p:nvPr/>
          </p:nvSpPr>
          <p:spPr>
            <a:xfrm>
              <a:off x="533520" y="4114800"/>
              <a:ext cx="22096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8280" y="3581280"/>
              <a:ext cx="0" cy="53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365760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98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0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10080" y="1962000"/>
            <a:ext cx="3505320" cy="4133880"/>
            <a:chOff x="5410080" y="1962000"/>
            <a:chExt cx="3505320" cy="4133880"/>
          </a:xfrm>
        </p:grpSpPr>
        <p:sp>
          <p:nvSpPr>
            <p:cNvPr id="102" name=""/>
            <p:cNvSpPr/>
            <p:nvPr/>
          </p:nvSpPr>
          <p:spPr>
            <a:xfrm>
              <a:off x="5410080" y="4448160"/>
              <a:ext cx="35053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96080" y="31528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96080" y="56674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1962000"/>
              <a:ext cx="3505320" cy="16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410080" y="2085840"/>
            <a:ext cx="3353040" cy="164808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iprocal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857240"/>
            <a:ext cx="2514600" cy="157176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 $600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4343400"/>
            <a:ext cx="2514600" cy="19051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$116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2 - 5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115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7,225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12,04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119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92,65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6320" y="1828800"/>
            <a:ext cx="3809880" cy="4419720"/>
            <a:chOff x="76320" y="1828800"/>
            <a:chExt cx="3809880" cy="4419720"/>
          </a:xfrm>
        </p:grpSpPr>
        <p:sp>
          <p:nvSpPr>
            <p:cNvPr id="123" name=""/>
            <p:cNvSpPr/>
            <p:nvPr/>
          </p:nvSpPr>
          <p:spPr>
            <a:xfrm>
              <a:off x="24382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60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20" y="1828800"/>
              <a:ext cx="28191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llocated costs $24,08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320" y="4343400"/>
              <a:ext cx="2666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+ Allocated cos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410080" y="2009880"/>
            <a:ext cx="3733920" cy="4086000"/>
            <a:chOff x="5410080" y="2009880"/>
            <a:chExt cx="3733920" cy="4086000"/>
          </a:xfrm>
        </p:grpSpPr>
        <p:sp>
          <p:nvSpPr>
            <p:cNvPr id="130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444816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0120" y="563868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0120" y="320040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on of Commo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5 - 5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mon costs are costs of operating a facility, operation, activity area, or like cost object that is shared by two or more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-Alone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on the basis of each user’s percentage of the total of the individual stand-alon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in order beginning with the primary user and then proceeding to secondary (incremental)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1:31:04Z</dcterms:created>
  <dc:creator>User</dc:creator>
  <dc:description/>
  <dc:language>en-US</dc:language>
  <cp:lastModifiedBy>John Moore</cp:lastModifiedBy>
  <cp:lastPrinted>1999-06-04T23:13:26Z</cp:lastPrinted>
  <dcterms:modified xsi:type="dcterms:W3CDTF">2003-03-22T13:19:23Z</dcterms:modified>
  <cp:revision>16</cp:revision>
  <dc:subject/>
  <dc:title>Cost Allocation</dc:title>
</cp:coreProperties>
</file>