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C57-CA1E-4D0A-81EC-E033234F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2DED-C14F-4815-8E10-269B8230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526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9-</a:t>
            </a:r>
            <a:fld id="{B8DF97B7-D2E0-4F7A-A3AA-9DDEA8017BDB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Management: Quality, Time, and the Theory of Constra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f quality (COQ) are costs incurred to rectify the production of of low-quality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categories of COQ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vention costs (design and process enginee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ppraisal costs (inspection cost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failure costs (spoilage and re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ternal failure costs (warranty repair wor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3 - 7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952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295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209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 Desig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012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2590920"/>
            <a:ext cx="3812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590920"/>
            <a:ext cx="3045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to Analyze Quality Probl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1371600"/>
            <a:ext cx="56311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stical quality control (SQC) or statistical process control (SPC) employ control charts to monitor successive observations at regular intervals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371600"/>
            <a:ext cx="0" cy="152388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13372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175248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514600"/>
            <a:ext cx="2057400" cy="0"/>
          </a:xfrm>
          <a:prstGeom prst="line">
            <a:avLst/>
          </a:prstGeom>
          <a:ln w="1908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05120"/>
            <a:ext cx="7596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362320"/>
            <a:ext cx="76320" cy="759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22096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19810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1752480"/>
            <a:ext cx="7632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15238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295280"/>
            <a:ext cx="75960" cy="763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07 - 7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3505320"/>
            <a:ext cx="8077320" cy="990360"/>
            <a:chOff x="380880" y="3505320"/>
            <a:chExt cx="8077320" cy="990360"/>
          </a:xfrm>
        </p:grpSpPr>
        <p:sp>
          <p:nvSpPr>
            <p:cNvPr id="81" name=""/>
            <p:cNvSpPr/>
            <p:nvPr/>
          </p:nvSpPr>
          <p:spPr>
            <a:xfrm>
              <a:off x="6629400" y="3657600"/>
              <a:ext cx="228600" cy="838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3809880"/>
              <a:ext cx="228600" cy="685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43800" y="3886200"/>
              <a:ext cx="228600" cy="609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191120"/>
              <a:ext cx="228600" cy="3045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0800" y="3505320"/>
              <a:ext cx="0" cy="990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880" y="3581280"/>
              <a:ext cx="5631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areto diagrams indicates the frequency of failures (defect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0880" y="4724280"/>
            <a:ext cx="8458200" cy="1600200"/>
            <a:chOff x="380880" y="4724280"/>
            <a:chExt cx="8458200" cy="1600200"/>
          </a:xfrm>
        </p:grpSpPr>
        <p:sp>
          <p:nvSpPr>
            <p:cNvPr id="89" name=""/>
            <p:cNvSpPr/>
            <p:nvPr/>
          </p:nvSpPr>
          <p:spPr>
            <a:xfrm>
              <a:off x="6248520" y="50292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308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57150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59436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3800" y="548640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510552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5867280"/>
              <a:ext cx="685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93432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487692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01000" y="5486400"/>
              <a:ext cx="457200" cy="6094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34520" y="5486400"/>
              <a:ext cx="304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543800" y="556236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5334120"/>
              <a:ext cx="228600" cy="75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4724280"/>
              <a:ext cx="5631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ause-and-Effect diagrams identifies potential causes of failures or defects such as human error or component fail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financial Measures of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 if a product is defect free and meets conformance quality, it still must satisfy customer nee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total customer satisfaction including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eatures that provide fair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when promi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livery a defect-free produ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oid early fail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sure that product will not fail excessively in 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attention on costs of poor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financial measures to evaluate savings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nonfinancial measures to monitor suc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3 -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Quality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Cost of Quality (COQ) 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es attention on how costly poor quality can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ws for  comparison of different programs and setting prior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a common basis for measuring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antages of nonfinancial measures of qu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sy to quantify and underst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ttention at the precise probl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intermediate feedback on achiev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 useful long-run indicator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As A Competitive Wea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8440" y="1294920"/>
            <a:ext cx="845028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ime is a key variable in competi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things faster helps increase revenues and decreas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of time in terms of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response time (order receipt to delivery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-Time Performance:  delivered on promised d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ime driver is any factor where change in the factor causes a change in the speed of the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certainty about when the customer will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ed capacity and bottleneck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4 - 7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440" y="1295280"/>
            <a:ext cx="8450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y of Constraints (TOC) describes  methods of maximizing operating income when faced with a bottlene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ntribution:  Sales –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 (inventory):  Material inventory, work-in-process, finished goods, R&amp;D, and cost of equipment and building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: all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of TOC is to increase throughput contribution while decreasing investments and operat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19 - 7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5266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Constrain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of Bottleneck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that the bottleneck resource determines throughput con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rch and find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the bottleneck operation busy and subordinate all nonbottleneck resources to the bottleneck resour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ke action to increase bottleneck efficiency and capac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20 - 7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800" y="4952880"/>
            <a:ext cx="845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TOC Actions:  eliminate idle time at the bottleneck, eliminate production of nonessential products, reduce setup time at bottlene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7T00:30:40Z</dcterms:created>
  <dc:creator>User</dc:creator>
  <dc:description/>
  <dc:language>en-US</dc:language>
  <cp:lastModifiedBy>John Moore</cp:lastModifiedBy>
  <cp:lastPrinted>1999-06-07T01:37:54Z</cp:lastPrinted>
  <dcterms:modified xsi:type="dcterms:W3CDTF">2003-03-22T13:22:39Z</dcterms:modified>
  <cp:revision>20</cp:revision>
  <dc:subject/>
  <dc:title>Quality As A Competitive Weapon</dc:title>
</cp:coreProperties>
</file>