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F75C-D88B-43F4-8201-9045E6208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6F20-2D38-41DE-8C02-9CAB4D0A1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5056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20-</a:t>
            </a:r>
            <a:fld id="{526F5B02-2883-412B-8A33-0A9E050E60EE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20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ventory Management, Just-in-Time, and Backflush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ntory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21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retail organizations, look at purchasing costs, ordering costs, carrying costs, stockout costs and qualit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conomic order quantity (EOQ) model calculates the optimal quantity to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8 - 74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2120" y="3276720"/>
            <a:ext cx="7772400" cy="2819160"/>
            <a:chOff x="762120" y="3276720"/>
            <a:chExt cx="7772400" cy="2819160"/>
          </a:xfrm>
        </p:grpSpPr>
        <p:sp>
          <p:nvSpPr>
            <p:cNvPr id="53" name=""/>
            <p:cNvSpPr/>
            <p:nvPr/>
          </p:nvSpPr>
          <p:spPr>
            <a:xfrm>
              <a:off x="762120" y="3276720"/>
              <a:ext cx="7772400" cy="28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marL="329040" indent="-3290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OQ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= 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where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 = deman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 = cost of an orde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 = carrying costs of one unit for the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ime period under consideration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350532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2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DP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9520" y="3962520"/>
              <a:ext cx="609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2320" y="3429000"/>
              <a:ext cx="1133280" cy="914400"/>
            </a:xfrm>
            <a:custGeom>
              <a:avLst/>
              <a:gdLst/>
              <a:ahLst/>
              <a:rect l="l" t="t" r="r" b="b"/>
              <a:pathLst>
                <a:path w="714" h="576">
                  <a:moveTo>
                    <a:pt x="0" y="474"/>
                  </a:moveTo>
                  <a:lnTo>
                    <a:pt x="54" y="450"/>
                  </a:lnTo>
                  <a:lnTo>
                    <a:pt x="114" y="576"/>
                  </a:lnTo>
                  <a:lnTo>
                    <a:pt x="234" y="0"/>
                  </a:lnTo>
                  <a:lnTo>
                    <a:pt x="714" y="0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ntory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1524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41 - 7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676520"/>
            <a:ext cx="1067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4267080"/>
            <a:ext cx="6705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eeks      1       2       3       4       5       6       7      8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590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3962520"/>
            <a:ext cx="53341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1828800"/>
            <a:ext cx="243828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1828800"/>
            <a:ext cx="243864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1828800"/>
            <a:ext cx="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2895480"/>
            <a:ext cx="11430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858000" y="28954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343400" y="28954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4952880"/>
            <a:ext cx="1524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952880"/>
            <a:ext cx="1524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419360" y="2057400"/>
            <a:ext cx="22860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1371600"/>
            <a:ext cx="1524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ord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009920" y="2057400"/>
            <a:ext cx="22860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1371600"/>
            <a:ext cx="1523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ord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 rot="16200000">
            <a:off x="4914720" y="415224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 rot="16200000">
            <a:off x="7429320" y="415224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257800"/>
            <a:ext cx="3276360" cy="8380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mand = 250 / wee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der lead time 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ust-In-Time Purchas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79171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ust-In-Time (JIT) purchasing refers to the purchase of goods or materials just prior to demand or 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quires a more open relationship with suppliers and smaller, more frequent ord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ly delivery of quality products is crucial in JIT purchasing environ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anies employing JIT choose suppliers careful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the entire supply chain from cradle to grave (womb to tomb) and share information with all parties involved in the system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44 - 7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s Requirements Plan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requirements planning (MRP) is a push-through system that manufactures finished goods for inventory on the basis of demand foreca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RP u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mand forecasts for the final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ill of materials for each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quantities of materials, components and finished products to predetermine the necessary outputs at each stage of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terprise Resource Planning (ERP) systems collects and manages information into a single database to support the achievement of the organization’s go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0 - 75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quential (or synchronous) tracking is a product costing method in which the accounting system entries occur in the same order as actual purchases and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igger point is a stage in the production cycle at which an accounting entry is ma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flush Costing &amp; Trigger Po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5 - 7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ditional Trigger Poi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9500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urchase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Direc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9514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work i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49514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mpletion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a goo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49514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 of a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5408640"/>
            <a:ext cx="30456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5408640"/>
            <a:ext cx="30492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5408640"/>
            <a:ext cx="30492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flush Cost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5 - 7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219320"/>
            <a:ext cx="79246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ckflush costing is an approach to costing which delays recording changes in the status of the product until the finished goods app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ckflush costing uses standard costs to work backward and flush out costs for the units produc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3733920"/>
            <a:ext cx="2438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 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3733920"/>
            <a:ext cx="2438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4419720"/>
            <a:ext cx="20574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4419720"/>
            <a:ext cx="19810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620120" y="4419360"/>
            <a:ext cx="0" cy="9903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05520" y="4419720"/>
            <a:ext cx="0" cy="9144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057400" y="4267080"/>
            <a:ext cx="2361960" cy="473040"/>
            <a:chOff x="2057400" y="4267080"/>
            <a:chExt cx="2361960" cy="473040"/>
          </a:xfrm>
        </p:grpSpPr>
        <p:sp>
          <p:nvSpPr>
            <p:cNvPr id="107" name=""/>
            <p:cNvSpPr/>
            <p:nvPr/>
          </p:nvSpPr>
          <p:spPr>
            <a:xfrm>
              <a:off x="2057400" y="4740120"/>
              <a:ext cx="23619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6196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Direc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09680" y="4876920"/>
            <a:ext cx="2210040" cy="457200"/>
            <a:chOff x="2209680" y="4876920"/>
            <a:chExt cx="2210040" cy="457200"/>
          </a:xfrm>
        </p:grpSpPr>
        <p:sp>
          <p:nvSpPr>
            <p:cNvPr id="110" name=""/>
            <p:cNvSpPr/>
            <p:nvPr/>
          </p:nvSpPr>
          <p:spPr>
            <a:xfrm>
              <a:off x="2209680" y="5334120"/>
              <a:ext cx="221004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4876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Allocated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133720" y="5257800"/>
            <a:ext cx="5029200" cy="916560"/>
            <a:chOff x="2133720" y="5257800"/>
            <a:chExt cx="5029200" cy="916560"/>
          </a:xfrm>
        </p:grpSpPr>
        <p:sp>
          <p:nvSpPr>
            <p:cNvPr id="113" name=""/>
            <p:cNvSpPr/>
            <p:nvPr/>
          </p:nvSpPr>
          <p:spPr>
            <a:xfrm>
              <a:off x="2133720" y="5715000"/>
              <a:ext cx="37335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867280" y="5257800"/>
              <a:ext cx="1295640" cy="4572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6000" y="5775480"/>
              <a:ext cx="419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Unallocated Conversion Cost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57200" y="4267080"/>
            <a:ext cx="1752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5181480"/>
            <a:ext cx="1752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57800" y="4556160"/>
            <a:ext cx="1905120" cy="473040"/>
            <a:chOff x="5257800" y="4556160"/>
            <a:chExt cx="1905120" cy="473040"/>
          </a:xfrm>
        </p:grpSpPr>
        <p:sp>
          <p:nvSpPr>
            <p:cNvPr id="119" name=""/>
            <p:cNvSpPr/>
            <p:nvPr/>
          </p:nvSpPr>
          <p:spPr>
            <a:xfrm>
              <a:off x="5257800" y="5029200"/>
              <a:ext cx="19051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04040" y="4556160"/>
              <a:ext cx="12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01:38:32Z</dcterms:created>
  <dc:creator>User</dc:creator>
  <dc:description/>
  <dc:language>en-US</dc:language>
  <cp:lastModifiedBy>John Moore</cp:lastModifiedBy>
  <cp:lastPrinted>1999-06-07T17:15:26Z</cp:lastPrinted>
  <dcterms:modified xsi:type="dcterms:W3CDTF">2003-03-22T13:22:57Z</dcterms:modified>
  <cp:revision>17</cp:revision>
  <dc:subject/>
  <dc:title>No Slide Title</dc:title>
</cp:coreProperties>
</file>