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04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680" y="132408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04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680" y="3879720"/>
            <a:ext cx="2723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3760" y="162000"/>
            <a:ext cx="851544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680" y="387972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680" y="1324080"/>
            <a:ext cx="41274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879720"/>
            <a:ext cx="8458200" cy="23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6520" y="6470640"/>
            <a:ext cx="2984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  <a:ea typeface="Arial"/>
              </a:rPr>
              <a:t>©</a:t>
            </a: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 2003 Pearson Education Canada Inc.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6478560"/>
            <a:ext cx="81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lide 1-</a:t>
            </a:r>
            <a:fld id="{F6C6086C-FF3C-4156-9897-3E78FD0EAEC8}" type="slidenum">
              <a:rPr b="0" lang="en-US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82556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ccountant’s Role in the Orga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 Themes of Value Enhanc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3527280"/>
            <a:ext cx="77724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3. Key success factors (KSF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keep attention focused on critical factors relative to our competi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120" y="4984920"/>
            <a:ext cx="77724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4. Continuous improvement and benchmark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ver-ending search for higher levels of perform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2 - 15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390760"/>
            <a:ext cx="7772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. Value-chain and supply-chain ana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 these critical func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440" y="1266840"/>
            <a:ext cx="8363160" cy="106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1. Customer Focu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ract and retain profitable custom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Themes in Management Decision 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03400" y="3470400"/>
            <a:ext cx="3295800" cy="204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Key Success Factor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st and Efficienc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Qual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e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46840" y="3479760"/>
            <a:ext cx="2133720" cy="201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ontinuou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Improvemen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Benchmarking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6496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476520"/>
            <a:ext cx="2038320" cy="20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Value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upply-Chain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8160" y="1323720"/>
            <a:ext cx="2679840" cy="115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Focus</a:t>
            </a: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5000" y="2629080"/>
            <a:ext cx="6486480" cy="723600"/>
            <a:chOff x="1305000" y="2629080"/>
            <a:chExt cx="6486480" cy="723600"/>
          </a:xfrm>
        </p:grpSpPr>
        <p:sp>
          <p:nvSpPr>
            <p:cNvPr id="107" name=""/>
            <p:cNvSpPr/>
            <p:nvPr/>
          </p:nvSpPr>
          <p:spPr>
            <a:xfrm>
              <a:off x="4610160" y="2629080"/>
              <a:ext cx="0" cy="7236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81800" y="2647800"/>
              <a:ext cx="2209680" cy="7048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05000" y="2657520"/>
              <a:ext cx="2381040" cy="6667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476600"/>
            <a:ext cx="4552920" cy="38160"/>
            <a:chOff x="2266920" y="4476600"/>
            <a:chExt cx="4552920" cy="38160"/>
          </a:xfrm>
        </p:grpSpPr>
        <p:sp>
          <p:nvSpPr>
            <p:cNvPr id="111" name=""/>
            <p:cNvSpPr/>
            <p:nvPr/>
          </p:nvSpPr>
          <p:spPr>
            <a:xfrm>
              <a:off x="2266920" y="4514760"/>
              <a:ext cx="590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9440" y="4476600"/>
              <a:ext cx="5904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6191280" y="5041800"/>
            <a:ext cx="1905120" cy="7430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71640" y="5003640"/>
            <a:ext cx="2286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7920" y="5003640"/>
            <a:ext cx="146700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924000" y="5003640"/>
            <a:ext cx="647640" cy="781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5022360"/>
            <a:ext cx="32364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5022360"/>
            <a:ext cx="990720" cy="76212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0600" y="3537000"/>
            <a:ext cx="15048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1760" y="3537000"/>
            <a:ext cx="16192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537000"/>
            <a:ext cx="152388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3537000"/>
            <a:ext cx="1676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537000"/>
            <a:ext cx="156240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537000"/>
            <a:ext cx="1847520" cy="140976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2" y="0"/>
                </a:moveTo>
                <a:lnTo>
                  <a:pt x="1044" y="0"/>
                </a:lnTo>
                <a:lnTo>
                  <a:pt x="1152" y="420"/>
                </a:lnTo>
                <a:lnTo>
                  <a:pt x="1020" y="888"/>
                </a:lnTo>
                <a:lnTo>
                  <a:pt x="0" y="888"/>
                </a:lnTo>
                <a:lnTo>
                  <a:pt x="108" y="444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Value Ch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" y="113472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quence of business functions in which utility (usefulness) is added to the products or services of an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helps managers to administer each of these business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374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13320"/>
            <a:ext cx="150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, 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051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4960" y="4051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05640" y="38419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5807160"/>
            <a:ext cx="3867120" cy="795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nagement Account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4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600" y="261720"/>
            <a:ext cx="813888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Business Valu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920" y="1820520"/>
            <a:ext cx="1924200" cy="310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usines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riticalit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Importance of the application to the success of the business)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64800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6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2068560"/>
            <a:ext cx="1009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14880" y="1828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cell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971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tion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4880" y="2971800"/>
            <a:ext cx="27810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ament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828800"/>
            <a:ext cx="2838600" cy="1343520"/>
          </a:xfrm>
          <a:prstGeom prst="rect">
            <a:avLst/>
          </a:prstGeom>
          <a:solidFill>
            <a:srgbClr val="ff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4360" y="4210200"/>
            <a:ext cx="4876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ow                         Hi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3880" y="4876920"/>
            <a:ext cx="4248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actice Innov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Creating new markets or new ways of doing business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230480"/>
            <a:ext cx="8610480" cy="118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fessional accounting organizations play an important role in promoting high standards of ethics in the accounting profes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936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15 - 2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2639880"/>
            <a:ext cx="86104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de of Professional Eth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ciety of Management Accountants of Canada (SMAC)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t in a responsible manner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independ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confidentiality of inform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rve with courtesy and good fa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intain standards of compete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0640" y="1324080"/>
            <a:ext cx="8458200" cy="48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measures and reports financial and non-financial information that helps managers make decisions to fulfill the goals of an organization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use management accounting information 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oose, communicate and implement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ordinate product design, production and marketing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focuses on internal repor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ing is future oriente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1080" y="6467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ncial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0640" y="1247400"/>
            <a:ext cx="8458200" cy="443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measures and records business transactions and provides financial statements that are based on generally accepted accounting principles (GAAP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s are responsible for the financial statements issued to investors, government regulators, and other parties outside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focuses on external parti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inancial accounting reports on what happened in the pas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2-3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Accounting and Cost Manag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209240"/>
            <a:ext cx="845820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measures and reports information relating to the cost of acquiring and utilizing resource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accounting provides information for management and financial accounting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describes the approaches and activities of managers in short-run and long-run planning and control decis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ese decisions increase value of customers and lower costs of products and servi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 management is an integral part of a company’s strategy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3-4 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760" y="162000"/>
            <a:ext cx="8515440" cy="7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Accountants and Strat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640" y="1190520"/>
            <a:ext cx="8458200" cy="50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specifies how an organization matches its own capabilities with opportunities in the marketplace to accomplish its objectiv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rategy exampl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ality products or services at low prices (WestJet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ique products or services at higher prices (Clublink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rovide information to management such a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ho are our customers and supplie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nsitivity of market to price, quality and servic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dustry characteristics (size, growth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19800" y="64674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Pages 4-6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7696080" cy="65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 and Contr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480" y="1136520"/>
            <a:ext cx="7962840" cy="7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ision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19800" y="6480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6-8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050920"/>
            <a:ext cx="26672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crease advertising ra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95720" y="205092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Budge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s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556080"/>
            <a:ext cx="2685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mplement rate increas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2960" y="3917880"/>
            <a:ext cx="266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ccounting System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voices / receipts recorded in ledg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4984920"/>
            <a:ext cx="27241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of actual and  budgeted revenu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5003640"/>
            <a:ext cx="26668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184680" indent="-184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 algn="ctr">
              <a:lnSpc>
                <a:spcPct val="100000"/>
              </a:lnSpc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Repor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4680" indent="-1846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ges sold, rate per page, revenu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90960" y="3799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53400" y="205092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Financial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of pla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3400" y="3917880"/>
            <a:ext cx="1981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Record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ransaction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in accoun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5156280"/>
            <a:ext cx="198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188280" indent="-188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budgeted and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188280" indent="-188280"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ctr" pos="1143000"/>
                <a:tab algn="ctr" pos="419112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actual result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880" y="5181480"/>
            <a:ext cx="152280" cy="87660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600"/>
              <a:gd name="textAreaBottom" fmla="*/ 85392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43880" y="394344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43880" y="2076480"/>
            <a:ext cx="152280" cy="876240"/>
          </a:xfrm>
          <a:custGeom>
            <a:avLst/>
            <a:gdLst>
              <a:gd name="textAreaLeft" fmla="*/ 0 w 152280"/>
              <a:gd name="textAreaRight" fmla="*/ 55080 w 1522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933640"/>
            <a:ext cx="0" cy="55260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7184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400" y="4438800"/>
            <a:ext cx="59040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53160"/>
            <a:ext cx="590760" cy="0"/>
          </a:xfrm>
          <a:prstGeom prst="line">
            <a:avLst/>
          </a:prstGeom>
          <a:ln w="284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9480" y="2571840"/>
            <a:ext cx="304920" cy="3219480"/>
            <a:chOff x="609480" y="2571840"/>
            <a:chExt cx="304920" cy="3219480"/>
          </a:xfrm>
        </p:grpSpPr>
        <p:sp>
          <p:nvSpPr>
            <p:cNvPr id="75" name=""/>
            <p:cNvSpPr/>
            <p:nvPr/>
          </p:nvSpPr>
          <p:spPr>
            <a:xfrm>
              <a:off x="609480" y="2571840"/>
              <a:ext cx="3049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2571840"/>
              <a:ext cx="19080" cy="3219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560" y="5791320"/>
              <a:ext cx="2858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201600"/>
            <a:ext cx="847728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Management Accounting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3760" y="1275840"/>
            <a:ext cx="8362800" cy="16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st-Benefit Approac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pend resources if they promote decision making that better attains the organization’s goals in relation to the cost of these re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67520" y="648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8 - 9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120" y="299556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ehavioural and Technical Conside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ystems are not confined exclusively to technical matt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ways consider the influences of human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4815000"/>
            <a:ext cx="77724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ifferent Costs for Different Purpo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fine”cost” depending on the situation under consid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3760" y="387000"/>
            <a:ext cx="8515440" cy="4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 and Staff Relationsh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3760" y="1324080"/>
            <a:ext cx="8362800" cy="13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ne management is directly responsible for attaining the objectives of the organizat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r in a manufacturing divis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4760" y="64832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s 9 - 10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3014640"/>
            <a:ext cx="77724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aff management exists to provide advice and assistance to line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920" y="4710240"/>
            <a:ext cx="77724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ief financial officer (CFO) overse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trollership, Treasury, Tax, and Internal Audit functions in the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3760" y="307800"/>
            <a:ext cx="851544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Management Accoun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9600" y="120924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nagement accountants perform three functio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960" y="3470400"/>
            <a:ext cx="77724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ttention-direct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make visible opportunities and problems on which managers need to focu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120" y="4851360"/>
            <a:ext cx="7772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blem-solv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duct comparative analysis to identify the best alternatives in relation to the organization’s goa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3840" y="64962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Arial"/>
              </a:rPr>
              <a:t>Page 11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960" y="1971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corekeep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ccumulate data and report reliable results to all levels of manag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5:33:51Z</dcterms:created>
  <dc:creator>User</dc:creator>
  <dc:description/>
  <dc:language>en-US</dc:language>
  <cp:lastModifiedBy>John Moore</cp:lastModifiedBy>
  <cp:lastPrinted>1999-06-02T16:28:30Z</cp:lastPrinted>
  <dcterms:modified xsi:type="dcterms:W3CDTF">2003-03-22T13:38:28Z</dcterms:modified>
  <cp:revision>41</cp:revision>
  <dc:subject/>
  <dc:title>Role of the Management Accountant</dc:title>
</cp:coreProperties>
</file>