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04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6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04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6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3760" y="162000"/>
            <a:ext cx="851544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-</a:t>
            </a:r>
            <a:fld id="{72E0685A-E1F9-43A1-AA53-830386051442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Accountant’s Role in the Organiz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 Themes of Value Enhanc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6040" y="3527280"/>
            <a:ext cx="77724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 Key success factors (KSF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attention focused on critical factors relative to our competi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120" y="4984920"/>
            <a:ext cx="77724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 Continuous improvement and benchmark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ver-ending search for higher levels of 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0108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2 - 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390760"/>
            <a:ext cx="7772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 Value-chain and supply-chain analysi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 these critical func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8440" y="1266840"/>
            <a:ext cx="8363160" cy="106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 Customer Foc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ract and retain profitable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Themes in Management Decision Ma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03400" y="3470400"/>
            <a:ext cx="3295800" cy="204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Key Success Factor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and Efficienc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im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novatio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46840" y="3479760"/>
            <a:ext cx="2133720" cy="2011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inuou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mprov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enchmark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6496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360" y="3476520"/>
            <a:ext cx="2038320" cy="2019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lue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ly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78160" y="1323720"/>
            <a:ext cx="2679840" cy="115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ocu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05000" y="2629080"/>
            <a:ext cx="6486480" cy="723600"/>
            <a:chOff x="1305000" y="2629080"/>
            <a:chExt cx="6486480" cy="723600"/>
          </a:xfrm>
        </p:grpSpPr>
        <p:sp>
          <p:nvSpPr>
            <p:cNvPr id="107" name=""/>
            <p:cNvSpPr/>
            <p:nvPr/>
          </p:nvSpPr>
          <p:spPr>
            <a:xfrm>
              <a:off x="4610160" y="2629080"/>
              <a:ext cx="0" cy="7236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81800" y="2647800"/>
              <a:ext cx="2209680" cy="7048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305000" y="2657520"/>
              <a:ext cx="2381040" cy="6667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66920" y="4476600"/>
            <a:ext cx="4552920" cy="38160"/>
            <a:chOff x="2266920" y="4476600"/>
            <a:chExt cx="4552920" cy="38160"/>
          </a:xfrm>
        </p:grpSpPr>
        <p:sp>
          <p:nvSpPr>
            <p:cNvPr id="111" name=""/>
            <p:cNvSpPr/>
            <p:nvPr/>
          </p:nvSpPr>
          <p:spPr>
            <a:xfrm>
              <a:off x="2266920" y="4514760"/>
              <a:ext cx="590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29440" y="4476600"/>
              <a:ext cx="5904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6191280" y="5041800"/>
            <a:ext cx="1905120" cy="743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971640" y="5003640"/>
            <a:ext cx="2286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37920" y="5003640"/>
            <a:ext cx="1467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924000" y="5003640"/>
            <a:ext cx="64764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05520" y="5022360"/>
            <a:ext cx="32364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5022360"/>
            <a:ext cx="99072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0600" y="3537000"/>
            <a:ext cx="15048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1760" y="3537000"/>
            <a:ext cx="16192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29240" y="3537000"/>
            <a:ext cx="15238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3537000"/>
            <a:ext cx="1676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537000"/>
            <a:ext cx="15624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80" y="3537000"/>
            <a:ext cx="1847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Value Ch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8000" y="1134720"/>
            <a:ext cx="84391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ce of business functions in which utility (usefulness) is added to the products or services of an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helps managers to administer each of these business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520" y="3746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613320"/>
            <a:ext cx="150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, 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4960" y="40514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05640" y="38419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62280" y="5807160"/>
            <a:ext cx="3867120" cy="795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Management Account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-Business Value Matr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920" y="1820520"/>
            <a:ext cx="1924200" cy="310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itic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Importance of the application to the success of the business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4600" y="2068560"/>
            <a:ext cx="1009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14880" y="1828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cell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2971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rimen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14880" y="2971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ament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1828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throu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4360" y="4210200"/>
            <a:ext cx="4876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                         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63880" y="4876920"/>
            <a:ext cx="4248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e Innov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Creating new markets or new ways of doing busines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991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ical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230480"/>
            <a:ext cx="8610480" cy="118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essional accounting organizations play an important role in promoting high standards of ethics in the accounting profes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936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 - 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760" y="2639880"/>
            <a:ext cx="861048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de of Professional Ethic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ciety of Management Accountants of Canada (SMAC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 in a responsible manne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independ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confidentiality of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rve with courtesy and good fait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standards of compet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measures and reports financial and non-financial information that helps managers make decisions to fulfill the goals of an organiz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use management accounting information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, communicate and implement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ordinate product design, production and market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focuses on internal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is future orien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01080" y="6467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ancial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0640" y="1247400"/>
            <a:ext cx="8458200" cy="443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measures and records business transactions and provides financial statements that are based on generally accepted accounting principles (GAAP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are responsible for the financial statements issued to investors, government regulators, and other parties outside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focuses on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reports on what happened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ccounting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640" y="1209240"/>
            <a:ext cx="8458200" cy="50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measures and reports information relating to the cost of acquiring and utilizing resource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provides information for management and financial accoun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describes the approaches and activities of managers in short-run and long-run planning and control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decisions increase value of customers and lower costs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is an integral part of a company’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3-4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ants and Strateg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0640" y="1190520"/>
            <a:ext cx="8458200" cy="50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specifies how an organization matches its own capabilities with opportunities in the marketplace to accomplish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 products or services at low prices (WestJ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que products or services at higher prices (Clublin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rovide information to management such a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o are our customers and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of market to price, quality and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characteristics (size, growth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1980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4-6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28600"/>
            <a:ext cx="7696080" cy="65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ning and Contr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4480" y="1136520"/>
            <a:ext cx="796284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1980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-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7600" y="2050920"/>
            <a:ext cx="26672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crease advertising rat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95720" y="205092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s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28880" y="3556080"/>
            <a:ext cx="26859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mplement rate increas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2960" y="391788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voices / receipts recorded in ledge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4984920"/>
            <a:ext cx="27241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arison of actual and  budgeted revenu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29280" y="5003640"/>
            <a:ext cx="26668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184680" indent="-184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por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90960" y="3799440"/>
            <a:ext cx="14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53400" y="205092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Financi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present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of pla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53400" y="391788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cord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ransactio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 accoun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5156280"/>
            <a:ext cx="1981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188280" indent="-188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ar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dgeted 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actual resul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43880" y="5181480"/>
            <a:ext cx="152280" cy="87660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600"/>
              <a:gd name="textAreaBottom" fmla="*/ 85392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43880" y="394344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43880" y="207648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933640"/>
            <a:ext cx="0" cy="55260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57184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24400" y="443880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0920" y="5753160"/>
            <a:ext cx="59076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09480" y="2571840"/>
            <a:ext cx="304920" cy="3219480"/>
            <a:chOff x="609480" y="2571840"/>
            <a:chExt cx="304920" cy="3219480"/>
          </a:xfrm>
        </p:grpSpPr>
        <p:sp>
          <p:nvSpPr>
            <p:cNvPr id="75" name=""/>
            <p:cNvSpPr/>
            <p:nvPr/>
          </p:nvSpPr>
          <p:spPr>
            <a:xfrm>
              <a:off x="609480" y="2571840"/>
              <a:ext cx="304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480" y="2571840"/>
              <a:ext cx="19080" cy="3219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8560" y="5791320"/>
              <a:ext cx="285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680" y="201600"/>
            <a:ext cx="847728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Management Accounting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3760" y="1275840"/>
            <a:ext cx="8362800" cy="16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enefi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nd resources if they promote decision making that better attains the organization’s goals in relation to the cost of these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67520" y="648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 - 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120" y="2995560"/>
            <a:ext cx="83059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al and Technical Consider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 are not confined exclusively to technical mat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ways consider the influences of human activ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960" y="4815000"/>
            <a:ext cx="77724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t Costs for Different Purpo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fine”cost” depending on the situation under consider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3760" y="387000"/>
            <a:ext cx="8515440" cy="43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 and Staff Relationshi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3760" y="1324080"/>
            <a:ext cx="8362800" cy="13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e management is directly responsible for attaining the objectives of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 in a manufacturing div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4760" y="64832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9 - 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3014640"/>
            <a:ext cx="77724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ff management exists to provide advice and assistance to line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1920" y="4710240"/>
            <a:ext cx="77724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ief financial officer (CFO) overse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ership, Treasury, Tax, and Internal Audit functions in the organ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s of 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9600" y="120924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erform three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960" y="3470400"/>
            <a:ext cx="77724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ention-direc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visible opportunities and problems on which managers need to focu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5120" y="4851360"/>
            <a:ext cx="77724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lem-solv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duct comparative analysis to identify the best alternatives in relation to the organization’s go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4384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960" y="1971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orekeep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mulate data and report reliable results to all levels of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15:33:51Z</dcterms:created>
  <dc:creator>User</dc:creator>
  <dc:description/>
  <dc:language>en-US</dc:language>
  <cp:lastModifiedBy>John Moore</cp:lastModifiedBy>
  <cp:lastPrinted>1999-06-02T16:28:30Z</cp:lastPrinted>
  <dcterms:modified xsi:type="dcterms:W3CDTF">2003-03-22T13:38:28Z</dcterms:modified>
  <cp:revision>41</cp:revision>
  <dc:subject/>
  <dc:title>Role of the Management Accountant</dc:title>
</cp:coreProperties>
</file>