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A9ED-4A6A-4914-8E63-C5ADAB1DD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6DC2-F9DC-4A9D-9FAC-072FEED46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28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760" y="132408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28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760" y="3879720"/>
            <a:ext cx="267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162000"/>
            <a:ext cx="82216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87972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324080"/>
            <a:ext cx="40492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2980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D4B5B3F1-171A-4A8C-AC44-96E262E614D2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exible Budgets, Variances, and Management Control: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069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 costs are significant for most organiz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variable overhead is allocated to products and services using a budgeted variable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efficiency and spending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call that fixed overhead is allocated to products and services using a budgeted fixed overhead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into spending and production volume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7 - 2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units of the allocation base - budgeted units of the allocation base) x budgeted variable overhead allocation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4,500 - 4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5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variable overhead rate - budgeted variable overhead rate) x  actual units of the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9.00 - $30.00) x 4,5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5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Overhea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79 - 2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895480"/>
            <a:ext cx="35812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0,5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752480"/>
            <a:ext cx="2514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pending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5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5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2666880"/>
            <a:ext cx="26668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8440" y="2314080"/>
            <a:ext cx="18687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ed 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800" y="1219320"/>
            <a:ext cx="8298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 spending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fixed overhead costs – Static budgeted fixed overhea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85,000 - $276,000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9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fixed overhead - [ (Budgeted fixed overhead allocation base allowed for actual output units) x (Budgeted fixed overhead rate)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[ (0.40 x 10,000) x $57.50 ]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76,000 - $23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3 - 2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800" y="162000"/>
            <a:ext cx="82216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Cost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8640" y="1219320"/>
            <a:ext cx="3421080" cy="42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Overhea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6477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89 - 29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5200" y="1219320"/>
            <a:ext cx="281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057400"/>
            <a:ext cx="152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t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 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lann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34340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How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Alloc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7339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43200" y="251424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228600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65760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209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733920"/>
            <a:ext cx="1676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971800"/>
            <a:ext cx="15238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943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0" cy="13716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1828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9436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248520" y="4723920"/>
            <a:ext cx="15238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6:33:04Z</dcterms:created>
  <dc:creator>User</dc:creator>
  <dc:description/>
  <dc:language>en-US</dc:language>
  <cp:lastModifiedBy>John Moore</cp:lastModifiedBy>
  <cp:lastPrinted>1999-06-03T17:08:38Z</cp:lastPrinted>
  <dcterms:modified xsi:type="dcterms:W3CDTF">2003-03-22T13:12:46Z</dcterms:modified>
  <cp:revision>8</cp:revision>
  <dc:subject/>
  <dc:title>Overhead Cost Variances</dc:title>
</cp:coreProperties>
</file>