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FEE2-7216-4F95-A0C9-46EC0D9D9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879F-4F0A-44F6-B37E-276647EB2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85056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62000"/>
            <a:ext cx="853416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5056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85056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24680" y="6478560"/>
            <a:ext cx="971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7-</a:t>
            </a:r>
            <a:fld id="{3B57A6E3-AC1B-4E57-AED7-A0A52C329AAE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hapter 7</a:t>
            </a:r>
            <a:br>
              <a:rPr sz="3700"/>
            </a:br>
            <a:br>
              <a:rPr sz="37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exible Budgets, Variances and Management Control: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304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,5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5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4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5 - $24) x 2,304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,304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,304 - 2,500) x $25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4,704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1523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26668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88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14479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2,2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4479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3623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362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2133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724280"/>
            <a:ext cx="2666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Labour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18148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96252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396252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,000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48769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48769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2971800"/>
            <a:ext cx="3429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400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752480"/>
            <a:ext cx="21333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,304 U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1752480"/>
            <a:ext cx="2590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4,704 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66688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6668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43828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1904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ng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8440" y="1143000"/>
            <a:ext cx="8526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are 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 – the degree to which organization’s predetermined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- how well inputs were used in relation to a given level of outpu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indicate that something was difference than expecte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is critical is to understand why variances arise and use this knowledge to promote learning and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investigate only significant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8 - 25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ous Improvement and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ing continuous improvement budgeted costs is another way to control varian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is successively reduced over succeeding time period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als importance of reducing 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0 - 25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657600"/>
            <a:ext cx="8526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or Month’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duction 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is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ont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dgeted Amou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60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0.600 (1% x $60.0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.4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94 (1% x $59.40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2228760"/>
                <a:tab algn="ctr" pos="45720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8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$0.588 (1% x $58.8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8.2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495680"/>
            <a:ext cx="83059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chmarking and Variance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7840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n think of budgeted amounts as benchmarks (points of reference from which comparisons may be mad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nchmarking refers to the continual process of measuring products, services and activities against the best levels of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use internal or external benchmarks\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y Questions to As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y are the cost levels different between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ow can best practices be transferred from more efficient to less efficient units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56 - 25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c and Flexible 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221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based on a single level of outpu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exibl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which is adjusted for the actual level of output, revenue, or cost driv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buClr>
                <a:srgbClr val="fafd00"/>
              </a:buClr>
              <a:buFont typeface="Arial"/>
              <a:buChar char="•"/>
              <a:tabLst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arefully predetermined amount representing what management thinks a cost should b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quantity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 kg.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8 per kg.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ndard cost of 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6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3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203480"/>
            <a:ext cx="8298000" cy="16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s represent the difference between the cost that was incurred and the budgeted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cost &gt; Budgeted cost = Un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st &gt; Actual cost = Favourabl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09880" y="3048120"/>
            <a:ext cx="5105520" cy="5024520"/>
            <a:chOff x="3809880" y="3048120"/>
            <a:chExt cx="5105520" cy="5024520"/>
          </a:xfrm>
        </p:grpSpPr>
        <p:sp>
          <p:nvSpPr>
            <p:cNvPr id="55" name=""/>
            <p:cNvSpPr/>
            <p:nvPr/>
          </p:nvSpPr>
          <p:spPr>
            <a:xfrm>
              <a:off x="3809880" y="3048120"/>
              <a:ext cx="5105520" cy="502452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310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20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68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1,188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242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705,000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  5,000 F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	</a:t>
              </a:r>
              <a:r>
                <a:rPr b="1" lang="en-US" sz="1600" spc="-1" strike="noStrike" u="sng">
                  <a:solidFill>
                    <a:srgbClr val="fafd00"/>
                  </a:solidFill>
                  <a:uFillTx/>
                  <a:latin typeface="Arial"/>
                </a:rPr>
                <a:t> 710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286000"/>
                  <a:tab algn="r" pos="3524400"/>
                  <a:tab algn="r" pos="47624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81480" y="3657600"/>
              <a:ext cx="35053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6 - 23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429000"/>
            <a:ext cx="3505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ce between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 result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hieved and th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riginal stati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80880" y="1066680"/>
            <a:ext cx="8534520" cy="6040440"/>
            <a:chOff x="380880" y="1066680"/>
            <a:chExt cx="8534520" cy="6040440"/>
          </a:xfrm>
        </p:grpSpPr>
        <p:sp>
          <p:nvSpPr>
            <p:cNvPr id="60" name=""/>
            <p:cNvSpPr/>
            <p:nvPr/>
          </p:nvSpPr>
          <p:spPr>
            <a:xfrm>
              <a:off x="380880" y="1066680"/>
              <a:ext cx="8534520" cy="60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tati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Actual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5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,16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2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,188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ntributio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Margin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3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7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ixed cost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0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Operating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r" pos="4184640"/>
                  <a:tab algn="r" pos="5524560"/>
                  <a:tab algn="r" pos="6858000"/>
                  <a:tab algn="r" pos="81914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co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5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262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7400" y="1981080"/>
              <a:ext cx="66294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33526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4267080"/>
              <a:ext cx="9903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96080" y="42670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96080" y="3352680"/>
              <a:ext cx="9907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A Flexible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38 - 24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590920" y="5035680"/>
            <a:ext cx="5790960" cy="609120"/>
            <a:chOff x="2590920" y="5035680"/>
            <a:chExt cx="5790960" cy="609120"/>
          </a:xfrm>
        </p:grpSpPr>
        <p:sp>
          <p:nvSpPr>
            <p:cNvPr id="69" name=""/>
            <p:cNvSpPr/>
            <p:nvPr/>
          </p:nvSpPr>
          <p:spPr>
            <a:xfrm>
              <a:off x="25909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2960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0356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590920" y="5333760"/>
              <a:ext cx="5638680" cy="6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19520" y="5035680"/>
              <a:ext cx="25905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Flexible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50356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Sales volume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90920" y="5721480"/>
            <a:ext cx="5638680" cy="609120"/>
            <a:chOff x="2590920" y="5721480"/>
            <a:chExt cx="5638680" cy="609120"/>
          </a:xfrm>
        </p:grpSpPr>
        <p:sp>
          <p:nvSpPr>
            <p:cNvPr id="76" name=""/>
            <p:cNvSpPr/>
            <p:nvPr/>
          </p:nvSpPr>
          <p:spPr>
            <a:xfrm>
              <a:off x="259092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229600" y="5721480"/>
              <a:ext cx="0" cy="304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90920" y="6026040"/>
              <a:ext cx="5638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33920" y="5721480"/>
              <a:ext cx="30477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237,000 U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Total static budget variance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1344600"/>
            <a:ext cx="2057400" cy="4394520"/>
            <a:chOff x="4191120" y="1344600"/>
            <a:chExt cx="2057400" cy="4394520"/>
          </a:xfrm>
        </p:grpSpPr>
        <p:sp>
          <p:nvSpPr>
            <p:cNvPr id="81" name=""/>
            <p:cNvSpPr/>
            <p:nvPr/>
          </p:nvSpPr>
          <p:spPr>
            <a:xfrm>
              <a:off x="4191120" y="1344600"/>
              <a:ext cx="2057400" cy="43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,80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9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1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7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00,000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92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48320" y="1046160"/>
            <a:ext cx="3124080" cy="3845880"/>
            <a:chOff x="4648320" y="1046160"/>
            <a:chExt cx="3124080" cy="3845880"/>
          </a:xfrm>
        </p:grpSpPr>
        <p:sp>
          <p:nvSpPr>
            <p:cNvPr id="85" name=""/>
            <p:cNvSpPr/>
            <p:nvPr/>
          </p:nvSpPr>
          <p:spPr>
            <a:xfrm>
              <a:off x="4648320" y="1046160"/>
              <a:ext cx="312408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ale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olum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36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8,000 F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62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          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666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162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33526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00800" y="4267080"/>
              <a:ext cx="8380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286000" y="1066680"/>
            <a:ext cx="2590920" cy="3845880"/>
            <a:chOff x="2286000" y="1066680"/>
            <a:chExt cx="2590920" cy="3845880"/>
          </a:xfrm>
        </p:grpSpPr>
        <p:sp>
          <p:nvSpPr>
            <p:cNvPr id="89" name=""/>
            <p:cNvSpPr/>
            <p:nvPr/>
          </p:nvSpPr>
          <p:spPr>
            <a:xfrm>
              <a:off x="2286000" y="1066680"/>
              <a:ext cx="2590920" cy="38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exib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Variances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50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3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80,000 U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   5,000 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tabLst>
                  <a:tab algn="l" pos="0"/>
                  <a:tab algn="r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$75,000 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81280" y="33526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57600" y="4267080"/>
              <a:ext cx="7621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ling Pric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8800" y="1143000"/>
            <a:ext cx="8374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nce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d to evaluate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parate measures of effectiveness and efficienc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185 - $180) x 10,000 units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0,000 F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1399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124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200400"/>
            <a:ext cx="4724280" cy="7621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es Volume Vari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1142640"/>
            <a:ext cx="8374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ective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gree to which the organization’s goals were m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asured by the 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10,000 - 12,000) x $81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62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0 - 2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139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1240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28954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200400"/>
            <a:ext cx="3962520" cy="6858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4100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te: This variance can be read as the difference between the contribution margin in the flexible and static budget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62000"/>
            <a:ext cx="853416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266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is the difference between the actual price and the budgeted price multiplied by the actual quantity of inputs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 is the difference between the actual quantity of inputs used and the budgeted quantity of inputs that should have been used, multiplied by the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4038480"/>
            <a:ext cx="3276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tic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lexible Budget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3276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les Volum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715000"/>
            <a:ext cx="21337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ice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5715000"/>
            <a:ext cx="2590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4648320"/>
            <a:ext cx="42670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548640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4197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464832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2578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5486400"/>
            <a:ext cx="0" cy="22860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1 - 24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- Mater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,200 sq met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,000 sq met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1 per me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30 per me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31 - $30) x 22,2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2,2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22,200 - 20,000) x $3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66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62000"/>
            <a:ext cx="830412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ce and Efficiency Variance – Labour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9,000 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8,000 hou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2 per hou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0 per hou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ice (or rate) variance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price - Budgeted price) x Actual quantity us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$22 - $20) x 9,00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18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cy vari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Actual quantity used - Budgeted quantity used) x Budgeted pr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9,000 - 8,000) x $20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ctr" pos="371484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20,000 U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1600200"/>
            <a:ext cx="533412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43 - 2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3:31:14Z</dcterms:created>
  <dc:creator>User</dc:creator>
  <dc:description/>
  <dc:language>en-US</dc:language>
  <cp:lastModifiedBy>John Moore</cp:lastModifiedBy>
  <cp:lastPrinted>1999-06-03T16:31:46Z</cp:lastPrinted>
  <dcterms:modified xsi:type="dcterms:W3CDTF">2003-03-22T13:12:29Z</dcterms:modified>
  <cp:revision>14</cp:revision>
  <dc:subject/>
  <dc:title>Static and Flexible Budgets</dc:title>
</cp:coreProperties>
</file>