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C65-871E-44A6-8296-3C51493F3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44F-11E6-4CB6-9EA0-45F31CBAE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43208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987720"/>
            <a:ext cx="27723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8772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432080"/>
            <a:ext cx="420156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87720"/>
            <a:ext cx="861048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32080"/>
            <a:ext cx="861048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4-</a:t>
            </a:r>
            <a:fld id="{3700C87A-F6F3-4668-BE56-43AD85B3D40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4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b Cos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and Overallocate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u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080,00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[$40 x 27,000 hours]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1160" indent="0">
              <a:buNone/>
              <a:tabLst>
                <a:tab algn="l" pos="0"/>
                <a:tab algn="ctr" pos="2193840"/>
                <a:tab algn="ctr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3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4305240" y="875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0"/>
                </a:lnTo>
                <a:cubicBezTo>
                  <a:pt x="10800" y="9890"/>
                  <a:pt x="5400" y="10790"/>
                  <a:pt x="0" y="10790"/>
                </a:cubicBezTo>
                <a:cubicBezTo>
                  <a:pt x="5400" y="10790"/>
                  <a:pt x="10800" y="11690"/>
                  <a:pt x="10800" y="125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1148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ost companies write-off over or under-allocated overhead to cost of goods sold at the end of the ye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rating the difference among the ending inventory and cost of goods sold accounts can be done if the amount is material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6461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5 - 19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in the Service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direct labour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4,40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budgeted 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2,960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direct professional labour-h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88,000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8 - 12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8954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direct labour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4,400,000 / 288,000 = $50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12,960,000 / 288,000 = $45 per hou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f an Aud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labour  ($50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($45 per hour x 800 hours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3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76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 Termi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thing for which a separate measurement of costs is desi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that are related to a particular cost object in an economically feasible (Cost-effective) mann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spcAft>
                <a:spcPts val="1500"/>
              </a:spcAft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grouping of individual cost ite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5880" indent="-3358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that is the common denominator for systematically linking an indirect cost or group of indirect costs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8 - 10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Job-Cos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distinct unit or bat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expended to bring a distinct product or service to market for a specific custom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vertising campaign, audit, aircraft assembl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95280"/>
            <a:ext cx="0" cy="3812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447920"/>
            <a:ext cx="449568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75248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cess-Cos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re assigned to a mass of similar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re used to mass-produce a product or service and not for any specific custom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stal delivery, oil refin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09 - 1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cost object(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0- 1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765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direct costs for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ect cost-allocation bases to use in allocating th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dentify the indirect costs associated with each cost-allocation b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rate per unit of each cost-allocation base to allocate indirect costs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mpute the indirect costs allocated to the cost object(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termine the cost of the cost object(s) by adding the direct and 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59092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219320"/>
            <a:ext cx="4647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Overhea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,21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038480" y="3200400"/>
            <a:ext cx="4907160" cy="1235160"/>
            <a:chOff x="4038480" y="3200400"/>
            <a:chExt cx="4907160" cy="1235160"/>
          </a:xfrm>
        </p:grpSpPr>
        <p:sp>
          <p:nvSpPr>
            <p:cNvPr id="67" name=""/>
            <p:cNvSpPr/>
            <p:nvPr/>
          </p:nvSpPr>
          <p:spPr>
            <a:xfrm>
              <a:off x="4038480" y="3657600"/>
              <a:ext cx="4907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4000"/>
            </a:bodyPr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5 per direc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22200" indent="-322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Manufacturing Labour Hour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3200400"/>
              <a:ext cx="0" cy="380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62120" y="4495680"/>
            <a:ext cx="7772400" cy="1752840"/>
            <a:chOff x="762120" y="4495680"/>
            <a:chExt cx="7772400" cy="1752840"/>
          </a:xfrm>
        </p:grpSpPr>
        <p:sp>
          <p:nvSpPr>
            <p:cNvPr id="70" name=""/>
            <p:cNvSpPr/>
            <p:nvPr/>
          </p:nvSpPr>
          <p:spPr>
            <a:xfrm>
              <a:off x="6477120" y="4495680"/>
              <a:ext cx="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563868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4952880"/>
              <a:ext cx="3810240" cy="1219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Object: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+ Indirect Cost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Mate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irect Labou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5943600"/>
              <a:ext cx="10666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76720" y="12193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1 - 11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2057400"/>
            <a:ext cx="8539200" cy="1066680"/>
            <a:chOff x="609480" y="2057400"/>
            <a:chExt cx="8539200" cy="1066680"/>
          </a:xfrm>
        </p:grpSpPr>
        <p:sp>
          <p:nvSpPr>
            <p:cNvPr id="78" name=""/>
            <p:cNvSpPr/>
            <p:nvPr/>
          </p:nvSpPr>
          <p:spPr>
            <a:xfrm>
              <a:off x="609480" y="2286000"/>
              <a:ext cx="25909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7000"/>
            </a:bodyPr>
            <a:p>
              <a:pPr marL="298440" indent="-2984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st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llocation Bas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2362320"/>
              <a:ext cx="5262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2000"/>
            </a:bodyPr>
            <a:p>
              <a:pPr marL="315360" indent="-315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7,000 Direct Manufacturing Labour-Hours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77120" y="2057400"/>
              <a:ext cx="0" cy="304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6720" y="2286000"/>
              <a:ext cx="304560" cy="8380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Period for Indirect-Cost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ually calculate indirect-cost rates once each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se a yearly rate because using a shorter period of time (such as monthly or quarterly) would cause the rate to be higher or lower at different times during the year due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asonality of costs (higher heating costs in the winter month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luctuating volumes (units produced in low volume months would be charged a greater cost)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5 - 1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Cos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ormal costing is a method that traces  direct costs to a cost objec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indirect-cost rat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Budgeted total cost in indirect-cost poo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dgeted total quantity of the cost-allocation bas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6 - 11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6576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 company budgets for manufacturing overhead of $1,280,000 and direct manufacturing labour-hours of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udgeted indirect-cost rat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1,280,000 / 32,000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= $40 per direct manufacturing labour-hour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b Costing System in Manufactu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6240" y="236196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ost of 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Goods Sold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inished 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3623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Work-In-Process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8120"/>
            <a:ext cx="15238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048120"/>
            <a:ext cx="15242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3048120"/>
            <a:ext cx="0" cy="1066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y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0"/>
            <a:ext cx="0" cy="12193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505320"/>
            <a:ext cx="6094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56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Labou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3341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cur Overhea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57400" y="3733560"/>
            <a:ext cx="1447920" cy="11430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86000" y="4038480"/>
            <a:ext cx="1219320" cy="1524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505320"/>
            <a:ext cx="15238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1240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12408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el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294840" indent="-294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3505320"/>
            <a:ext cx="137160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18 - 12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rect Costs and End-of-Period Adju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 the end of the period, there is usually a difference between indirect costs incurred and indirect costs allocated to work-in-process during the yea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61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24 - 12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05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983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327320"/>
                <a:tab algn="ctr" pos="2655720"/>
                <a:tab algn="ctr" pos="4011480"/>
                <a:tab algn="ctr" pos="5425920"/>
                <a:tab algn="ctr" pos="6869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 allocation rate x actual volume of wo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862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ver-alloc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ur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loc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1257480"/>
                <a:tab algn="ctr" pos="2655720"/>
                <a:tab algn="ctr" pos="4011480"/>
                <a:tab algn="ctr" pos="542592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0:15:28Z</dcterms:created>
  <dc:creator>User</dc:creator>
  <dc:description/>
  <dc:language>en-US</dc:language>
  <cp:lastModifiedBy>John Moore</cp:lastModifiedBy>
  <cp:lastPrinted>1999-06-03T01:59:16Z</cp:lastPrinted>
  <dcterms:modified xsi:type="dcterms:W3CDTF">2003-03-22T13:11:06Z</dcterms:modified>
  <cp:revision>12</cp:revision>
  <dc:subject/>
  <dc:title>No Slide Title</dc:title>
</cp:coreProperties>
</file>