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0006-3401-4B27-9B94-98BFC1B60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7F5C-3705-4FB1-B626-42222B15C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2220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2952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222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151920"/>
            <a:ext cx="8381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222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2952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2220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6416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3-</a:t>
            </a:r>
            <a:fld id="{55057473-156A-482B-A4BA-14E56521052D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3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st-Volume-Profit Analy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enue M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mix (or sales mix) is the relative combination of quantities of products or services that make up total revenu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ales mix of  Do-All : Superword  =  2 : 1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30 unit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0 units of Do-Al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0 units of Superwor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2971800"/>
            <a:ext cx="1600200" cy="825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-Al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2971800"/>
            <a:ext cx="1600200" cy="825480"/>
          </a:xfrm>
          <a:prstGeom prst="rect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-Al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2971800"/>
            <a:ext cx="160020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uperwor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5257800"/>
            <a:ext cx="167616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5257800"/>
            <a:ext cx="1676160" cy="3808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 - 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ple Cost Driv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many cases there may be multiple cost driv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-All Software Exampl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s: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 per software package sol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15 per invoice issu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 – ($40 x packages sold) – ($15 x invoices issued) – Fix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cases where there are multiple cost drivers there are multiple breakeven poi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1 - 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&amp; Gross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rchandising Sect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 82 - 8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981080"/>
            <a:ext cx="4114800" cy="419112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Variable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variabl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3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6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xed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ther fix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9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4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3200400"/>
                <a:tab algn="dec" pos="3828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1981080"/>
            <a:ext cx="4343400" cy="33530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  (120+5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2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costs (43+19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6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4057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&amp; Gross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ing Secto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1 - 8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981080"/>
            <a:ext cx="4038480" cy="419112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Variable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2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70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5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xed cost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6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138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29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2971800"/>
                <a:tab algn="dec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1981080"/>
            <a:ext cx="4419720" cy="335304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,0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 (250+160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1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9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-manufacturing (270+138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40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$18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ision Models and Uncertain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make predictions and decisions in a world of uncertain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stimate events that are likely to occur and assign probabilities to each out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bability distribution describes the likelihood of each mutually exclusive and collectively exhaustive set of events  (must add to 1.00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value is a weighted average of the outcomes with the probability of each outcome serving as the weigh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 86 - 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190512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266688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971800"/>
            <a:ext cx="2514600" cy="0"/>
          </a:xfrm>
          <a:prstGeom prst="line">
            <a:avLst/>
          </a:prstGeom>
          <a:ln w="93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7900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certainty 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1905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posal A: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y No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6461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8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1295280"/>
            <a:ext cx="213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babilit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4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dec" pos="182880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1295280"/>
            <a:ext cx="0" cy="198144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3352680"/>
            <a:ext cx="3048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  3  4  5  6  7  8  9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ash Inflow ($000,000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2971800"/>
            <a:ext cx="152280" cy="304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2666880"/>
            <a:ext cx="152280" cy="60984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1905120"/>
            <a:ext cx="152640" cy="137160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666880"/>
            <a:ext cx="152280" cy="60984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2971800"/>
            <a:ext cx="152280" cy="304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3276720"/>
            <a:ext cx="25146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4495680"/>
            <a:ext cx="8305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cted val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0.1*$300,000) + (.02*$350,000) + (.04*$400,000) + (0.2*$450,000) + (0.1*$500,000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40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42720"/>
            <a:ext cx="79898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-Volume-Profit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ines the behaviour of total revenues, total costs, and operating income as changes occur in the output level, selling price, variable costs or fixe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umptions of CVP Analy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change in relation to production and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can be divided in variable and fixed categor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venues and costs behave in a linear fash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s and prices are know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f more than one product exists, the sales mix is constan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e can ignore the time value of mone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6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936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127160"/>
            <a:ext cx="8305920" cy="275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is equal to the difference between total revenue and total variabl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lling price - Variable cost per unit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centa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ibution margin per unit / selling price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8 - 6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3520" y="3886200"/>
            <a:ext cx="8229600" cy="2362320"/>
            <a:chOff x="533520" y="3886200"/>
            <a:chExt cx="8229600" cy="2362320"/>
          </a:xfrm>
        </p:grpSpPr>
        <p:sp>
          <p:nvSpPr>
            <p:cNvPr id="56" name=""/>
            <p:cNvSpPr/>
            <p:nvPr/>
          </p:nvSpPr>
          <p:spPr>
            <a:xfrm>
              <a:off x="533520" y="4876920"/>
              <a:ext cx="80769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Revenue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20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40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10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Variable costs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12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24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 u="sng">
                  <a:solidFill>
                    <a:srgbClr val="fafd00"/>
                  </a:solidFill>
                  <a:uFillTx/>
                  <a:latin typeface="Arial"/>
                </a:rPr>
                <a:t>6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r" pos="4300560"/>
                  <a:tab algn="r" pos="6004080"/>
                  <a:tab algn="r" pos="753264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ontribution margin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8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$160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0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" y="3886200"/>
              <a:ext cx="8077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ctr" pos="3828960"/>
                  <a:tab algn="ctr" pos="5600880"/>
                  <a:tab algn="ctr" pos="69724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otal f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3828960"/>
                  <a:tab algn="ctr" pos="5600880"/>
                  <a:tab algn="ctr" pos="69724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er Unit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 units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%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4724280"/>
              <a:ext cx="411480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42720"/>
            <a:ext cx="798984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ibution Margin Income Stat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550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ackages Sold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5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4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064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Revenu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2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4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5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8,0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Variable costs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       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12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4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3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4,8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ntribution margin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8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16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2,00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3,2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Fixed costs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2,0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375"/>
              </a:spcBef>
              <a:buNone/>
              <a:tabLst>
                <a:tab algn="l" pos="0"/>
                <a:tab algn="r" pos="3657600"/>
                <a:tab algn="r" pos="4915080"/>
                <a:tab algn="r" pos="6229440"/>
                <a:tab algn="r" pos="7315200"/>
                <a:tab algn="r" pos="84582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2,00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1,92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(1,840)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0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$1,200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2193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ome statement that groups line items by cost  behaviour to highlight the contribution marg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3276720"/>
            <a:ext cx="5562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6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279360"/>
            <a:ext cx="798984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eakeven Po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62920" cy="123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ntity of output where total revenues equal total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oint where operating income equals zer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5909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 / Contribution margin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,000 / $80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25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even point in dolla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 / contribution margin %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$2,000 / 40%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 $5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-Volume-Profit Grap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660320"/>
            <a:ext cx="1067040" cy="382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10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8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6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2,00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  <a:p>
            <a:pPr marL="335880" indent="0" algn="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1523880"/>
            <a:ext cx="0" cy="373392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5257800"/>
            <a:ext cx="563904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5468760"/>
            <a:ext cx="6705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154160"/>
                <a:tab algn="ctr" pos="2193840"/>
                <a:tab algn="ctr" pos="3348000"/>
                <a:tab algn="ctr" pos="4473720"/>
                <a:tab algn="ctr" pos="5627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5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1154160"/>
                <a:tab algn="ctr" pos="2193840"/>
                <a:tab algn="ctr" pos="3348000"/>
                <a:tab algn="ctr" pos="4473720"/>
                <a:tab algn="ctr" pos="5627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Units Sol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3581280"/>
            <a:ext cx="0" cy="167652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581280"/>
            <a:ext cx="281952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38880" y="1492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revenu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1600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reakeve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5 uni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2590920"/>
            <a:ext cx="152280" cy="7617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200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pera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572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Opera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o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646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7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523880" y="2590560"/>
            <a:ext cx="5486400" cy="19810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523880" y="1904760"/>
            <a:ext cx="5562720" cy="335268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1905120"/>
            <a:ext cx="2743200" cy="1676160"/>
          </a:xfrm>
          <a:custGeom>
            <a:avLst/>
            <a:gdLst/>
            <a:ahLst/>
            <a:rect l="l" t="t" r="r" b="b"/>
            <a:pathLst>
              <a:path w="1728" h="1104">
                <a:moveTo>
                  <a:pt x="1728" y="0"/>
                </a:moveTo>
                <a:lnTo>
                  <a:pt x="1728" y="480"/>
                </a:lnTo>
                <a:lnTo>
                  <a:pt x="0" y="1104"/>
                </a:lnTo>
                <a:lnTo>
                  <a:pt x="1728" y="0"/>
                </a:lnTo>
                <a:close/>
              </a:path>
            </a:pathLst>
          </a:custGeom>
          <a:solidFill>
            <a:srgbClr val="0099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324480" y="2666880"/>
            <a:ext cx="0" cy="457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3581280"/>
            <a:ext cx="2819520" cy="1676520"/>
          </a:xfrm>
          <a:custGeom>
            <a:avLst/>
            <a:gdLst/>
            <a:ahLst/>
            <a:rect l="l" t="t" r="r" b="b"/>
            <a:pathLst>
              <a:path w="1776" h="1056">
                <a:moveTo>
                  <a:pt x="0" y="1056"/>
                </a:moveTo>
                <a:lnTo>
                  <a:pt x="0" y="624"/>
                </a:lnTo>
                <a:lnTo>
                  <a:pt x="1776" y="0"/>
                </a:lnTo>
                <a:lnTo>
                  <a:pt x="0" y="1056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590560" y="4343040"/>
            <a:ext cx="609480" cy="3049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22860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otal cos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get Operating Inco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r most firms in the private sector, the main objective is not to breakeve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vert after-tax desired net income to its before-tax equivalent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operating incom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net income / (1 - tax rat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Unit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Fixed costs + Target operating incom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/ Contribution margin per uni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arget Dollar Sa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(Fixed costs + Target operating income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/ Contribution margin %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6461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3 - 7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nsitivity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analysis is a “what-if” technique that examines how a result will change if the original predicted data are not achieved or if an underlying assumption chang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will happen to operating income if volume declines by 5%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at will happen to operating income if variable costs increase by 10% per unit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analysis broadens management’s perspectives about possible outcom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6 - 7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989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ernative Cost Struc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VP helps managers assess the risks and potential benefits of adopting alternative cost structur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6461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77 - 7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0574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 Alternative rental arrangem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95880" y="2971800"/>
            <a:ext cx="2971800" cy="3309120"/>
            <a:chOff x="6095880" y="2971800"/>
            <a:chExt cx="2971800" cy="3309120"/>
          </a:xfrm>
        </p:grpSpPr>
        <p:sp>
          <p:nvSpPr>
            <p:cNvPr id="99" name=""/>
            <p:cNvSpPr/>
            <p:nvPr/>
          </p:nvSpPr>
          <p:spPr>
            <a:xfrm>
              <a:off x="6519960" y="4114800"/>
              <a:ext cx="1785960" cy="1343160"/>
            </a:xfrm>
            <a:custGeom>
              <a:avLst/>
              <a:gdLst/>
              <a:ahLst/>
              <a:rect l="l" t="t" r="r" b="b"/>
              <a:pathLst>
                <a:path w="1125" h="846">
                  <a:moveTo>
                    <a:pt x="1125" y="0"/>
                  </a:moveTo>
                  <a:lnTo>
                    <a:pt x="1125" y="192"/>
                  </a:lnTo>
                  <a:lnTo>
                    <a:pt x="0" y="846"/>
                  </a:lnTo>
                  <a:lnTo>
                    <a:pt x="855" y="210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72200" y="2971800"/>
              <a:ext cx="2666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3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20% Commission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7120" y="4114800"/>
              <a:ext cx="0" cy="1371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77120" y="5486400"/>
              <a:ext cx="1828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477120" y="4114800"/>
              <a:ext cx="1828800" cy="1371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477120" y="4419360"/>
              <a:ext cx="1828800" cy="10666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05920" y="38098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05920" y="419112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95880" y="3962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01000" y="5562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943600"/>
              <a:ext cx="23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0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971800" y="2666880"/>
            <a:ext cx="3428640" cy="3620880"/>
            <a:chOff x="2971800" y="2666880"/>
            <a:chExt cx="3428640" cy="3620880"/>
          </a:xfrm>
        </p:grpSpPr>
        <p:sp>
          <p:nvSpPr>
            <p:cNvPr id="111" name=""/>
            <p:cNvSpPr/>
            <p:nvPr/>
          </p:nvSpPr>
          <p:spPr>
            <a:xfrm>
              <a:off x="4350960" y="4159440"/>
              <a:ext cx="1170360" cy="750960"/>
            </a:xfrm>
            <a:custGeom>
              <a:avLst/>
              <a:gdLst/>
              <a:ahLst/>
              <a:rect l="l" t="t" r="r" b="b"/>
              <a:pathLst>
                <a:path w="639" h="483">
                  <a:moveTo>
                    <a:pt x="639" y="0"/>
                  </a:moveTo>
                  <a:lnTo>
                    <a:pt x="639" y="192"/>
                  </a:lnTo>
                  <a:lnTo>
                    <a:pt x="0" y="483"/>
                  </a:lnTo>
                  <a:lnTo>
                    <a:pt x="369" y="210"/>
                  </a:lnTo>
                  <a:lnTo>
                    <a:pt x="639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47840" y="2666880"/>
              <a:ext cx="29887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7000"/>
            </a:bodyPr>
            <a:p>
              <a:pPr marL="332640" indent="-3326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1,400 Fixed Fe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32640" indent="-332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+ 5% Commission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11360" y="4159440"/>
              <a:ext cx="0" cy="13431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11360" y="5502600"/>
              <a:ext cx="21099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411360" y="4159080"/>
              <a:ext cx="2109960" cy="13431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411360" y="4457880"/>
              <a:ext cx="2109960" cy="820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21680" y="3860640"/>
              <a:ext cx="79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21680" y="423396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4010040"/>
              <a:ext cx="43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69960" y="5577480"/>
              <a:ext cx="105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11360" y="4910400"/>
              <a:ext cx="933840" cy="592200"/>
            </a:xfrm>
            <a:custGeom>
              <a:avLst/>
              <a:gdLst/>
              <a:ahLst/>
              <a:rect l="l" t="t" r="r" b="b"/>
              <a:pathLst>
                <a:path w="510" h="381">
                  <a:moveTo>
                    <a:pt x="0" y="234"/>
                  </a:moveTo>
                  <a:lnTo>
                    <a:pt x="0" y="381"/>
                  </a:lnTo>
                  <a:lnTo>
                    <a:pt x="510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11360" y="5950440"/>
              <a:ext cx="272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20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11360" y="4905720"/>
              <a:ext cx="9669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290480" y="490572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6320" y="2971800"/>
            <a:ext cx="2971800" cy="3277440"/>
            <a:chOff x="76320" y="2971800"/>
            <a:chExt cx="2971800" cy="3277440"/>
          </a:xfrm>
        </p:grpSpPr>
        <p:sp>
          <p:nvSpPr>
            <p:cNvPr id="126" name=""/>
            <p:cNvSpPr/>
            <p:nvPr/>
          </p:nvSpPr>
          <p:spPr>
            <a:xfrm>
              <a:off x="1447920" y="4114800"/>
              <a:ext cx="838080" cy="609480"/>
            </a:xfrm>
            <a:custGeom>
              <a:avLst/>
              <a:gdLst/>
              <a:ahLst/>
              <a:rect l="l" t="t" r="r" b="b"/>
              <a:pathLst>
                <a:path w="528" h="384">
                  <a:moveTo>
                    <a:pt x="528" y="0"/>
                  </a:moveTo>
                  <a:lnTo>
                    <a:pt x="528" y="192"/>
                  </a:lnTo>
                  <a:lnTo>
                    <a:pt x="0" y="384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4724280"/>
              <a:ext cx="990720" cy="762120"/>
            </a:xfrm>
            <a:custGeom>
              <a:avLst/>
              <a:gdLst/>
              <a:ahLst/>
              <a:rect l="l" t="t" r="r" b="b"/>
              <a:pathLst>
                <a:path w="624" h="480">
                  <a:moveTo>
                    <a:pt x="0" y="240"/>
                  </a:moveTo>
                  <a:lnTo>
                    <a:pt x="0" y="480"/>
                  </a:lnTo>
                  <a:lnTo>
                    <a:pt x="624" y="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2280" y="2971800"/>
              <a:ext cx="26672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Option 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$2,000 Fixed Fe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4114800"/>
              <a:ext cx="0" cy="13716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5486400"/>
              <a:ext cx="182880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457200" y="4114800"/>
              <a:ext cx="1828800" cy="1371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57200" y="4419360"/>
              <a:ext cx="182880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38098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v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86000" y="41911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320" y="3962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$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1080" y="5562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591192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Breakeven = 25 uni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" y="4724280"/>
              <a:ext cx="990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447920" y="4723920"/>
              <a:ext cx="0" cy="762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9:52:02Z</dcterms:created>
  <dc:creator>User</dc:creator>
  <dc:description/>
  <dc:language>en-US</dc:language>
  <cp:lastModifiedBy>John Moore</cp:lastModifiedBy>
  <dcterms:modified xsi:type="dcterms:W3CDTF">2003-03-22T13:10:10Z</dcterms:modified>
  <cp:revision>15</cp:revision>
  <dc:subject/>
  <dc:title>Cost-Volume-Profit Analysis</dc:title>
</cp:coreProperties>
</file>