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1A3DE-C5FB-4206-8A6D-B1C60EAD0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4EAED-1C4F-467C-8AE7-C000BF8177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05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9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05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9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162000"/>
            <a:ext cx="829800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2-</a:t>
            </a:r>
            <a:fld id="{56121853-85CA-4ACD-ADA1-79D77964B42A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200"/>
            <a:ext cx="7543800" cy="366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2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icing Decisions, Product Profitability Decisions, and Cost Manageme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jor Influences on Pric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85640" indent="-485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 three major influences on pricing decisions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85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1002240" indent="-327960">
              <a:spcBef>
                <a:spcPts val="45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ine pricing problems through the eyes of the custom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85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etitor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1002240" indent="-327960">
              <a:spcBef>
                <a:spcPts val="45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nk about prices as part of the total marketing package and strategic positioning of the company and its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85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1002240" indent="-327960">
              <a:spcBef>
                <a:spcPts val="45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ices must cover all costs in the long-ru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1002240" indent="-327960">
              <a:spcBef>
                <a:spcPts val="45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mportant to know what your costs ar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52 - 45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ing and Pricing for the Long Ru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curate product cost information is essentia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 many industries, competitive market forces set prices (oil &amp; gas, mining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wo Alternative Long-Run Pricing Approach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rket-ba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71640" indent="-366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at do our customers want and what are our competitors doing?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-490680">
              <a:spcBef>
                <a:spcPts val="601"/>
              </a:spcBef>
              <a:buClr>
                <a:srgbClr val="fafd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-based (or cost-plus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71640" indent="-366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at price should we charge to cover our costs and earn a profit?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55 - 45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rget Costing for Target Pric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82216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75920" indent="-47592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arget price is the estimated price for a product or service that potential customers will be willing to pay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475920" indent="-47592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Based on an understanding of customers’ perceived value for a product and competitors’ responses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475920" indent="-47592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arget cost per unit is the estimated long-run cost per unit of product or service that, when sold at the target price, enables the company to achieve its target income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47592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4 Steps in Target Pricing and Target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759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velop a product that satisfies a customer ne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7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hoose target price based on customers’ valu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7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rive a target 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7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erform value engineering to achieve target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7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58 - 46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676520" y="3171960"/>
            <a:ext cx="5029200" cy="2057400"/>
          </a:xfrm>
          <a:custGeom>
            <a:avLst/>
            <a:gdLst/>
            <a:ahLst/>
            <a:rect l="l" t="t" r="r" b="b"/>
            <a:pathLst>
              <a:path w="3168" h="1296">
                <a:moveTo>
                  <a:pt x="0" y="1296"/>
                </a:moveTo>
                <a:lnTo>
                  <a:pt x="720" y="336"/>
                </a:lnTo>
                <a:lnTo>
                  <a:pt x="2592" y="192"/>
                </a:lnTo>
                <a:lnTo>
                  <a:pt x="3168" y="0"/>
                </a:lnTo>
              </a:path>
            </a:pathLst>
          </a:custGeom>
          <a:noFill/>
          <a:ln w="2844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 Incurrence and Locked-In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8800" y="1142640"/>
            <a:ext cx="8221680" cy="164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incurrence occurs when a resource is sacrificed or used up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ocked-in (or designed-in) costs are costs that have not yet been incurred but are committed to be sp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76520" y="3171960"/>
            <a:ext cx="0" cy="20574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76520" y="5229360"/>
            <a:ext cx="53337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3247920"/>
            <a:ext cx="1600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Cumulative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per unit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52480" y="5305320"/>
            <a:ext cx="62485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577800"/>
                <a:tab algn="ctr" pos="2395440"/>
                <a:tab algn="ctr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R&amp;D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Marketing,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77800"/>
                <a:tab algn="ctr" pos="2395440"/>
                <a:tab algn="ctr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and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Manufacturing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Distribution &amp;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77800"/>
                <a:tab algn="ctr" pos="2395440"/>
                <a:tab algn="ctr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Design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Customer Service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19520" y="3247920"/>
            <a:ext cx="0" cy="198144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91320" y="3247920"/>
            <a:ext cx="0" cy="198144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3171960"/>
            <a:ext cx="5029200" cy="2057400"/>
          </a:xfrm>
          <a:custGeom>
            <a:avLst/>
            <a:gdLst/>
            <a:ahLst/>
            <a:rect l="l" t="t" r="r" b="b"/>
            <a:pathLst>
              <a:path w="3168" h="1296">
                <a:moveTo>
                  <a:pt x="0" y="1296"/>
                </a:moveTo>
                <a:lnTo>
                  <a:pt x="720" y="1104"/>
                </a:lnTo>
                <a:lnTo>
                  <a:pt x="2592" y="384"/>
                </a:lnTo>
                <a:lnTo>
                  <a:pt x="3168" y="0"/>
                </a:lnTo>
              </a:path>
            </a:pathLst>
          </a:custGeom>
          <a:noFill/>
          <a:ln w="2844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0120" y="5303880"/>
            <a:ext cx="129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Value-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Chain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Functions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76720" y="294336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ocked-i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st curv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86200" y="446724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st incurren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urv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7390800" y="5305320"/>
            <a:ext cx="152280" cy="838440"/>
          </a:xfrm>
          <a:custGeom>
            <a:avLst/>
            <a:gdLst>
              <a:gd name="textAreaLeft" fmla="*/ 96840 w 152280"/>
              <a:gd name="textAreaRight" fmla="*/ 152280 w 15228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3247920"/>
            <a:ext cx="0" cy="198144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60 - 46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 Plus Pric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8440" y="1219320"/>
            <a:ext cx="81457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ost companies establish prices using either a market-based or cost-based approac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plus pricing begins with some form of product or service cost and adds on an appropriate mark-up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ing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5% markup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797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$483.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manufacturing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0% markup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81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  $540.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ctr" pos="1327320"/>
                <a:tab algn="ctr" pos="3722760"/>
                <a:tab algn="ctr" pos="5253120"/>
                <a:tab algn="ctr" pos="63784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ull costs  $720.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2% markup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806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64 - 46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st-Plus Target Rate of Return on Invest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324080"/>
            <a:ext cx="8755200" cy="37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r" pos="6869160"/>
                <a:tab algn="ctr" pos="79088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ne approach to determining the markup % is to consider the desired rate of return on the organization’s invested capita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r" pos="6869160"/>
                <a:tab algn="ctr" pos="790884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r" pos="6869160"/>
                <a:tab algn="ctr" pos="79088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Invested capital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96,000,0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(a)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r" pos="6869160"/>
                <a:tab algn="ctr" pos="79088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arget rate of return on investment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           18%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(b)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r" pos="6869160"/>
                <a:tab algn="ctr" pos="79088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arget  operating income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17,280,0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(a x b)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r" pos="6869160"/>
                <a:tab algn="ctr" pos="79088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otal expected unit sales of product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200,0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(c)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r" pos="6869160"/>
                <a:tab algn="ctr" pos="79088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arget operating income per unit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86.4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(a x b / c)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6320" y="5334120"/>
            <a:ext cx="9067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ctr" pos="1039680"/>
                <a:tab algn="ctr" pos="2106720"/>
                <a:tab algn="ctr" pos="4184640"/>
                <a:tab algn="r" pos="620568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Cost base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arget operating income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arget selling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ctr" pos="1039680"/>
                <a:tab algn="ctr" pos="2106720"/>
                <a:tab algn="ctr" pos="4184640"/>
                <a:tab algn="r" pos="6205680"/>
                <a:tab algn="ctr" pos="762012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720.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per unit   $86.4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price $806.40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25800" y="5562720"/>
            <a:ext cx="47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ctr" pos="1039680"/>
                <a:tab algn="ctr" pos="2106720"/>
                <a:tab algn="ctr" pos="4184640"/>
                <a:tab algn="r" pos="62056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64280" y="5562720"/>
            <a:ext cx="47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ctr" pos="1039680"/>
                <a:tab algn="ctr" pos="2106720"/>
                <a:tab algn="ctr" pos="4184640"/>
                <a:tab algn="r" pos="6205680"/>
                <a:tab algn="ctr" pos="733104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=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64 - 46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3733920"/>
            <a:ext cx="137160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fe Cycle Product Budgeting and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 life cycle spans the time from initial R&amp;D to the time at which support from the customers is withdraw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fe Cycle Budge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 revenues and costs over the life cycle of the product or servic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fe Cycle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ck and accumulate costs over the life cycle of the product or serv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radle-to-grave”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omb-to-tomb”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69 - 47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23:46:26Z</dcterms:created>
  <dc:creator>User</dc:creator>
  <dc:description/>
  <dc:language>en-US</dc:language>
  <cp:lastModifiedBy>John Moore</cp:lastModifiedBy>
  <cp:lastPrinted>1999-06-04T00:42:38Z</cp:lastPrinted>
  <dcterms:modified xsi:type="dcterms:W3CDTF">2003-03-22T13:17:13Z</dcterms:modified>
  <cp:revision>12</cp:revision>
  <dc:subject/>
  <dc:title>No Slide Title</dc:title>
</cp:coreProperties>
</file>