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213A-1C68-41FB-A7EA-F08EBF41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6BC7-DC92-457F-8484-233996B7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6-</a:t>
            </a:r>
            <a:fld id="{6F3EC95E-E3BB-4959-93E0-199E21A5CA1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enues, Sales Variances, and Customer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4648320"/>
            <a:ext cx="3657240" cy="1523880"/>
            <a:chOff x="914400" y="4648320"/>
            <a:chExt cx="3657240" cy="1523880"/>
          </a:xfrm>
        </p:grpSpPr>
        <p:sp>
          <p:nvSpPr>
            <p:cNvPr id="120" name=""/>
            <p:cNvSpPr/>
            <p:nvPr/>
          </p:nvSpPr>
          <p:spPr>
            <a:xfrm>
              <a:off x="380484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5257800"/>
              <a:ext cx="1356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1880" y="5257800"/>
              <a:ext cx="176976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Yield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04080" y="4952880"/>
              <a:ext cx="2477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40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196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3520" y="3124080"/>
            <a:ext cx="3962160" cy="1524240"/>
            <a:chOff x="533520" y="3124080"/>
            <a:chExt cx="3962160" cy="1524240"/>
          </a:xfrm>
        </p:grpSpPr>
        <p:sp>
          <p:nvSpPr>
            <p:cNvPr id="127" name=""/>
            <p:cNvSpPr/>
            <p:nvPr/>
          </p:nvSpPr>
          <p:spPr>
            <a:xfrm>
              <a:off x="266112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733920"/>
              <a:ext cx="168732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3733920"/>
              <a:ext cx="19810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fficienc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3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720" y="3429000"/>
              <a:ext cx="20541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78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allocation occurs when revenues, related but not traceable to individual products (services or customers), are assigned to individual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ndled product is a package of two or more products or services, sold for a single price, each with their own stand-alone pr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ften called suite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revenues to products based 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elling prices or unit cos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physical unit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stand-alone product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incremental revenues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99 - 60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– Stand 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178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638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38280"/>
            <a:ext cx="243072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14600"/>
            <a:ext cx="82296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Stand-Alone P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0 / $1,000 x $760  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9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0 / $1,000 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 / $1,000 x $760  =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4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Allocation - Incremen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35840" y="1523880"/>
            <a:ext cx="201744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dMaster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9680" y="1538280"/>
            <a:ext cx="221760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read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523880"/>
            <a:ext cx="2430360" cy="657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eMast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14600"/>
            <a:ext cx="8229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uite price for all three products = 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Allocation based on Incremental Prices *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readMa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eMast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760 - $450 - $300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  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0 - 60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775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85960"/>
                <a:tab algn="dec" pos="714384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* Assume primary product is Finance, then Spread, then 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6232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37260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3 - 6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14600"/>
            <a:ext cx="4038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514600"/>
            <a:ext cx="3886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05120"/>
            <a:ext cx="0" cy="304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209680"/>
            <a:ext cx="4495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62520" y="4648320"/>
            <a:ext cx="4724280" cy="1523880"/>
            <a:chOff x="3962520" y="4648320"/>
            <a:chExt cx="4724280" cy="1523880"/>
          </a:xfrm>
        </p:grpSpPr>
        <p:sp>
          <p:nvSpPr>
            <p:cNvPr id="75" name=""/>
            <p:cNvSpPr/>
            <p:nvPr/>
          </p:nvSpPr>
          <p:spPr>
            <a:xfrm>
              <a:off x="7696080" y="464832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525780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iz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5257800"/>
              <a:ext cx="22860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rket Shar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4952880"/>
              <a:ext cx="3200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4680" y="49528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7200" y="3886200"/>
            <a:ext cx="3200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(actual unit sales - budgeted unit sales) x budgeted contribution margin per uni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48320" y="3124080"/>
            <a:ext cx="4114800" cy="1524240"/>
            <a:chOff x="4648320" y="3124080"/>
            <a:chExt cx="4114800" cy="1524240"/>
          </a:xfrm>
        </p:grpSpPr>
        <p:sp>
          <p:nvSpPr>
            <p:cNvPr id="83" name=""/>
            <p:cNvSpPr/>
            <p:nvPr/>
          </p:nvSpPr>
          <p:spPr>
            <a:xfrm>
              <a:off x="6858000" y="312408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3733920"/>
              <a:ext cx="175248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Mix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733920"/>
              <a:ext cx="2057400" cy="914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ales Quantity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6272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62720" y="3429000"/>
              <a:ext cx="21333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3429000"/>
              <a:ext cx="0" cy="304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-Mix and Sales-Quantit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76360"/>
            <a:ext cx="8915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mix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1241280"/>
                <a:tab algn="ctr" pos="2568600"/>
                <a:tab algn="ctr" pos="3722760"/>
                <a:tab algn="ctr" pos="4473720"/>
                <a:tab algn="ctr" pos="5340240"/>
                <a:tab algn="ctr" pos="6458040"/>
                <a:tab algn="ctr" pos="76582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68604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-quantit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 al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ctr" pos="1442880"/>
                <a:tab algn="ctr" pos="2395440"/>
                <a:tab algn="ctr" pos="3608280"/>
                <a:tab algn="ctr" pos="4915080"/>
                <a:tab algn="ctr" pos="5829480"/>
                <a:tab algn="ctr" pos="6629400"/>
                <a:tab algn="ctr" pos="7829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6 - 6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752480"/>
            <a:ext cx="304812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19076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-Share and Market-Size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476000"/>
            <a:ext cx="891540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hare vari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ctr" pos="1241280"/>
                <a:tab algn="ctr" pos="2228760"/>
                <a:tab algn="ctr" pos="3314880"/>
                <a:tab algn="ctr" pos="4057560"/>
                <a:tab algn="ctr" pos="5086440"/>
                <a:tab algn="ctr" pos="600084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-siz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 siz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ctr" pos="1200240"/>
                <a:tab algn="ctr" pos="2171880"/>
                <a:tab algn="ctr" pos="3200400"/>
                <a:tab algn="ctr" pos="4343400"/>
                <a:tab algn="ctr" pos="5315040"/>
                <a:tab algn="ctr" pos="6172200"/>
                <a:tab algn="ctr" pos="74865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 uni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hare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gin per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08 - 6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32004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365760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profitability of individual customers taking into accoun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pecific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 chann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upport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porate sustain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ok at customers in terms o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hort-run and long-run profitabi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kelihood of reten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wth pot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ases in overall demand from well-known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learn from a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11 - 6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 and Yield Variances for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20 - 62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7636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ctr" pos="1241280"/>
                <a:tab algn="ctr" pos="1992240"/>
                <a:tab algn="ctr" pos="2857680"/>
                <a:tab algn="ctr" pos="4387680"/>
                <a:tab algn="ctr" pos="5425920"/>
                <a:tab algn="ctr" pos="6465960"/>
                <a:tab algn="ctr" pos="75326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686040"/>
            <a:ext cx="8915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to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its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p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ctr" pos="1327320"/>
                <a:tab algn="ctr" pos="2279520"/>
                <a:tab algn="ctr" pos="3435480"/>
                <a:tab algn="ctr" pos="4863960"/>
                <a:tab algn="ctr" pos="5802480"/>
                <a:tab algn="ctr" pos="6667560"/>
                <a:tab algn="ctr" pos="77072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s u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x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put uni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2971800" cy="121896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114800"/>
            <a:ext cx="4038840" cy="12193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1:59:48Z</dcterms:created>
  <dc:creator>User</dc:creator>
  <dc:description/>
  <dc:language>en-US</dc:language>
  <cp:lastModifiedBy>John Moore</cp:lastModifiedBy>
  <dcterms:modified xsi:type="dcterms:W3CDTF">2003-03-22T13:21:04Z</dcterms:modified>
  <cp:revision>10</cp:revision>
  <dc:subject/>
  <dc:title>No Slide Title</dc:title>
</cp:coreProperties>
</file>