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6F72-DE32-4507-9646-3BD1BB0CF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1BE7-29F0-4570-8428-DCD5FC17C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7-</a:t>
            </a:r>
            <a:fld id="{9F5D2730-C9CC-4009-8ACE-FBDDE03B77D6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ss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 costing is a costing system in which the product or service cost is obtained by assigning costs to masses of lik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sion costs are costs that are applied uniformly in a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costs are assumed to be applied at discrete points in the product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nsferred costs are costs transferred from one department to another depart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ystem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37 - 6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355920"/>
            <a:ext cx="19814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3200400"/>
            <a:ext cx="2361960" cy="1191240"/>
            <a:chOff x="6477120" y="3200400"/>
            <a:chExt cx="2361960" cy="1191240"/>
          </a:xfrm>
        </p:grpSpPr>
        <p:sp>
          <p:nvSpPr>
            <p:cNvPr id="56" name=""/>
            <p:cNvSpPr/>
            <p:nvPr/>
          </p:nvSpPr>
          <p:spPr>
            <a:xfrm>
              <a:off x="7162920" y="3200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nish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oo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ventory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3765600"/>
              <a:ext cx="761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996920"/>
            <a:ext cx="2590920" cy="3537000"/>
            <a:chOff x="0" y="1996920"/>
            <a:chExt cx="2590920" cy="3537000"/>
          </a:xfrm>
        </p:grpSpPr>
        <p:sp>
          <p:nvSpPr>
            <p:cNvPr id="59" name=""/>
            <p:cNvSpPr/>
            <p:nvPr/>
          </p:nvSpPr>
          <p:spPr>
            <a:xfrm>
              <a:off x="0" y="1996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52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47084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3716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1440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827360" y="4343040"/>
              <a:ext cx="144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19720" y="1920960"/>
            <a:ext cx="3429000" cy="3644640"/>
            <a:chOff x="4419720" y="1920960"/>
            <a:chExt cx="3429000" cy="3644640"/>
          </a:xfrm>
        </p:grpSpPr>
        <p:sp>
          <p:nvSpPr>
            <p:cNvPr id="66" name=""/>
            <p:cNvSpPr/>
            <p:nvPr/>
          </p:nvSpPr>
          <p:spPr>
            <a:xfrm>
              <a:off x="4419720" y="47401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version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7800" y="19209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150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722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257800" y="437472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28954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62320" y="3200400"/>
            <a:ext cx="4343400" cy="1111320"/>
            <a:chOff x="2362320" y="3200400"/>
            <a:chExt cx="4343400" cy="1111320"/>
          </a:xfrm>
        </p:grpSpPr>
        <p:sp>
          <p:nvSpPr>
            <p:cNvPr id="73" name=""/>
            <p:cNvSpPr/>
            <p:nvPr/>
          </p:nvSpPr>
          <p:spPr>
            <a:xfrm>
              <a:off x="2514600" y="3200400"/>
              <a:ext cx="19810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ransferr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765600"/>
              <a:ext cx="2286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384720"/>
              <a:ext cx="1981440" cy="825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st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epartmen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 Costing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units is a measure of the output of a process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 units 25% complete = 15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ve Steps in Process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the physical units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number of equivalent whole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per equivalent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 total costs to account f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 costs to units completed and transferred out of the department and units in end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0 - 6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and FIFO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ighted Aver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lculates the average equivalent unit cost of the work done to date regardless of when the work was do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moothes out unit costs from month to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rried forward from the previous period are assigned directly to completed go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es that work required to finish incomplete units (from the previous month) is done at the beginning of the mon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43 - 6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brid 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 systems have a blend of job-costing and process-costing characteristic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car manufacturers account for the use of materials following job-costing but account for labour and overhead following a process-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40004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40004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ybrid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666880"/>
            <a:ext cx="59436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53 - 65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1520" y="2362320"/>
            <a:ext cx="0" cy="3045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191120" y="49528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1480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867280"/>
            <a:ext cx="3047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 costing is a hybrid costing system applied to batches of similar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ach batch is often a variation on a single design and proceeds through a sequence of selected activities or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448160"/>
            <a:ext cx="1295640" cy="88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724280"/>
            <a:ext cx="167652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562720"/>
            <a:ext cx="1676520" cy="533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atch 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4114440"/>
            <a:ext cx="761760" cy="7621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876920"/>
            <a:ext cx="76176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876920"/>
            <a:ext cx="761760" cy="9144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012200" y="4140720"/>
            <a:ext cx="17290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850280" y="5078520"/>
            <a:ext cx="17290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231520" y="4621680"/>
            <a:ext cx="2643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on 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4267080"/>
            <a:ext cx="1676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61 - 66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2:54:18Z</dcterms:created>
  <dc:creator>User</dc:creator>
  <dc:description/>
  <dc:language>en-US</dc:language>
  <cp:lastModifiedBy>John Moore</cp:lastModifiedBy>
  <dcterms:modified xsi:type="dcterms:W3CDTF">2003-03-22T13:21:18Z</dcterms:modified>
  <cp:revision>16</cp:revision>
  <dc:subject/>
  <dc:title>Process Costing Systems</dc:title>
</cp:coreProperties>
</file>