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CF22-DA8A-40A5-925B-EB1B09CF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6F9-6DA5-4E07-93C6-8F9383BC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50560"/>
            <a:ext cx="2698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5056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50560"/>
            <a:ext cx="8382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0-</a:t>
            </a:r>
            <a:fld id="{53E103F3-5387-4222-B80E-156AE599D37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0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ntory Management, Just-in-Time, and Backflush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retail organizations, look at purchasing costs, ordering costs, carrying costs, stockout costs and qual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conomic order quantity (EOQ) model calculates the optimal quantity to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8 - 7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3276720"/>
            <a:ext cx="7772400" cy="2819160"/>
            <a:chOff x="762120" y="3276720"/>
            <a:chExt cx="7772400" cy="2819160"/>
          </a:xfrm>
        </p:grpSpPr>
        <p:sp>
          <p:nvSpPr>
            <p:cNvPr id="53" name=""/>
            <p:cNvSpPr/>
            <p:nvPr/>
          </p:nvSpPr>
          <p:spPr>
            <a:xfrm>
              <a:off x="762120" y="3276720"/>
              <a:ext cx="77724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OQ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wher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 = deman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 = cost of an orde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 = carrying costs of one unit for the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ime period under considerat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350532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DP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52560"/>
                  <a:tab algn="l" pos="2106720"/>
                  <a:tab algn="l" pos="2395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520" y="396252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3429000"/>
              <a:ext cx="1133280" cy="914400"/>
            </a:xfrm>
            <a:custGeom>
              <a:avLst/>
              <a:gdLst/>
              <a:ahLst/>
              <a:rect l="l" t="t" r="r" b="b"/>
              <a:pathLst>
                <a:path w="714" h="576">
                  <a:moveTo>
                    <a:pt x="0" y="474"/>
                  </a:moveTo>
                  <a:lnTo>
                    <a:pt x="54" y="450"/>
                  </a:lnTo>
                  <a:lnTo>
                    <a:pt x="114" y="576"/>
                  </a:lnTo>
                  <a:lnTo>
                    <a:pt x="234" y="0"/>
                  </a:lnTo>
                  <a:lnTo>
                    <a:pt x="714" y="0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ntory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1524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1 - 7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676520"/>
            <a:ext cx="1067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267080"/>
            <a:ext cx="670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eeks      1       2       3       4       5       6       7      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590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962520"/>
            <a:ext cx="5334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828800"/>
            <a:ext cx="243828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28800"/>
            <a:ext cx="243864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828800"/>
            <a:ext cx="0" cy="213372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95480"/>
            <a:ext cx="11430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43400" y="28954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9528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009920" y="2057400"/>
            <a:ext cx="22860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37160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ord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6200000">
            <a:off x="49147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7429320" y="415224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3276360" cy="83808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mand = 250 / wee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2560"/>
                <a:tab algn="l" pos="210672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der lead time 2 week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-In-Time Purcha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79171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ust-In-Time (JIT) purchasing refers to the purchase of goods or materials just prior to demand or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a more open relationship with suppliers and smaller, more frequent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ly delivery of quality products is crucial in JIT purchasing environ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nies employing JIT choose suppliers careful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he entire supply chain from cradle to grave (womb to tomb) and share information with all parties involved in the system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44 - 7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 Requirements Plan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requirements planning (MRP) is a push-through system that manufactures finished goods for inventory on the basis of demand foreca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RP u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mand forecasts for the fin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ill of materials for each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quantities of materials, components and finished products to predetermine the necessary outputs at each stage of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terprise Resource Planning (ERP) systems collects and manages information into a single database to support the achievement of the organization’s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0 - 7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tial (or synchronous) tracking is a product costing method in which the accounting system entries occur in the same order as actual purchas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igger point is a stage in the production cycle at which an accounting entry is ma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&amp; Trigger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Trigger Poi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9500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Direc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work 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951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tion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f a goo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9514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 of 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08640"/>
            <a:ext cx="30456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408640"/>
            <a:ext cx="30492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flush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55 - 7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is an approach to costing which delays recording changes in the status of the product until the finished goods app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ckflush costing uses standard costs to work backward and flush out costs for the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33920"/>
            <a:ext cx="2438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733920"/>
            <a:ext cx="243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4419720"/>
            <a:ext cx="2057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419720"/>
            <a:ext cx="1981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20120" y="4419360"/>
            <a:ext cx="0" cy="9903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05520" y="4419720"/>
            <a:ext cx="0" cy="914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57400" y="4267080"/>
            <a:ext cx="2361960" cy="473040"/>
            <a:chOff x="2057400" y="4267080"/>
            <a:chExt cx="2361960" cy="473040"/>
          </a:xfrm>
        </p:grpSpPr>
        <p:sp>
          <p:nvSpPr>
            <p:cNvPr id="107" name=""/>
            <p:cNvSpPr/>
            <p:nvPr/>
          </p:nvSpPr>
          <p:spPr>
            <a:xfrm>
              <a:off x="2057400" y="4740120"/>
              <a:ext cx="23619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Direc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09680" y="4876920"/>
            <a:ext cx="2210040" cy="457200"/>
            <a:chOff x="2209680" y="4876920"/>
            <a:chExt cx="2210040" cy="457200"/>
          </a:xfrm>
        </p:grpSpPr>
        <p:sp>
          <p:nvSpPr>
            <p:cNvPr id="110" name=""/>
            <p:cNvSpPr/>
            <p:nvPr/>
          </p:nvSpPr>
          <p:spPr>
            <a:xfrm>
              <a:off x="2209680" y="5334120"/>
              <a:ext cx="2210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4876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llocate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5257800"/>
            <a:ext cx="5029200" cy="916560"/>
            <a:chOff x="2133720" y="5257800"/>
            <a:chExt cx="5029200" cy="916560"/>
          </a:xfrm>
        </p:grpSpPr>
        <p:sp>
          <p:nvSpPr>
            <p:cNvPr id="113" name=""/>
            <p:cNvSpPr/>
            <p:nvPr/>
          </p:nvSpPr>
          <p:spPr>
            <a:xfrm>
              <a:off x="2133720" y="5715000"/>
              <a:ext cx="37335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67280" y="5257800"/>
              <a:ext cx="1295640" cy="4572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6000" y="577548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Unallocated Conversion Cost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57200" y="42670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181480"/>
            <a:ext cx="1752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ver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4556160"/>
            <a:ext cx="1905120" cy="473040"/>
            <a:chOff x="5257800" y="4556160"/>
            <a:chExt cx="1905120" cy="473040"/>
          </a:xfrm>
        </p:grpSpPr>
        <p:sp>
          <p:nvSpPr>
            <p:cNvPr id="119" name=""/>
            <p:cNvSpPr/>
            <p:nvPr/>
          </p:nvSpPr>
          <p:spPr>
            <a:xfrm>
              <a:off x="5257800" y="5029200"/>
              <a:ext cx="1905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4040" y="4556160"/>
              <a:ext cx="12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1:38:32Z</dcterms:created>
  <dc:creator>User</dc:creator>
  <dc:description/>
  <dc:language>en-US</dc:language>
  <cp:lastModifiedBy>John Moore</cp:lastModifiedBy>
  <cp:lastPrinted>1999-06-07T17:15:26Z</cp:lastPrinted>
  <dcterms:modified xsi:type="dcterms:W3CDTF">2003-03-22T13:22:57Z</dcterms:modified>
  <cp:revision>17</cp:revision>
  <dc:subject/>
  <dc:title>No Slide Title</dc:title>
</cp:coreProperties>
</file>