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DD1B-4673-49D1-BCB7-E12F064D7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CCD3-7886-4354-A88A-E30CA227C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3-</a:t>
            </a:r>
            <a:fld id="{C881AE38-443F-43A7-98C0-7BF815C73533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1825560"/>
            <a:ext cx="788688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, Balanced Scorecard, and Strategic Profitability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vity measures the relationship between actual inputs used and actual outputs achiev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al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input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2,900,000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40 units per cm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of direct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Factor Produ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Quantity of output produced / Quantity of all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1,150,000 units / $23,5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0.048936 units of output per dollar of in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2824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ivity Measur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15 - 5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447560"/>
            <a:ext cx="8298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describes how an organization matches its own capabilities with opportunities in the marketplace in order to achieve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analysis focuses on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tential entrants into the mark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valent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rgaining power of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62000"/>
            <a:ext cx="8755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ategic Profitability Analysi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29764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differentiation refers to the organization’s ability to make its products or services uniq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leadership occurs when the organization is able to reduce costs, relative to competitors, through productivity and efficiency improvemen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2 - 4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Balanced Scorecard translates an organization’s mission and strategy into a comprehensive set of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ments provide feedback on how well the organization is implementing it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emphasis on short-term financial go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Elements of the Balanced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rnal business process meas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rning and grow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3 - 49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arge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j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asur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al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ain in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5,520,0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 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4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ew customer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7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terna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Yie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8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9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n-time delive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rning &amp;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s train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2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mployee satisfac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0%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88%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3059280"/>
                <a:tab algn="ctr" pos="542592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erspec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# of improvemen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057400"/>
            <a:ext cx="87631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atures of a Good Balanced Score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8440" y="1142640"/>
            <a:ext cx="8145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lls the story of the company’s strategy by articulating a sequence of cause-effect relationshi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elps communicate the strategy to all members of the organization by translating the strategy into a coherent and linked set of understandable targe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profit-seeking companies, places strong emphasis on financial measures and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mits the number of measures used by identifying only the most critical on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lights suboptimal tradeoffs that managers may make when they tail to consider operational and financial measures togeth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98 -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tfalls Implementing a Balanced Scorec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24080"/>
            <a:ext cx="8001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assume the cause-and-effect linkages to be pre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seek improvements across all measures all the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use only objective measures on the scoreca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fail to consider both costs and benefits of initia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n’t ignore non-financial measures when evaluating managers and employe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6477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gineered and Discretionar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er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 specifically from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cretionar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which arise from a periodic appropriation dec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ck a clear cause-effect relationship between output and resource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, executive training, R&amp;D, public rel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5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98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er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scretionar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o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tailed and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nowledge of th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hysical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 is sketch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bserv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unavail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petitiv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repetitiv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vel of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rat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rg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Uncertain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r smal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ownsizing (or rightsizing) is process of matching resources with current and future need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ctr" pos="3348000"/>
                <a:tab algn="ctr" pos="6292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ifficult for discretionary costs as ideal amount is unknown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wnsizing and Capacity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1981080"/>
            <a:ext cx="56386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507 - 5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00:46:04Z</dcterms:created>
  <dc:creator>User</dc:creator>
  <dc:description/>
  <dc:language>en-US</dc:language>
  <cp:lastModifiedBy>John Moore</cp:lastModifiedBy>
  <dcterms:modified xsi:type="dcterms:W3CDTF">2003-03-22T13:17:37Z</dcterms:modified>
  <cp:revision>14</cp:revision>
  <dc:subject/>
  <dc:title>Strategic Profitability Analysis</dc:title>
</cp:coreProperties>
</file>