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EB94-423A-45D9-8C5C-BF69B9E3E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FCC6-A6BD-42A1-8553-20AD81E48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6-</a:t>
            </a:r>
            <a:fld id="{7A2B16C3-EE1E-4B6B-920F-C68605A2FDC6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6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venues, Sales Variances, and Customer Profitability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36232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 and Yield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6880" y="1295280"/>
            <a:ext cx="37260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20 - 62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514600"/>
            <a:ext cx="4038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514600"/>
            <a:ext cx="3886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1905120"/>
            <a:ext cx="0" cy="3045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62320" y="2209680"/>
            <a:ext cx="44956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14400" y="4648320"/>
            <a:ext cx="3657240" cy="1523880"/>
            <a:chOff x="914400" y="4648320"/>
            <a:chExt cx="3657240" cy="1523880"/>
          </a:xfrm>
        </p:grpSpPr>
        <p:sp>
          <p:nvSpPr>
            <p:cNvPr id="120" name=""/>
            <p:cNvSpPr/>
            <p:nvPr/>
          </p:nvSpPr>
          <p:spPr>
            <a:xfrm>
              <a:off x="3804840" y="464832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14400" y="5257800"/>
              <a:ext cx="13564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ix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01880" y="5257800"/>
              <a:ext cx="176976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Yield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04080" y="4952880"/>
              <a:ext cx="2477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0408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8196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33520" y="3124080"/>
            <a:ext cx="3962160" cy="1524240"/>
            <a:chOff x="533520" y="3124080"/>
            <a:chExt cx="3962160" cy="1524240"/>
          </a:xfrm>
        </p:grpSpPr>
        <p:sp>
          <p:nvSpPr>
            <p:cNvPr id="127" name=""/>
            <p:cNvSpPr/>
            <p:nvPr/>
          </p:nvSpPr>
          <p:spPr>
            <a:xfrm>
              <a:off x="2661120" y="31240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3520" y="3733920"/>
              <a:ext cx="168732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Pri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3733920"/>
              <a:ext cx="19810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Efficiency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1372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13720" y="3429000"/>
              <a:ext cx="20541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6788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79930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 allocation occurs when revenues, related but not traceable to individual products (services or customers), are assigned to individual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ndled product is a package of two or more products or services, sold for a single price, each with their own stand-alone pr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ften called suite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revenues to products based 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selling prices or unit cost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physical unit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stand-alone product revenue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incremental revenue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99 - 60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Allocation – Stand Alo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201780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dMaster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5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63880" y="1538280"/>
            <a:ext cx="221760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read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1538280"/>
            <a:ext cx="243072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e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514600"/>
            <a:ext cx="82296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uite price for all three products = 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Allocation based on Stand-Alone Pric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ord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50 / $1,000 x $760  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9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read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00 / $1,000  x $760  =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28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eMaster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50 / $1,000 x $760  =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342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0 - 60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Allocation - Increment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35840" y="1523880"/>
            <a:ext cx="201744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dMaster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5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49680" y="1538280"/>
            <a:ext cx="221760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read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523880"/>
            <a:ext cx="243036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e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2514600"/>
            <a:ext cx="8229600" cy="30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uite price for all three products = 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Allocation based on Incremental Prices *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e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5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read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eMaster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760 - $450 - $300)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  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0 - 60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775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* Assume primary product is Finance, then Spread, then Wor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6232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 Volume Vari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6880" y="1295280"/>
            <a:ext cx="37260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3 - 60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2514600"/>
            <a:ext cx="4038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2514600"/>
            <a:ext cx="3886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1905120"/>
            <a:ext cx="0" cy="3045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2209680"/>
            <a:ext cx="44956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962520" y="4648320"/>
            <a:ext cx="4724280" cy="1523880"/>
            <a:chOff x="3962520" y="4648320"/>
            <a:chExt cx="4724280" cy="1523880"/>
          </a:xfrm>
        </p:grpSpPr>
        <p:sp>
          <p:nvSpPr>
            <p:cNvPr id="75" name=""/>
            <p:cNvSpPr/>
            <p:nvPr/>
          </p:nvSpPr>
          <p:spPr>
            <a:xfrm>
              <a:off x="7696080" y="464832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2520" y="5257800"/>
              <a:ext cx="17524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arket Siz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00800" y="5257800"/>
              <a:ext cx="228600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arket Shar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24280" y="4952880"/>
              <a:ext cx="32004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428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92468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457200" y="3886200"/>
            <a:ext cx="3200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(actual unit sales - budgeted unit sales) x budgeted contribution margin per uni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648320" y="3124080"/>
            <a:ext cx="4114800" cy="1524240"/>
            <a:chOff x="4648320" y="3124080"/>
            <a:chExt cx="4114800" cy="1524240"/>
          </a:xfrm>
        </p:grpSpPr>
        <p:sp>
          <p:nvSpPr>
            <p:cNvPr id="83" name=""/>
            <p:cNvSpPr/>
            <p:nvPr/>
          </p:nvSpPr>
          <p:spPr>
            <a:xfrm>
              <a:off x="6858000" y="31240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48320" y="3733920"/>
              <a:ext cx="17524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ales Mix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05720" y="3733920"/>
              <a:ext cx="205740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ales Quantity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6272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62720" y="3429000"/>
              <a:ext cx="21333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9608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-Mix and Sales-Quantity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76360"/>
            <a:ext cx="8915400" cy="15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-mix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 al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sal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686040"/>
            <a:ext cx="8915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-quantit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 al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 al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6 - 6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1752480"/>
            <a:ext cx="304812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4191120"/>
            <a:ext cx="4190760" cy="121896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-Share and Market-Size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476000"/>
            <a:ext cx="8915400" cy="134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-share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verag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 siz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3686040"/>
            <a:ext cx="8915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-siz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verag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market siz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 siz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8 - 61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1752480"/>
            <a:ext cx="320040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114800"/>
            <a:ext cx="365760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 Profitabil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82216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profitability of individual customers taking into account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specific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tribution channel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support cos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rporate sustain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ok at customers in terms o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hort-run and long-run profitabi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kelihood of reten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wth potent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ases in overall demand from well-known 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ility to learn from a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11 - 6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 and Yield Variances for Inpu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20 - 62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476360"/>
            <a:ext cx="8915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 tot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p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3686040"/>
            <a:ext cx="8915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Yield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 tot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tot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units o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p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 u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s u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905120"/>
            <a:ext cx="2971800" cy="121896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4114800"/>
            <a:ext cx="403884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01:59:48Z</dcterms:created>
  <dc:creator>User</dc:creator>
  <dc:description/>
  <dc:language>en-US</dc:language>
  <cp:lastModifiedBy>John Moore</cp:lastModifiedBy>
  <dcterms:modified xsi:type="dcterms:W3CDTF">2003-03-22T13:21:04Z</dcterms:modified>
  <cp:revision>10</cp:revision>
  <dc:subject/>
  <dc:title>No Slide Title</dc:title>
</cp:coreProperties>
</file>