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5D07-579E-49AA-86E5-F03C2B98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D2D-470A-4C86-8EBE-15BFE449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5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32408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5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3879720"/>
            <a:ext cx="2696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162000"/>
            <a:ext cx="845028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7972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24080"/>
            <a:ext cx="4086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3879720"/>
            <a:ext cx="83743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324080"/>
            <a:ext cx="83743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6-</a:t>
            </a:r>
            <a:fld id="{149F9F1F-FF5F-4AF0-9BA8-78578AF82D26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200"/>
            <a:ext cx="7543800" cy="36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ter Budget and Responsibility Accoun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ivity-based budgeting focuses on the cost of activities necessary to produce and sell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0">
              <a:spcBef>
                <a:spcPts val="150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 Key Step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budgeted costs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demand for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cost of each activ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cribe budget in terms of costs of performing these activi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5 - 20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ing and Responsibility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centre is a group within the organization with a manager accountable for results achieved by the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accounting is a system that measures plans (by budgets) and actions (by actual results) of each responsibility centr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962520"/>
            <a:ext cx="77724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Type of Cent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Manager Responsible F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stments, revenues &amp;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ibility and Controll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8800" y="1371240"/>
            <a:ext cx="8298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ility is the degree of influence that a specific manager has over costs, revenues or other items in ques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able cost is any cost that is primarily subject to the influence of a manager for a given time spa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ablishing controllability is sometimes difficul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ponsibility for some costs are shared among more than one manag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839880" indent="-33552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times what happens now is primarily due to the decisions taken by other managers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-3916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cus on using “controllability” for information and knowledge rather than contr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916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07 - 20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h 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8800" y="1218960"/>
            <a:ext cx="77724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sh budget is a schedule of expected cash receipts and disburs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dicts the effects on cash position at the given level of opera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ns for the borrowing and repayment of lo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211 - 2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581280"/>
            <a:ext cx="8153280" cy="2590920"/>
          </a:xfrm>
          <a:prstGeom prst="rect">
            <a:avLst/>
          </a:prstGeom>
          <a:noFill/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eginn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0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receip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91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avail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43,7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disbursements (including minimum balance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,140,8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xcess (deficienc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197,18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ancing: Borrow (repay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8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762012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nding cash balanc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35,8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32408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budget is a quantitative expression for a set time period of a proposed future plan of action by manag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ster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-ordinates all the financial projections in the organization’s individual budgets in a single document for a set period of ti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s operating estimates, a cash budget, and pro forma financial statements (balance sheet, income statement, and statement of cash flow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1 - 19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administered intelligently, budgets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planning including the implementation of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k the budget with strategic analysis for the organization including overall objectives, trends, risks, alternative strateg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vides performance criteri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aring actual performance against a budget is better than comparing  this year’s achievements to last year’s resul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- 19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 of Budgets (Continu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communication and coordination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making everyone aware of plans in other depart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ating communication is essenti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quires management support and administr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p management support is necessary to achieve particip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anging conditions call for changes in pla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2  - 19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udge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800" y="1324080"/>
            <a:ext cx="82216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ile the normal time coverage of a budget is one year, other time periods are useful in certain c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olling budget:  add a new month or quarter at the end of the current month or quart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budget: budgeted income statement and supporting schedu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budget: capital budget, cash budget, balance sheet, and statement of cash flow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94 -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Reta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14479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2860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36232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2670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09880"/>
            <a:ext cx="0" cy="1067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09680" y="548640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24480" y="54100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05740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57400" y="624852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594324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15922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97180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048120"/>
            <a:ext cx="236232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42900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2640" y="1447920"/>
            <a:ext cx="17161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4952880"/>
            <a:ext cx="160020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87692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 Budget for a Manufactur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6520"/>
            <a:ext cx="1676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0" cy="13716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648320"/>
            <a:ext cx="0" cy="38088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343400"/>
            <a:ext cx="0" cy="6858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70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4495680"/>
            <a:ext cx="0" cy="609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7400" y="6400800"/>
            <a:ext cx="3276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4120" y="609552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200400"/>
            <a:ext cx="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1592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ales Forecast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2193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05320"/>
            <a:ext cx="2361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ld 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505320"/>
            <a:ext cx="23623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 &amp; Administration Cost 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581280"/>
            <a:ext cx="16002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121896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362320"/>
            <a:ext cx="13716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5105520"/>
            <a:ext cx="160020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029200"/>
            <a:ext cx="1600200" cy="1066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e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ash Flow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tion in Budge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ticipation at all levels is necessary for the budget to be a meaningful exerci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me firms set “stretch” or “challenge” targets for revenues to motivate employees to put in extra effort and achieve higher performan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trong pressure exists to achieve budget targets, employees may underestimate budgeted revenues and overestimate budgeted expen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dding” the budge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rporating budgetary slack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9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162000"/>
            <a:ext cx="845028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izen Budg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8440" y="1219320"/>
            <a:ext cx="81457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is a Japanese term for continuous improveme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aizen budgeting is an approach to budgeting that explicitly incorporates continuous improvement during the budget perio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 :  Budgeted labour hours for Regular and Heavy-Duty Units produced during the yea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Regular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Heavy-Duty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anuary-March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.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.0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ril-Jun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9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8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July-Sept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8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70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ctr" pos="4473720"/>
                <a:tab algn="ctr" pos="6580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ctober-Decemb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.7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.55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20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12:13:58Z</dcterms:created>
  <dc:creator>User</dc:creator>
  <dc:description/>
  <dc:language>en-US</dc:language>
  <cp:lastModifiedBy>John Moore</cp:lastModifiedBy>
  <cp:lastPrinted>1999-06-03T13:12:19Z</cp:lastPrinted>
  <dcterms:modified xsi:type="dcterms:W3CDTF">2003-03-22T13:11:59Z</dcterms:modified>
  <cp:revision>8</cp:revision>
  <dc:subject/>
  <dc:title>Budgets</dc:title>
</cp:coreProperties>
</file>