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473-818B-4A0E-AEF4-F7AEE930A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81E2-1CAC-43AE-9BC6-88D99474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37432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9809D745-929B-4A41-ABC2-7256767C58D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9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Effects of Alternative Inventory Costing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and Absorption Cos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8440" y="1203480"/>
            <a:ext cx="81457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theoretical capacity or practical capacity as the denominator reduces the amount of fixed manufacturing overhead assigned to inventory and increases the 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ada Customs and Revenue Agency (CCRA) does not allow the use of theoretical or practical capacity in determining taxable incom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considering which denominator to use keep in mind that the resultant cost information will be used for product costing and capacity management, pricing, performance evaluation, and foreca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full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and fixed productio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function of sales and 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038480"/>
            <a:ext cx="403848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ufactur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ing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direct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sify costs based on behavi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y composed of variable production costs on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t income is a function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3 - 3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733920"/>
            <a:ext cx="3886200" cy="2228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aring the Two Income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55400"/>
            <a:ext cx="80010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in net income between a variable costing income statement and an absorption costing income statement is due to the treatment of fixed manufacturing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 period cost under variable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are treated as an inventoriable (product) cost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he Two Income Statements Dif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362320"/>
            <a:ext cx="2666880" cy="3568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2362320"/>
            <a:ext cx="2743200" cy="345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rketing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120" y="3124080"/>
            <a:ext cx="3277080" cy="1604880"/>
            <a:chOff x="2895120" y="3124080"/>
            <a:chExt cx="3277080" cy="1604880"/>
          </a:xfrm>
        </p:grpSpPr>
        <p:sp>
          <p:nvSpPr>
            <p:cNvPr id="66" name=""/>
            <p:cNvSpPr/>
            <p:nvPr/>
          </p:nvSpPr>
          <p:spPr>
            <a:xfrm>
              <a:off x="3429000" y="3171960"/>
              <a:ext cx="23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Fixe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Overhead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895120" y="4648320"/>
              <a:ext cx="8384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0080" y="3124080"/>
              <a:ext cx="7621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6 - 31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ing Between the Two Stat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operating income - absorption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manufacturing costs in ending inventory - fixed manufacturing costs in beginn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 x $16) - (0 x $16)  =  $3,2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19 - 32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Units produced - units sold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600 - 400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Ending inventory units - Beginning inventory units) x fixed manufacturing cost r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00 units - 0 units) x $16  =  $3,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7396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Evaluation – Absor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e of the problems with absorption costing that managers can increase operating income in the short run by increasing production independent of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additional units produced absorb some of the fixed costs which are carried forward on the balance sheet rather than being expensed on the income stat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refor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efully monitor inventory leve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a charge for the amount of inventory carried (1% x value of inventory on han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aluate performance over longer period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1 - 3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oughput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oughput costing (or super-variable costing) treats all costs except those related to variable direct materials as costs of the period in which they we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nly variable direct material costs are invento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nce all other production-related costs are expensed on the income statement, management is less motivated to increase inventories (shifting costs from the income statement to the balance she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ing inventory levels means less funds are tied up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5 - 32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37432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acity Concep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8800" y="1203480"/>
            <a:ext cx="822168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y different numbers can be used as “capacity” under absorption 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28 - 3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209680"/>
            <a:ext cx="4876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oretical capacity – ideal situation with 100% efficien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al capacity – recognize that some downtime is unavoid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apacity – the average output level over a 2-3 year perio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apacity – expected output for the next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438280"/>
            <a:ext cx="3276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,152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00,000 bott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7:11:01Z</dcterms:created>
  <dc:creator>User</dc:creator>
  <dc:description/>
  <dc:language>en-US</dc:language>
  <cp:lastModifiedBy>John Moore</cp:lastModifiedBy>
  <cp:lastPrinted>1999-06-03T17:40:12Z</cp:lastPrinted>
  <dcterms:modified xsi:type="dcterms:W3CDTF">2003-03-22T13:13:17Z</dcterms:modified>
  <cp:revision>10</cp:revision>
  <dc:subject/>
  <dc:title>No Slide Title</dc:title>
</cp:coreProperties>
</file>