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E100-B879-4C4C-B390-5C1385529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5820-D9C2-48A6-9AF1-70F836191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3-</a:t>
            </a:r>
            <a:fld id="{37D2D3DD-297E-4EEB-B5BB-D63094D57E32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1825560"/>
            <a:ext cx="788688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egy, Balanced Scorecard, and Strategic Profitability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vity measures the relationship between actual inputs used and actual outputs achiev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tial Produ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Quantity of output produced / Quantity of input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1,150,000 units / 2,900,000 cm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of direct mater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0.40 units per cm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of direct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Factor Produ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Quantity of output produced / Quantity of all input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1,150,000 units / $23,50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0.048936 units of output per dollar of in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228240" y="162000"/>
            <a:ext cx="837396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ivity Measur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15 - 5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447560"/>
            <a:ext cx="8298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describes how an organization matches its own capabilities with opportunities in the marketplace in order to achieve its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ustry analysis focuses on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eti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tential entrants into the mark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rgaining power of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rgaining power of suppli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2 - 4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62000"/>
            <a:ext cx="8755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Profitability Analysi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2976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differentiation refers to the organization’s ability to make its products or services uniq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leadership occurs when the organization is able to reduce costs, relative to competitors, through productivity and efficiency improvemen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2 - 4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Balanced Scorecard translates an organization’s mission and strategy into a comprehensive set of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ments provide feedback on how well the organization is implementing its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d emphasis on short-term financial go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Elements of the Balanced Scoreca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al business process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arning and grow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3 - 49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of 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755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arg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bj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asur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form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ial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ain in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,520,00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 grow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.48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ew customer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 satisfactio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7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terna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ie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8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9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n-time deliver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2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rning &amp;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ployees train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2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w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ployee satisfactio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8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# of improvemen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057400"/>
            <a:ext cx="87631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9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atures of a Good 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145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lls the story of the company’s strategy by articulating a sequence of cause-effect relationship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elps communicate the strategy to all members of the organization by translating the strategy into a coherent and linked set of understandable targe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profit-seeking companies, places strong emphasis on financial measures and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mits the number of measures used by identifying only the most critical on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lights suboptimal tradeoffs that managers may make when they tail to consider operational and financial measures toge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8 - 4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tfalls Implementing a Balanced Scorec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324080"/>
            <a:ext cx="8001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assume the cause-and-effect linkages to be preci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seek improvements across all measures all the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use only objective measures on the scoreca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fail to consider both costs and benefits of initia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ignore non-financial measures when evaluating managers and employe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gineered and Discretionary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er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ult specifically from a clear cause-effect relationship between output and resource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cretionar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which arise from a periodic appropriation deci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ck a clear cause-effect relationship between output and resource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ertising, executive training, R&amp;D, public rel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98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gineer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scretionar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 o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tailed and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Knowledge of th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i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hysicall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 is sketch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bserv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 unavailabl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peti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repetitiv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vel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derat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rg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certain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 smal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ownsizing (or rightsizing) is process of matching resources with current and future need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ifficult for discretionary costs as ideal amount is unknown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wnsizing and Capacity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1981080"/>
            <a:ext cx="5638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07 - 5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00:46:04Z</dcterms:created>
  <dc:creator>User</dc:creator>
  <dc:description/>
  <dc:language>en-US</dc:language>
  <cp:lastModifiedBy>John Moore</cp:lastModifiedBy>
  <dcterms:modified xsi:type="dcterms:W3CDTF">2003-03-22T13:17:37Z</dcterms:modified>
  <cp:revision>14</cp:revision>
  <dc:subject/>
  <dc:title>Strategic Profitability Analysis</dc:title>
</cp:coreProperties>
</file>