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D6C8-6001-41C4-9D76-02991D4B5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A457-773F-473D-BF39-0FA1BA495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43208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87720"/>
            <a:ext cx="26744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8772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432080"/>
            <a:ext cx="405324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87720"/>
            <a:ext cx="830592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6520" y="646416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2-</a:t>
            </a:r>
            <a:fld id="{BF030BDF-FE99-4EB0-B55F-7E6698E3D603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2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 Introduction to Cost Terms and Purpo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638680" y="182880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Retail / Wholesale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5960" y="4190760"/>
            <a:ext cx="1898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27432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rchandi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2895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0574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37339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3124080"/>
            <a:ext cx="7617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441972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55627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49568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4197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 rot="16200000">
            <a:off x="1409400" y="3161520"/>
            <a:ext cx="152280" cy="129564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35053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533412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1295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46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in a Manufacturing Comp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2117880"/>
            <a:ext cx="3048120" cy="4267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5105520"/>
            <a:ext cx="228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nvento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(Product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60020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urchas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ork 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318456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 of Goods Sol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2422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0226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ross Marg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209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3413160"/>
            <a:ext cx="53316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470844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rketing an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58514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Incom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4724280"/>
            <a:ext cx="1828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72428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 rot="16200000">
            <a:off x="1066680" y="3809880"/>
            <a:ext cx="152640" cy="1981440"/>
          </a:xfrm>
          <a:custGeom>
            <a:avLst/>
            <a:gdLst>
              <a:gd name="textAreaLeft" fmla="*/ 97560 w 152640"/>
              <a:gd name="textAreaRight" fmla="*/ 153000 w 15264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37940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5622840"/>
            <a:ext cx="21337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15080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10666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alance Shee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175248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2743200"/>
            <a:ext cx="2209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abou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direc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ufactur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28195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nis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o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vento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33526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2438280"/>
            <a:ext cx="0" cy="3812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3124080"/>
            <a:ext cx="533520" cy="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828800" y="3505320"/>
            <a:ext cx="685800" cy="3045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any Meanings of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portant theme of this book is “different costs for different purposes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ree examples of “product cost”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pricing and product emphasi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clude all costs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acting with government agenc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y exclude marketing costs and include only a portion of R&amp;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Statemen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 GAAP, only manufacturing costs are included in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4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ernative Classifications of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 fun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&amp;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ustome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457200" indent="-457200"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ignment to a 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914400" indent="-457200"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8 - 4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1447920"/>
            <a:ext cx="3886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 patter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xe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ggregate or 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sets or expen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ventoriable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s and Cost Obj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30592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resource sacrificed or foregone to achieve a specific objectiv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y product, machine, service or process for which cost information is accumula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objects can vary in size from an entire company, to a division or program within the company, or down to a single product or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2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and Indire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to a particular cost objective and can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related a particular cost objective but cannot be traced to it in an economically feasible wa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s are allocated to cost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441972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470560"/>
            <a:ext cx="190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irect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4495680"/>
            <a:ext cx="1600200" cy="161784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971800" y="4495680"/>
            <a:ext cx="2819520" cy="533520"/>
            <a:chOff x="2971800" y="4495680"/>
            <a:chExt cx="2819520" cy="533520"/>
          </a:xfrm>
        </p:grpSpPr>
        <p:sp>
          <p:nvSpPr>
            <p:cNvPr id="58" name=""/>
            <p:cNvSpPr/>
            <p:nvPr/>
          </p:nvSpPr>
          <p:spPr>
            <a:xfrm>
              <a:off x="2971800" y="502920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5320" y="4495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Tra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971800" y="5638680"/>
            <a:ext cx="2819520" cy="459720"/>
            <a:chOff x="2971800" y="5638680"/>
            <a:chExt cx="2819520" cy="459720"/>
          </a:xfrm>
        </p:grpSpPr>
        <p:sp>
          <p:nvSpPr>
            <p:cNvPr id="62" name=""/>
            <p:cNvSpPr/>
            <p:nvPr/>
          </p:nvSpPr>
          <p:spPr>
            <a:xfrm>
              <a:off x="2971800" y="5638680"/>
              <a:ext cx="2819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05320" y="5638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Allocat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8576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Drivers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driver (cost generator or cost determinan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factor which causes the amount of cost incurred to chang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ion costs are driven by the number of products produced, labour costs, number of setups required, and the number of change ord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191120"/>
            <a:ext cx="80773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Reduction Programs focus on two thing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oing only value-added activitie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fficiently manage the use of cost drivers in those value-added activit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le and Fixed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7150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able Co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 cost which is constant per unit but changes in total in proportion to changes in the cost driver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terials (parts), fuel costs for a trucking compan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1676520"/>
            <a:ext cx="0" cy="14475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3124080"/>
            <a:ext cx="175248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1600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32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705720" y="1828800"/>
            <a:ext cx="1600200" cy="129528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04920" y="3886200"/>
            <a:ext cx="8839080" cy="2362320"/>
            <a:chOff x="304920" y="3886200"/>
            <a:chExt cx="8839080" cy="2362320"/>
          </a:xfrm>
        </p:grpSpPr>
        <p:grpSp>
          <p:nvGrpSpPr>
            <p:cNvPr id="76" name=""/>
            <p:cNvGrpSpPr/>
            <p:nvPr/>
          </p:nvGrpSpPr>
          <p:grpSpPr>
            <a:xfrm>
              <a:off x="6324480" y="4038480"/>
              <a:ext cx="2819520" cy="1982880"/>
              <a:chOff x="6324480" y="4038480"/>
              <a:chExt cx="2819520" cy="1982880"/>
            </a:xfrm>
          </p:grpSpPr>
          <p:sp>
            <p:nvSpPr>
              <p:cNvPr id="77" name=""/>
              <p:cNvSpPr/>
              <p:nvPr/>
            </p:nvSpPr>
            <p:spPr>
              <a:xfrm>
                <a:off x="6705720" y="4114800"/>
                <a:ext cx="0" cy="144792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705720" y="5562720"/>
                <a:ext cx="1752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24480" y="40384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$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848720" y="565308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Volume</a:t>
                </a:r>
                <a:endParaRPr b="0" lang="en-US" sz="1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05720" y="4876920"/>
                <a:ext cx="1523880" cy="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304920" y="3886200"/>
              <a:ext cx="57909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cost which does not change in total as volume changes but changes on a per-unit basis as the cost driver increases and decrease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mortization, insuranc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01028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evant Range and Cost Behavio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100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 range of the cost driver in which the a specific relationship between cost and driver is valid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4998960"/>
            <a:ext cx="213336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089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3322800"/>
            <a:ext cx="0" cy="167616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4998960"/>
            <a:ext cx="213372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170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5075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64771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7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322800"/>
            <a:ext cx="0" cy="167616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523880" y="2666880"/>
            <a:ext cx="2362320" cy="3507840"/>
            <a:chOff x="1523880" y="2666880"/>
            <a:chExt cx="2362320" cy="3507840"/>
          </a:xfrm>
        </p:grpSpPr>
        <p:sp>
          <p:nvSpPr>
            <p:cNvPr id="100" name=""/>
            <p:cNvSpPr/>
            <p:nvPr/>
          </p:nvSpPr>
          <p:spPr>
            <a:xfrm flipV="1">
              <a:off x="2057400" y="3779640"/>
              <a:ext cx="91440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05120" y="2666880"/>
              <a:ext cx="121896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3880" y="57150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Variable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943600" y="2666880"/>
            <a:ext cx="2438280" cy="3507840"/>
            <a:chOff x="5943600" y="2666880"/>
            <a:chExt cx="2438280" cy="3507840"/>
          </a:xfrm>
        </p:grpSpPr>
        <p:sp>
          <p:nvSpPr>
            <p:cNvPr id="104" name=""/>
            <p:cNvSpPr/>
            <p:nvPr/>
          </p:nvSpPr>
          <p:spPr>
            <a:xfrm>
              <a:off x="6553080" y="4084560"/>
              <a:ext cx="9907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43800" y="3627360"/>
              <a:ext cx="53352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43600" y="4465800"/>
              <a:ext cx="60948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00800" y="2666880"/>
              <a:ext cx="121932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19920" y="571500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Fixed Cost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Costs and Uni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Cost (or Average Cos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tal cost / some number of uni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38 -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36232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verage cos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Total manufacturing costs / Number of units produc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0,000 / 10,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= $98 per un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41972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t or average costs must be interpreted with cau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s volume increases, the unit or average cost falls as the fixed costs are spread over a larger number of uni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Inven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tail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erchandising inventor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3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590920"/>
            <a:ext cx="8382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rect material inventory (stock awaiting use in the manufacturing proc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ork-in process inventory (partially completed goods on the shop floo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ished goods inventory (goods completed but not yet sold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09440"/>
            <a:ext cx="7772400" cy="8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 and Product Co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9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eriod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expensed on the income statement as they are incurr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operating costs (excluding cost of goods sold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selling, general and administrativ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duct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re inventoried on the balance sheet and expensed only when the product or service is sol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so called inventoriable cost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s: materials and labour (manufacturing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64771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40 - 4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7:02:44Z</dcterms:created>
  <dc:creator>User</dc:creator>
  <dc:description/>
  <dc:language>en-US</dc:language>
  <cp:lastModifiedBy>John Moore</cp:lastModifiedBy>
  <cp:lastPrinted>1999-06-02T19:49:26Z</cp:lastPrinted>
  <dcterms:modified xsi:type="dcterms:W3CDTF">2003-03-22T13:37:54Z</dcterms:modified>
  <cp:revision>11</cp:revision>
  <dc:subject/>
  <dc:title>Costs and Cost Objects</dc:title>
</cp:coreProperties>
</file>