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C985-7693-4F36-B3FC-E2333D19D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BC21-8DBE-423F-8D65-5797D76C6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4-</a:t>
            </a:r>
            <a:fld id="{51B9F006-C92E-4B1E-9095-F88F01969B3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is the process of assigning indirect costs to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our Purposes of Cost Alloc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provide information for economic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otivate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justify costs or compute reimburs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easure income and assets for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29 - 53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riteria for Guiding Cost Allocation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79930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use and eff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based on the variable or variables that cause cost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efits recei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among the beneficiaries in proportion to the benefits each rece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irness or equ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in such a manner as to be “fair” or “reasonable” for both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ility to b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based on who can best absorb th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0 - 5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s of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sts to cost objects using a single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e = manufacturing overhead costs / labour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ual-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costs into cost variable and fixed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fixed costs as lump sums based on long-term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variable costs based on a single variable 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versus actual alloc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firms allocate at budgeted rates based on actual us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6 - 5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ng Support Departmen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directly to operating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p-down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some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to other support departments and operating departments in a pre-determined or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iprocal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ognize all of the work support departments do for each o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support costs among all departments using their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39 - 54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05740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244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70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2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75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74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3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2009880"/>
            <a:ext cx="3733920" cy="4057560"/>
            <a:chOff x="5410080" y="2009880"/>
            <a:chExt cx="3733920" cy="4057560"/>
          </a:xfrm>
        </p:grpSpPr>
        <p:sp>
          <p:nvSpPr>
            <p:cNvPr id="78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28,11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0080" y="441972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87,889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320040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56386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200988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-down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009880"/>
            <a:ext cx="2209680" cy="157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114800"/>
            <a:ext cx="2209680" cy="21337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16,000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1 - 54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2590920"/>
            <a:ext cx="4876560" cy="3657600"/>
            <a:chOff x="533520" y="2590920"/>
            <a:chExt cx="4876560" cy="3657600"/>
          </a:xfrm>
        </p:grpSpPr>
        <p:sp>
          <p:nvSpPr>
            <p:cNvPr id="91" name=""/>
            <p:cNvSpPr/>
            <p:nvPr/>
          </p:nvSpPr>
          <p:spPr>
            <a:xfrm>
              <a:off x="533520" y="4114800"/>
              <a:ext cx="2209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3581280"/>
              <a:ext cx="0" cy="53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5760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98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0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1962000"/>
            <a:ext cx="3505320" cy="4133880"/>
            <a:chOff x="5410080" y="1962000"/>
            <a:chExt cx="3505320" cy="4133880"/>
          </a:xfrm>
        </p:grpSpPr>
        <p:sp>
          <p:nvSpPr>
            <p:cNvPr id="102" name=""/>
            <p:cNvSpPr/>
            <p:nvPr/>
          </p:nvSpPr>
          <p:spPr>
            <a:xfrm>
              <a:off x="5410080" y="4448160"/>
              <a:ext cx="3505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26,22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6080" y="31528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667480"/>
              <a:ext cx="83844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1962000"/>
              <a:ext cx="3505320" cy="16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89,778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10080" y="2085840"/>
            <a:ext cx="3353040" cy="164808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chiner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448160"/>
            <a:ext cx="3353040" cy="1647720"/>
          </a:xfrm>
          <a:prstGeom prst="rect">
            <a:avLst/>
          </a:prstGeom>
          <a:solidFill>
            <a:srgbClr val="00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dec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0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iprocal Approach to Cost Allo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324080"/>
            <a:ext cx="3192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ort Department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324080"/>
            <a:ext cx="365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duction Department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857240"/>
            <a:ext cx="2514600" cy="157176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 $600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343400"/>
            <a:ext cx="2514600" cy="19051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rect costs  $116,00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2 - 5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2590920"/>
            <a:ext cx="2666880" cy="2361960"/>
            <a:chOff x="2743200" y="2590920"/>
            <a:chExt cx="2666880" cy="2361960"/>
          </a:xfrm>
        </p:grpSpPr>
        <p:sp>
          <p:nvSpPr>
            <p:cNvPr id="115" name=""/>
            <p:cNvSpPr/>
            <p:nvPr/>
          </p:nvSpPr>
          <p:spPr>
            <a:xfrm>
              <a:off x="2743200" y="25909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048120"/>
              <a:ext cx="2666880" cy="1904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2619360"/>
              <a:ext cx="1752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87,225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12,041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743200" y="3200400"/>
            <a:ext cx="2666880" cy="2362320"/>
            <a:chOff x="2743200" y="3200400"/>
            <a:chExt cx="2666880" cy="2362320"/>
          </a:xfrm>
        </p:grpSpPr>
        <p:sp>
          <p:nvSpPr>
            <p:cNvPr id="119" name=""/>
            <p:cNvSpPr/>
            <p:nvPr/>
          </p:nvSpPr>
          <p:spPr>
            <a:xfrm>
              <a:off x="2743200" y="5562720"/>
              <a:ext cx="2666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43200" y="3200400"/>
              <a:ext cx="2590920" cy="1828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4676760"/>
              <a:ext cx="1752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92,65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320" y="1828800"/>
            <a:ext cx="3809880" cy="4419720"/>
            <a:chOff x="76320" y="1828800"/>
            <a:chExt cx="3809880" cy="4419720"/>
          </a:xfrm>
        </p:grpSpPr>
        <p:sp>
          <p:nvSpPr>
            <p:cNvPr id="123" name=""/>
            <p:cNvSpPr/>
            <p:nvPr/>
          </p:nvSpPr>
          <p:spPr>
            <a:xfrm>
              <a:off x="24382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3429000"/>
              <a:ext cx="0" cy="9144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3762360"/>
              <a:ext cx="1752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4,082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20" y="1828800"/>
              <a:ext cx="28191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llocated costs $24,08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20" y="4343400"/>
              <a:ext cx="2666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+ Allocated cos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24,816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2009880"/>
            <a:ext cx="3733920" cy="4086000"/>
            <a:chOff x="5410080" y="2009880"/>
            <a:chExt cx="3733920" cy="4086000"/>
          </a:xfrm>
        </p:grpSpPr>
        <p:sp>
          <p:nvSpPr>
            <p:cNvPr id="130" name=""/>
            <p:cNvSpPr/>
            <p:nvPr/>
          </p:nvSpPr>
          <p:spPr>
            <a:xfrm>
              <a:off x="5410080" y="200988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79,877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448160"/>
              <a:ext cx="37339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llocat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dec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Total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36,123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0120" y="563868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0120" y="3200400"/>
              <a:ext cx="9144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ation of Commo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45 - 5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mon costs are costs of operating a facility, operation, activity area, or like cost object that is shared by two or more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-Alone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on the basis of each user’s percentage of the total of the individual stand-alon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Cost Allocation Meth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 common costs in order beginning with the primary user and then proceeding to secondary (incremental) us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1:31:04Z</dcterms:created>
  <dc:creator>User</dc:creator>
  <dc:description/>
  <dc:language>en-US</dc:language>
  <cp:lastModifiedBy>John Moore</cp:lastModifiedBy>
  <cp:lastPrinted>1999-06-04T23:13:26Z</cp:lastPrinted>
  <dcterms:modified xsi:type="dcterms:W3CDTF">2003-03-22T13:19:23Z</dcterms:modified>
  <cp:revision>16</cp:revision>
  <dc:subject/>
  <dc:title>Cost Allocation</dc:title>
</cp:coreProperties>
</file>