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ED0-DECD-4B54-909F-8598B515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F25E-BA4A-45F5-962F-7B9E115D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5DF-30A0-48AD-A38E-2E08EC0E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4E84-4812-4EBA-BAB8-FFAD5206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3D42-0B21-4B5E-8582-C2EECAB8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0675-7B48-4B59-8078-BC1E8705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701F-9E97-4627-9767-C0EED4FC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2889-21A9-4BC0-BD24-6DA093DA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5846-70A5-486C-93DD-8820B1F0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836A-141F-4C18-B618-6E6FE431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0334-3569-4007-979C-00C15344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B63C-C39F-4FDC-8BCD-3A8D2547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A366-53E6-49D6-9D11-F639B4C1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A038-8746-4412-9BF4-98FE02CD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6DE2-AD2C-4C34-877E-DF8D09A2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4E3C-137F-460B-9EAB-9E7BB333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2FFB-BE75-47E9-AF93-F671E810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B4D7-E5D7-4378-A1C0-416749FC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471C-2C2A-425C-9E32-899C58D6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A94-BB84-4090-A111-F7532F95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8AE-E218-4100-9215-6CBD273A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BCF-B21D-46F7-953D-52265AA0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574-D951-47C3-BF86-97575295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E8E9-2269-465F-BF4C-90CEE23C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2FE4-F343-4927-8A0F-73D67BDC23E7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B498-6BA0-405B-A8F0-B1327F1E3294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هل التخطيط يستحق أن نقوم به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ألا يقيد التخطيط الابتكار والابداع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280" y="3124080"/>
            <a:ext cx="853452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التخطيط يحد من سلطات الادارة العليا فكيف ستلتزم به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التخطيط ألا يسبب نقصاً في المرونة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كيف يمكن وضع مقاييس كمية للأهداف الاجتماعية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ألا يلغي التخطيط الحدس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كيف يمكن التنبؤ بالمتغيرات في عالم سريع التغير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أليس السيناريو أفضل من التخطيط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التخطيط يعتمد على المعلومات وهذه يوفرها المنفذون ويمكنهم التلاعب بها... أليس كذلك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التخطيط كنموذج: هل يمكن الادعاء بأنه يصلح لكل المنظمات (صغيرة أو كبيرة،  مهنية أو عامة،  مركزية أو ديمقراطية)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1300320"/>
            <a:ext cx="4332240" cy="5557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14800" y="152280"/>
            <a:ext cx="4495680" cy="2743200"/>
          </a:xfrm>
          <a:prstGeom prst="wedgeEllipseCallout">
            <a:avLst>
              <a:gd name="adj1" fmla="val -63101"/>
              <a:gd name="adj2" fmla="val 39351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533520"/>
            <a:ext cx="32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cc3300"/>
                </a:solidFill>
                <a:latin typeface="Times New Roman"/>
              </a:rPr>
              <a:t>ما هو التخطيط 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هل يمكن فعلاً تشكيل الميزانيات حسب الخطة؟ أليست معتمدة على المقارنة مع الميزانيات السابقة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هل يمكن وضع خطة استراتيجية في ظل قيادات متغيرة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هل يمكن التخطيط الاستراتيجي منفصلاً عن خطة الجهات الأعلى؟ وماذا لو كانت الأعلى غير جيدة أو غير جادة أو غير مستقرة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66680" y="304920"/>
            <a:ext cx="670572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ff0000"/>
                </a:solidFill>
                <a:latin typeface="Times New Roman"/>
              </a:rPr>
              <a:t>سقوط</a:t>
            </a:r>
            <a:r>
              <a:rPr b="1" lang="ar-SA" sz="4400" spc="-1" strike="noStrike">
                <a:solidFill>
                  <a:srgbClr val="ff0000"/>
                </a:solidFill>
                <a:latin typeface="Times New Roman"/>
              </a:rPr>
              <a:t> وصعود</a:t>
            </a:r>
            <a:r>
              <a:rPr b="1" lang="ar-KW" sz="4400" spc="-1" strike="noStrike">
                <a:solidFill>
                  <a:srgbClr val="ff0000"/>
                </a:solidFill>
                <a:latin typeface="Times New Roman"/>
              </a:rPr>
              <a:t>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  ثم بدأ المدافعون عن التخطيط الاستراتيجي بالرد وكان من أبرز الكتب التي تولت الدفاع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(سقوط وصعود التخطيط الاستراتيجي)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وغيره وخلاصة الر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 التخطيط الاستراتيجي أداة ولا يصح أن ينظر إليه بقدسي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 رغم الملاحظات التي أثيرت على التخطيط الاستراتيجي إلا أنه يبقى أفضل من عدم وجود خطة استراتيجي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 التخطيط الاستراتيجي ينبغي أن يكون مرناً ليتم تعديله كلما حدثت متغيرات،  والملاحظات الرئيسية هي على التخطيط الجام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 نعم هناك تغييرات رئيسية في العالم وكذلك في الظروف الداخلية في المنظمة والظروف المحيطة بها ولكن رغم ذلك فهناك توقعات عامة ومؤشرات رئيسية يمكن الاسترشاد بها في وضع الخط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066680" y="304920"/>
            <a:ext cx="670572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ff0000"/>
                </a:solidFill>
                <a:latin typeface="Times New Roman"/>
              </a:rPr>
              <a:t>صعود وسقوط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  ثم بدأ المدافعون عن التخطيط الاستراتيجي بالرد وكان من أبرز الكتب التي تولت الدفاع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(سقوط وصعود التخطيط الاستراتيجي)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وغيره وخلاصة الر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 وأخيراً ما البديل الذي يطرحه المنتقدون فإن كان التخطيط بالسيناريو فهو أحد طرق التخطيط الاستراتيجي ويحتاج في النهاية إلى تفاصيل عملية ليمكن تطبيقه وبالتالي عدنا إلى التخطيط الاستراتيجي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0" y="380520"/>
            <a:ext cx="5029200" cy="1143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cc66"/>
                </a:solidFill>
                <a:latin typeface="Times New Roman"/>
              </a:rPr>
              <a:t>ما هو التخطيط ..؟</a:t>
            </a:r>
            <a:endParaRPr b="0" lang="en-US" sz="5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133720"/>
            <a:ext cx="3047760" cy="1921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ملية اتخاذ قرارات لتحديد اتجاه المستقبل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142640" y="2666880"/>
            <a:ext cx="2133720" cy="0"/>
          </a:xfrm>
          <a:prstGeom prst="line">
            <a:avLst/>
          </a:prstGeom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0" cy="1371600"/>
          </a:xfrm>
          <a:prstGeom prst="line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4038480"/>
            <a:ext cx="1905120" cy="1007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</a:rPr>
              <a:t>أين نريد الوصول؟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4038480"/>
            <a:ext cx="1904760" cy="14644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</a:rPr>
              <a:t>أين نحـــن الآن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4572000"/>
            <a:ext cx="4800600" cy="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924680" y="2666880"/>
            <a:ext cx="0" cy="1371600"/>
          </a:xfrm>
          <a:prstGeom prst="line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324120" y="2666880"/>
            <a:ext cx="1600200" cy="0"/>
          </a:xfrm>
          <a:prstGeom prst="line">
            <a:avLst/>
          </a:prstGeom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5638680"/>
            <a:ext cx="3581280" cy="990720"/>
          </a:xfrm>
          <a:prstGeom prst="rect">
            <a:avLst/>
          </a:prstGeom>
          <a:noFill/>
          <a:ln w="76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ffff00"/>
                </a:solidFill>
                <a:latin typeface="Times New Roman"/>
              </a:rPr>
              <a:t>كيف نصل الى ما نريد؟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219320" y="6324480"/>
            <a:ext cx="1752480" cy="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219320" y="5105520"/>
            <a:ext cx="0" cy="1218960"/>
          </a:xfrm>
          <a:prstGeom prst="line">
            <a:avLst/>
          </a:prstGeom>
          <a:ln w="7632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552720" y="6324480"/>
            <a:ext cx="1752840" cy="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305920" y="5105520"/>
            <a:ext cx="0" cy="1218960"/>
          </a:xfrm>
          <a:prstGeom prst="line">
            <a:avLst/>
          </a:prstGeom>
          <a:ln w="7632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724280" y="1905120"/>
            <a:ext cx="0" cy="16002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1523880"/>
            <a:ext cx="0" cy="3812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7760" y="151920"/>
            <a:ext cx="3352680" cy="7621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00"/>
                </a:solidFill>
                <a:latin typeface="Times New Roman"/>
              </a:rPr>
              <a:t>الوضع النموذجي للتخطيط</a:t>
            </a:r>
            <a:endParaRPr b="0" lang="en-US" sz="2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1066680"/>
            <a:ext cx="388620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1143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استراتيجية الوزارة أو الشركة الأم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1905120"/>
            <a:ext cx="37335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205740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44"/>
                </a:solidFill>
                <a:latin typeface="Times New Roman"/>
              </a:rPr>
              <a:t>استراتيجية الوزارة أو الشرك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666880"/>
            <a:ext cx="2362320" cy="5335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27432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44"/>
                </a:solidFill>
                <a:latin typeface="Times New Roman"/>
              </a:rPr>
              <a:t>خطط القطاعات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505320"/>
            <a:ext cx="2819160" cy="533160"/>
          </a:xfrm>
          <a:prstGeom prst="flowChartOffpageConnector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505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خطط الادار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4038480"/>
            <a:ext cx="0" cy="304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343400"/>
            <a:ext cx="2819160" cy="533520"/>
          </a:xfrm>
          <a:prstGeom prst="flowChartOffpageConnector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343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خطط الأقسا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4876920"/>
            <a:ext cx="0" cy="3045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5181480"/>
            <a:ext cx="2819160" cy="533520"/>
          </a:xfrm>
          <a:prstGeom prst="flowChartOffpageConnector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5181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خطط الشع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715000"/>
            <a:ext cx="0" cy="304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6019920"/>
            <a:ext cx="2819160" cy="533160"/>
          </a:xfrm>
          <a:prstGeom prst="flowChartOffpageConnector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6019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خطط الأفرا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09480" y="624852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09480" y="5257800"/>
            <a:ext cx="0" cy="99072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152280" y="44038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مستوى التخطيط التشغيلي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09480" y="3505320"/>
            <a:ext cx="0" cy="76176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09480" y="358128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400800" y="632448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763120" y="5333760"/>
            <a:ext cx="0" cy="99036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447984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خطة قصيرة المدى (سنة واحدة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763120" y="3580920"/>
            <a:ext cx="0" cy="76212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400800" y="365760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09480" y="304812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09480" y="2590920"/>
            <a:ext cx="0" cy="45720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152280" y="1889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مستوى التخطيط الاستراتيجي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09480" y="1371600"/>
            <a:ext cx="0" cy="53352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9480" y="1371600"/>
            <a:ext cx="152424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400800" y="304812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8763120" y="2590920"/>
            <a:ext cx="0" cy="45720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18892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خطة بعيدة المدي (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 سنوات) أو أكث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8763120" y="1371600"/>
            <a:ext cx="0" cy="53352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238880" y="1371600"/>
            <a:ext cx="152424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50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50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95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9500"/>
                            </p:stCondLst>
                            <p:childTnLst>
                              <p:par>
                                <p:cTn id="1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 flipH="1">
            <a:off x="3347640" y="3964320"/>
            <a:ext cx="767160" cy="834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3962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ا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لنم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و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ذج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العام للتخطيط الاستراتيجي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ح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سب نظرية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Pfieffer</a:t>
            </a:r>
            <a:r>
              <a:rPr b="1" lang="ar-KW" sz="1600" spc="-1" strike="noStrike">
                <a:solidFill>
                  <a:srgbClr val="ffff00"/>
                </a:solidFill>
                <a:latin typeface="Times New Roman"/>
              </a:rPr>
              <a:t>مع تع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ديل السويدان والع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د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لوني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304920"/>
            <a:ext cx="2210040" cy="119124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تخطيط للتخطيط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 to pl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1371600"/>
            <a:ext cx="221004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ستعراض القيم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114300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2438280"/>
            <a:ext cx="221004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رؤ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3124080"/>
            <a:ext cx="335304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نموذج العمل الاستراتيجي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tegic Business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220968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289548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4181400"/>
            <a:ext cx="396252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خطط العمل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onal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867200"/>
            <a:ext cx="396252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تنسيق الخطط العمل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rd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5553000"/>
            <a:ext cx="396252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تنفي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510552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إدارة الاستراتيج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tegic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39625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46483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53341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60199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615960"/>
            <a:ext cx="2209680" cy="155700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عتبارات التطبيق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lementation Conside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686800" y="1828800"/>
            <a:ext cx="0" cy="4876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768240"/>
            <a:ext cx="2209680" cy="119124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مراقبة البيئة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  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981080"/>
            <a:ext cx="0" cy="4800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292480"/>
            <a:ext cx="220968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تشكيل الرسالة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3503520" y="2664360"/>
            <a:ext cx="533520" cy="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3664080"/>
            <a:ext cx="220968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نظر الصفحة التالية للتفصي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4807080"/>
            <a:ext cx="2209680" cy="119124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خطط البديلة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gency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504960" y="3808800"/>
            <a:ext cx="533160" cy="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5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5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5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95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438280" y="82440"/>
            <a:ext cx="396252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ffffff"/>
                </a:solidFill>
                <a:latin typeface="Times New Roman"/>
              </a:rPr>
              <a:t>نموذج العمل الاستراتيجي</a:t>
            </a:r>
            <a:r>
              <a:rPr b="1" lang="ar-KW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ategic Business Mo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914400"/>
            <a:ext cx="990720" cy="631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الرؤية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57800" y="1957320"/>
            <a:ext cx="2743200" cy="63144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مجالات العمل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ines of Business L.O.B’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948040"/>
            <a:ext cx="3581280" cy="631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وحدات العمل الاستراتيجي (لكل مجال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rategic Business Units (S.B.U.’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4092480"/>
            <a:ext cx="2133360" cy="116892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مؤشرات النجاح الحساس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لكل وحدة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itical Success Indicators (C.S.I.s’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5638680"/>
            <a:ext cx="2133360" cy="10576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دراسة نقاط الضعف والقوة والفرص والمخاطر (لكل مؤشر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.W.O.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5943600"/>
            <a:ext cx="2667240" cy="63144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تحليل الفجوات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ap 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1600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2590920"/>
            <a:ext cx="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38880" y="2590920"/>
            <a:ext cx="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2666880"/>
            <a:ext cx="0" cy="30492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48720" y="2666880"/>
            <a:ext cx="0" cy="30492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9920" y="3657600"/>
            <a:ext cx="0" cy="30492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3657600"/>
            <a:ext cx="0" cy="30492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35812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35812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3920" y="52578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52578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52578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52578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490640" y="6256800"/>
            <a:ext cx="615240" cy="18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8610480" y="1066320"/>
            <a:ext cx="0" cy="541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381880" y="2362320"/>
            <a:ext cx="0" cy="396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8153280" y="33526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8001000" y="46483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8720" y="64771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48720" y="63244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61722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6019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4648320"/>
            <a:ext cx="3276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080" y="1066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77320" y="23623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3352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066680" y="304920"/>
            <a:ext cx="670572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990000"/>
                </a:solidFill>
                <a:latin typeface="Times New Roman"/>
              </a:rPr>
              <a:t>صعود وسقوط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23623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  سطع نجم التخطيط الاستراتيجي في السبعينات والثمانينات وبداية التسعينات من القرن العشرين إلى أن وجه هنري منتزبرغ هجوماً شديداً عليه في عام 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1994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من خلال كتابه الشهير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(صعود وسقوط التخطيط الاستراتيجي)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والذي تجد ملخصاً له في الصفحات التالي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إذا كان تحديد الحلم المستقبلي هو أهم شيء في التخطيط الاستراتيجي،  وإذا كان هذا الأمر ما زال يعتمد على الإبداع والابتكار ولم يصبح علماً حتى الآن فما قيمة التخطيط الاستراتيجي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هل وجود إدارة للتخطيط تعني أننا نخطط فعلاً 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4T18:10:41Z</dcterms:created>
  <dc:creator>د.طارق السويدان</dc:creator>
  <dc:description/>
  <dc:language>en-US</dc:language>
  <cp:lastModifiedBy>ABDERRAOUF</cp:lastModifiedBy>
  <dcterms:modified xsi:type="dcterms:W3CDTF">2006-03-07T11:45:22Z</dcterms:modified>
  <cp:revision>220</cp:revision>
  <dc:subject>التخطيط الإستراتيجي</dc:subject>
  <dc:title>ما هو التخطيط ..؟</dc:title>
</cp:coreProperties>
</file>