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680-33A6-401F-B023-A545513D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20B-B460-45A5-9F92-05F51795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FA9-3083-4E8E-8A18-F302BCED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4AD-033E-4DFE-B762-3461B7C8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150E-9CEF-46E8-A7AA-2CECE046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A46-D4AB-4B45-A629-DF4F30F4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B4D0-56B9-4C4F-9540-803D30BC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830D-129A-4228-B69B-0E110420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16B3-ED09-4518-B6AE-DB0D186D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EDF0-A790-46BE-950A-6C978CE4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85F1-1F0E-4A57-B217-1CFFC796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CBE-9D06-49F0-A219-BEF77600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C351-588B-430D-B549-5A39BA27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CF21-B210-4116-A254-82D8ECA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2285-69CD-4E7E-9AA6-D631BEE4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845C-B847-4A1F-8D29-5B951322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E10B-6EFB-44D0-8C88-36B185F0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1EA-E2D7-4BDA-8894-8706AD8C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822-9A40-42E5-BB9C-690C14EC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102-8D23-4717-AD70-CAA32A35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1D8-233F-4703-B1E1-457E52D3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945-DFAA-4070-A390-19567E56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725-3070-416C-BA61-AC557E3B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2CF-1F7C-44BE-B88A-28CD712A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1161-D43C-4417-B991-7797577E459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FD5F-96FD-450F-9F14-54A0567ECA53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التخطيط يستحق أن نقوم به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ا يقيد التخطيط الابتكار والابداع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312408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يحد من سلطات الادارة العليا فكيف ستلتزم به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ألا يسبب نقصاً في المرون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كيف يمكن وضع مقاييس كمية للأهداف الاجتماعي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ا يلغي التخطيط الحدس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كيف يمكن التنبؤ بالمتغيرات في عالم سريع التغير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يس السيناريو أفضل من التخطيط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يعتمد على المعلومات وهذه يوفرها المنفذون ويمكنهم التلاعب بها... أليس كذلك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كنموذج: هل يمكن الادعاء بأنه يصلح لكل المنظمات (صغيرة أو كبيرة،  مهنية أو عامة،  مركزية أو ديمقراطية)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300320"/>
            <a:ext cx="4332240" cy="5557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14800" y="152280"/>
            <a:ext cx="4495680" cy="2743200"/>
          </a:xfrm>
          <a:prstGeom prst="wedgeEllipseCallout">
            <a:avLst>
              <a:gd name="adj1" fmla="val -63101"/>
              <a:gd name="adj2" fmla="val 39351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3352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3300"/>
                </a:solidFill>
                <a:latin typeface="Times New Roman"/>
              </a:rPr>
              <a:t>ما هو التخطيط 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فعلاً تشكيل الميزانيات حسب الخطة؟ أليست معتمدة على المقارنة مع الميزانيات السابق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وضع خطة استراتيجية في ظل قيادات متغير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التخطيط الاستراتيجي منفصلاً عن خطة الجهات الأعلى؟ وماذا لو كانت الأعلى غير جيدة أو غير جادة أو غير مستقر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سقوط</a:t>
            </a:r>
            <a:r>
              <a:rPr b="1" lang="ar-SA" sz="4400" spc="-1" strike="noStrike">
                <a:solidFill>
                  <a:srgbClr val="ff0000"/>
                </a:solidFill>
                <a:latin typeface="Times New Roman"/>
              </a:rPr>
              <a:t> وصعود</a:t>
            </a: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ثم بدأ المدافعون عن التخطيط الاستراتيجي بالرد وكان من أبرز الكتب التي تولت الدفاع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سقوط وصعود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غيره وخلاصة الر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التخطيط الاستراتيجي أداة ولا يصح أن ينظر إليه بقدس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رغم الملاحظات التي أثيرت على التخطيط الاستراتيجي إلا أنه يبقى أفضل من عدم وجود خطة استراتيج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التخطيط الاستراتيجي ينبغي أن يكون مرناً ليتم تعديله كلما حدثت متغيرات،  والملاحظات الرئيسية هي على التخطيط الجام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نعم هناك تغييرات رئيسية في العالم وكذلك في الظروف الداخلية في المنظمة والظروف المحيطة بها ولكن رغم ذلك فهناك توقعات عامة ومؤشرات رئيسية يمكن الاسترشاد بها في وضع الخط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صعود وسقوط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ثم بدأ المدافعون عن التخطيط الاستراتيجي بالرد وكان من أبرز الكتب التي تولت الدفاع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سقوط وصعود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غيره وخلاصة الر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وأخيراً ما البديل الذي يطرحه المنتقدون فإن كان التخطيط بالسيناريو فهو أحد طرق التخطيط الاستراتيجي ويحتاج في النهاية إلى تفاصيل عملية ليمكن تطبيقه وبالتالي عدنا إلى التخطيط الاستراتيجي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029200" cy="1143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cc66"/>
                </a:solidFill>
                <a:latin typeface="Times New Roman"/>
              </a:rPr>
              <a:t>ما هو التخطيط ..؟</a:t>
            </a:r>
            <a:endParaRPr b="0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133720"/>
            <a:ext cx="3047760" cy="1921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ملية اتخاذ قرارات لتحديد اتجاه المستقبل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142640" y="2666880"/>
            <a:ext cx="213372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038480"/>
            <a:ext cx="1905120" cy="1007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</a:rPr>
              <a:t>أين نريد الوصول؟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4038480"/>
            <a:ext cx="1904760" cy="1464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</a:rPr>
              <a:t>أين نحـــن الآ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4572000"/>
            <a:ext cx="4800600" cy="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324120" y="2666880"/>
            <a:ext cx="160020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638680"/>
            <a:ext cx="3581280" cy="990720"/>
          </a:xfrm>
          <a:prstGeom prst="rect">
            <a:avLst/>
          </a:prstGeom>
          <a:noFill/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ff00"/>
                </a:solidFill>
                <a:latin typeface="Times New Roman"/>
              </a:rPr>
              <a:t>كيف نصل الى ما نريد؟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219320" y="6324480"/>
            <a:ext cx="175248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193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2720" y="6324480"/>
            <a:ext cx="175284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3059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24280" y="1905120"/>
            <a:ext cx="0" cy="1600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523880"/>
            <a:ext cx="0" cy="381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3352680" cy="7621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00"/>
                </a:solidFill>
                <a:latin typeface="Times New Roman"/>
              </a:rPr>
              <a:t>الوضع النموذجي للتخطيط</a:t>
            </a:r>
            <a:endParaRPr b="0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1066680"/>
            <a:ext cx="388620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143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استراتيجية الوزارة أو الشركة الأ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905120"/>
            <a:ext cx="37335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0574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44"/>
                </a:solidFill>
                <a:latin typeface="Times New Roman"/>
              </a:rPr>
              <a:t>استراتيجية الوزارة أو الشرك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66688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743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44"/>
                </a:solidFill>
                <a:latin typeface="Times New Roman"/>
              </a:rPr>
              <a:t>خطط القطاعات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505320"/>
            <a:ext cx="2819160" cy="53316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ادار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343400"/>
            <a:ext cx="2819160" cy="53352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أقسا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181480"/>
            <a:ext cx="2819160" cy="53352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181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شع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71500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6019920"/>
            <a:ext cx="2819160" cy="53316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أفرا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9480" y="62485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9480" y="5257800"/>
            <a:ext cx="0" cy="9907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52280" y="44038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ستوى التخطيط التشغيل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480" y="3505320"/>
            <a:ext cx="0" cy="76176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9480" y="358128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400800" y="632448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763120" y="5333760"/>
            <a:ext cx="0" cy="99036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447984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خطة قصيرة المدى (سنة واحدة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763120" y="3580920"/>
            <a:ext cx="0" cy="7621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400800" y="365760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09480" y="30481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480" y="2590920"/>
            <a:ext cx="0" cy="45720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1889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ستوى التخطيط الاستراتيج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9480" y="1371600"/>
            <a:ext cx="0" cy="5335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9480" y="1371600"/>
            <a:ext cx="152424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00800" y="30481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763120" y="2590920"/>
            <a:ext cx="0" cy="45720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1889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خطة بعيدة المدي (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سنوات) أو أكث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763120" y="1371600"/>
            <a:ext cx="0" cy="5335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238880" y="1371600"/>
            <a:ext cx="152424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flipH="1">
            <a:off x="3347640" y="3964320"/>
            <a:ext cx="767160" cy="834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ا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لنم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ذج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العام للتخطيط الاستراتيج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ح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سب نظرية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fieffer</a:t>
            </a:r>
            <a:r>
              <a:rPr b="1" lang="ar-KW" sz="1600" spc="-1" strike="noStrike">
                <a:solidFill>
                  <a:srgbClr val="ffff00"/>
                </a:solidFill>
                <a:latin typeface="Times New Roman"/>
              </a:rPr>
              <a:t>مع تع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ديل السويدان والع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د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لون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04920"/>
            <a:ext cx="2210040" cy="11912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تخطيط للتخطيط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to pl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371600"/>
            <a:ext cx="2210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ستعراض القيم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1430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2438280"/>
            <a:ext cx="221004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رؤ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3124080"/>
            <a:ext cx="3353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نموذج العمل الاستراتيجي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Business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2096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8954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4181400"/>
            <a:ext cx="396252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خطط العمل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al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867200"/>
            <a:ext cx="39625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تنسيق الخطط العمل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5553000"/>
            <a:ext cx="396252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تنفي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51055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إدارة الاستراتيج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962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46483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3341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60199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615960"/>
            <a:ext cx="2209680" cy="1557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عتبارات التطبيق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 Conside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686800" y="1828800"/>
            <a:ext cx="0" cy="4876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768240"/>
            <a:ext cx="220968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مراقبة البيئ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  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981080"/>
            <a:ext cx="0" cy="480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292480"/>
            <a:ext cx="2209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تشكيل الرسال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503520" y="2664360"/>
            <a:ext cx="533520" cy="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664080"/>
            <a:ext cx="2209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نظر الصفحة التالية للتفص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807080"/>
            <a:ext cx="2209680" cy="11912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خطط البديل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c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504960" y="3808800"/>
            <a:ext cx="533160" cy="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38280" y="82440"/>
            <a:ext cx="396252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ffffff"/>
                </a:solidFill>
                <a:latin typeface="Times New Roman"/>
              </a:rPr>
              <a:t>نموذج العمل الاستراتيج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ategic Business Mo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914400"/>
            <a:ext cx="990720" cy="631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الرؤية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1957320"/>
            <a:ext cx="2743200" cy="631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مجالات العمل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nes of Business L.O.B’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948040"/>
            <a:ext cx="3581280" cy="631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وحدات العمل الاستراتيجي (لكل مجال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ategic Business Units (S.B.U.’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092480"/>
            <a:ext cx="2133360" cy="1168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مؤشرات النجاح الحساس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لكل وحدة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tical Success Indicators (C.S.I.s’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5638680"/>
            <a:ext cx="2133360" cy="10576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دراسة نقاط الضعف والقوة والفرص والمخاطر (لكل مؤشر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W.O.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5943600"/>
            <a:ext cx="2667240" cy="631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تحليل الفجوات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ap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1600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2590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2590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266688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266688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365760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365760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90640" y="6256800"/>
            <a:ext cx="615240" cy="1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610480" y="1066320"/>
            <a:ext cx="0" cy="541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381880" y="2362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153280" y="33526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001000" y="46483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4771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8720" y="6324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6172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019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464832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1066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2362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352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990000"/>
                </a:solidFill>
                <a:latin typeface="Times New Roman"/>
              </a:rPr>
              <a:t>صعود وسقوط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سطع نجم التخطيط الاستراتيجي في السبعينات والثمانينات وبداية التسعينات من القرن العشرين إلى أن وجه هنري منتزبرغ هجوماً شديداً عليه في عام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1994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من خلال كتابه الشهير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صعود وسقوط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الذي تجد ملخصاً له في الصفحات التالي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إذا كان تحديد الحلم المستقبلي هو أهم شيء في التخطيط الاستراتيجي،  وإذا كان هذا الأمر ما زال يعتمد على الإبداع والابتكار ولم يصبح علماً حتى الآن فما قيمة التخطيط الاستراتيجي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وجود إدارة للتخطيط تعني أننا نخطط فعلاً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8:10:41Z</dcterms:created>
  <dc:creator>د.طارق السويدان</dc:creator>
  <dc:description/>
  <dc:language>en-US</dc:language>
  <cp:lastModifiedBy>ABDERRAOUF</cp:lastModifiedBy>
  <dcterms:modified xsi:type="dcterms:W3CDTF">2006-03-07T11:45:22Z</dcterms:modified>
  <cp:revision>220</cp:revision>
  <dc:subject>التخطيط الإستراتيجي</dc:subject>
  <dc:title>ما هو التخطيط ..؟</dc:title>
</cp:coreProperties>
</file>