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1A5-F3E3-472C-BDA6-250B7F57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BCC-0D90-429F-A444-9A9008E9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814-6D16-49DE-8E75-82FC689B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8DF-D7C8-4386-81EE-AF487692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722A-7A3D-489E-A5CE-4A31AC95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477B-0553-4395-8E58-D97E621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F4F-E865-47F5-89F2-513D923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89C3-73FF-425E-A611-AC4F237F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FF13-57AC-4332-863E-A6EF8BBF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D504-8ECF-4945-B32A-730AEAA1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6F32-792A-4890-8D7E-8C5C4F2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644-3EF6-4235-A6C0-24B2B57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0C25-35AE-4DB6-9ADF-A55D1B5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3039-5E36-426F-AF67-5376180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C257-7A06-4C23-A147-91DEB7E7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BC11-BD1E-4B9F-A927-9A3C9D9B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5CEA-EFAE-41F1-ACA5-1673B5BE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56B-D9D9-465A-92E7-36E831CA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801-BC15-4083-AAD7-71D72623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EB3-B6D3-4A97-B05E-AB97BBB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92C-0631-46FD-9E7E-2853E8B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19A-852B-442E-AF00-699784A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1C2-E85C-454D-AF6A-64D73BE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61C-D687-41DF-B582-198DA85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F571-7339-46A4-974F-88BF94EEC41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B21-BBE5-43C4-8AB5-FE845F04297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التخطيط يستحق أن نقو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قيد التخطيط الابتكار والابداع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31240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حد من سلطات الادارة العليا فكيف ستلتز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ألا يسبب نقصاً في المرون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وضع مقاييس كمية للأهداف الاجتماعي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لغي التخطيط الحدس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التنبؤ بالمتغيرات في عالم سريع التغير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يس السيناريو أفضل من التخطيط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عتمد على المعلومات وهذه يوفرها المنفذون ويمكنهم التلاعب بها... أليس كذلك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كنموذج: هل يمكن الادعاء بأنه يصلح لكل المنظمات (صغيرة أو كبيرة،  مهنية أو عامة،  مركزية أو ديمقراطية)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300320"/>
            <a:ext cx="4332240" cy="5557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152280"/>
            <a:ext cx="4495680" cy="2743200"/>
          </a:xfrm>
          <a:prstGeom prst="wedgeEllipseCallout">
            <a:avLst>
              <a:gd name="adj1" fmla="val -63101"/>
              <a:gd name="adj2" fmla="val 3935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3352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3300"/>
                </a:solidFill>
                <a:latin typeface="Times New Roman"/>
              </a:rPr>
              <a:t>ما هو التخطيط 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فعلاً تشكيل الميزانيات حسب الخطة؟ أليست معتمدة على المقارنة مع الميزانيات السابق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وضع خطة استراتيجية في ظل قيادات متغي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التخطيط الاستراتيجي منفصلاً عن خطة الجهات الأعلى؟ وماذا لو كانت الأعلى غير جيدة أو غير جادة أو غير مستق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سقوط</a:t>
            </a: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 وصعود</a:t>
            </a: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أداة ولا يصح أن ينظر إليه بقدس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رغم الملاحظات التي أثيرت على التخطيط الاستراتيجي إلا أنه يبقى أفضل من عدم وجود خطة استراتيج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ينبغي أن يكون مرناً ليتم تعديله كلما حدثت متغيرات،  والملاحظات الرئيسية هي على التخطيط الجام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نعم هناك تغييرات رئيسية في العالم وكذلك في الظروف الداخلية في المنظمة والظروف المحيطة بها ولكن رغم ذلك فهناك توقعات عامة ومؤشرات رئيسية يمكن الاسترشاد بها في وضع الخط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وأخيراً ما البديل الذي يطرحه المنتقدون فإن كان التخطيط بالسيناريو فهو أحد طرق التخطيط الاستراتيجي ويحتاج في النهاية إلى تفاصيل عملية ليمكن تطبيقه وبالتالي عدنا إلى التخطيط الاستراتيجي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0292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cc66"/>
                </a:solidFill>
                <a:latin typeface="Times New Roman"/>
              </a:rPr>
              <a:t>ما هو التخطيط ..؟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133720"/>
            <a:ext cx="3047760" cy="1921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ملية اتخاذ قرارات لتحديد اتجاه المستقبل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142640" y="2666880"/>
            <a:ext cx="213372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038480"/>
            <a:ext cx="1905120" cy="1007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ريد الوصول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038480"/>
            <a:ext cx="1904760" cy="1464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حـــن الآ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572000"/>
            <a:ext cx="4800600" cy="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324120" y="2666880"/>
            <a:ext cx="160020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638680"/>
            <a:ext cx="3581280" cy="990720"/>
          </a:xfrm>
          <a:prstGeom prst="rect">
            <a:avLst/>
          </a:prstGeom>
          <a:noFill/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كيف نصل الى ما نريد؟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219320" y="6324480"/>
            <a:ext cx="175248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93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2720" y="6324480"/>
            <a:ext cx="1752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059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24280" y="1905120"/>
            <a:ext cx="0" cy="1600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38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3352680" cy="7621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00"/>
                </a:solidFill>
                <a:latin typeface="Times New Roman"/>
              </a:rPr>
              <a:t>الوضع النموذجي للتخطيط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066680"/>
            <a:ext cx="38862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143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استراتيجية الوزارة أو الشركة الأ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905120"/>
            <a:ext cx="37335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0574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استراتيجية الوزارة أو الشرك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66688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743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خطط القطاعات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5053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ادار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34340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قسا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18148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شع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0199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فرا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9480" y="62485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480" y="5257800"/>
            <a:ext cx="0" cy="9907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52280" y="44038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تشغيل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480" y="3505320"/>
            <a:ext cx="0" cy="7617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480" y="35812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400800" y="63244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763120" y="5333760"/>
            <a:ext cx="0" cy="9903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447984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قصيرة المدى (سنة واحد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763120" y="3580920"/>
            <a:ext cx="0" cy="7621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00800" y="365760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0948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48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1889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استراتيج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48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94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0080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76312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1889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بعيدة المدي (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سنوات) أو أكث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76312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2388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H="1">
            <a:off x="3347640" y="3964320"/>
            <a:ext cx="767160" cy="834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ا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نم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ذج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العام للتخطيط الاستراتيج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ح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سب نظرية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fieffer</a:t>
            </a:r>
            <a:r>
              <a:rPr b="1" lang="ar-KW" sz="1600" spc="-1" strike="noStrike">
                <a:solidFill>
                  <a:srgbClr val="ffff00"/>
                </a:solidFill>
                <a:latin typeface="Times New Roman"/>
              </a:rPr>
              <a:t>مع تع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ديل السويدان والع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د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ون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04920"/>
            <a:ext cx="221004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خطيط للتخطيط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to p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371600"/>
            <a:ext cx="2210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ستعراض القيم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1430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2438280"/>
            <a:ext cx="221004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رؤ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3124080"/>
            <a:ext cx="3353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Busines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2096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18140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al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867200"/>
            <a:ext cx="3962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نسيق 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5553000"/>
            <a:ext cx="39625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نفي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5105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إدارة الاستراتيج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962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648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3341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60199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615960"/>
            <a:ext cx="220968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عتبارات التطبيق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 Conside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1828800"/>
            <a:ext cx="0" cy="487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768240"/>
            <a:ext cx="2209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مراقبة البيئ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 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81080"/>
            <a:ext cx="0" cy="480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924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شكيل الرسا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503520" y="2664360"/>
            <a:ext cx="53352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6640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نظر الصفحة التالية للتفص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807080"/>
            <a:ext cx="220968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بدي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c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504960" y="3808800"/>
            <a:ext cx="53316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38280" y="8244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ategic Business Mo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914400"/>
            <a:ext cx="99072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957320"/>
            <a:ext cx="274320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جالات العمل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nes of Business L.O.B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948040"/>
            <a:ext cx="358128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وحدات العمل الاستراتيجي (لكل مجال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ategic Business Units (S.B.U.’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092480"/>
            <a:ext cx="2133360" cy="1168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ؤشرات النجاح الحساس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لكل وحد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ical Success Indicators (C.S.I.s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638680"/>
            <a:ext cx="2133360" cy="10576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دراسة نقاط الضعف والقوة والفرص والمخاطر (لكل مؤشر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W.O.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5943600"/>
            <a:ext cx="266724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تحليل الفجوات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ap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1600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90640" y="6256800"/>
            <a:ext cx="615240" cy="1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610480" y="1066320"/>
            <a:ext cx="0" cy="541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381880" y="2362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153280" y="33526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001000" y="46483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477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6324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6172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64832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1066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2362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99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سطع نجم التخطيط الاستراتيجي في السبعينات والثمانينات وبداية التسعينات من القرن العشرين إلى أن وجه هنري منتزبرغ هجوماً شديداً عليه في عام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1994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من خلال كتابه الشهير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صعود وسقوط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الذي تجد ملخصاً له في الصفحات التال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إذا كان تحديد الحلم المستقبلي هو أهم شيء في التخطيط الاستراتيجي،  وإذا كان هذا الأمر ما زال يعتمد على الإبداع والابتكار ولم يصبح علماً حتى الآن فما قيمة التخطيط الاستراتيجي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وجود إدارة للتخطيط تعني أننا نخطط فعلاً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8:10:41Z</dcterms:created>
  <dc:creator>د.طارق السويدان</dc:creator>
  <dc:description/>
  <dc:language>en-US</dc:language>
  <cp:lastModifiedBy>ABDERRAOUF</cp:lastModifiedBy>
  <dcterms:modified xsi:type="dcterms:W3CDTF">2006-03-07T11:45:22Z</dcterms:modified>
  <cp:revision>220</cp:revision>
  <dc:subject>التخطيط الإستراتيجي</dc:subject>
  <dc:title>ما هو التخطيط ..؟</dc:title>
</cp:coreProperties>
</file>