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4B39AF-25D5-4028-B7E4-7C945DDE2C9A}"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34CFA-4995-466C-B81F-9F78C06A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C8F1B-A1BA-4477-989D-FACFF7C3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A108A-9F77-4A46-8E04-04039498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AD9B6-45D6-43D4-99E9-405763F8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33798-DE1E-4BDD-B44B-E9BD55FC2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01B78-87B1-4A58-AC7B-59E54FEC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03079-791E-4A52-82BF-77C40CFA7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1D3D-0C08-49E2-B93F-BE0FD5DEA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9E3C1-9A8D-47C9-A90C-95453FD3E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1C74B-31C9-4119-9F71-750EAA286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0528-AE33-4E81-88F9-79B473E48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F444-EF10-4DD6-9E1E-EF6FFEDA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08354-4012-4F52-B13E-604A177E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E034-C068-482E-90C1-3BB1E7FC3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C7FC5-5E55-4567-9B7F-57A06BD72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CBD20-E3E0-4E9A-9FE6-1D4544F75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0DC53-B22B-4375-BDAC-7F8C13DA1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A9C2-2951-4E8C-BF08-39FCA77EC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65E17-7BCB-42FC-9949-4B235D400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5CE8-213A-4DA9-A975-EEA76753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F644-CF70-42F4-8BF1-6F6D56A52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F4D8-9EC2-431A-A960-27DD5371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440F-BF2E-4886-BDAB-4AFB6366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55E15-CC59-4A9A-B2C1-11CF63BE9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D4A9-820F-4805-9B8F-E3F187406F99}"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5AB5-988F-4F5F-ACE0-83CC8F59461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31C3-C123-41BF-BF97-1F8B316893AC}" type="datetime">
              <a:rPr b="0" lang="en-US" sz="1000" spc="-1" strike="noStrike">
                <a:solidFill>
                  <a:srgbClr val="ffffff"/>
                </a:solidFill>
                <a:latin typeface="Verdana"/>
              </a:rPr>
              <a:t>07/30/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8BC9-8F3B-41BA-8499-D12B1D4F660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4D0BA3E-1842-4FA8-88D1-4F34BE7CB115}" type="slidenum">
              <a:t>10</a:t>
            </a:fld>
          </a:p>
        </p:txBody>
      </p:sp>
      <p:sp>
        <p:nvSpPr>
          <p:cNvPr id="6" name="PlaceHolder 5"/>
          <p:cNvSpPr>
            <a:spLocks noGrp="1"/>
          </p:cNvSpPr>
          <p:nvPr>
            <p:ph type="dt" idx="1"/>
          </p:nvPr>
        </p:nvSpPr>
        <p:spPr/>
        <p:txBody>
          <a:bodyPr/>
          <a:p>
            <a:fld id="{E377CBF5-A198-4B84-AE95-5695D341D391}" type="datetime1">
              <a:rPr lang="en-US"/>
              <a:t>07/30/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D82580D-4503-4423-A680-B43D990764D5}" type="slidenum">
              <a:t>11</a:t>
            </a:fld>
          </a:p>
        </p:txBody>
      </p:sp>
      <p:sp>
        <p:nvSpPr>
          <p:cNvPr id="6" name="PlaceHolder 5"/>
          <p:cNvSpPr>
            <a:spLocks noGrp="1"/>
          </p:cNvSpPr>
          <p:nvPr>
            <p:ph type="dt" idx="1"/>
          </p:nvPr>
        </p:nvSpPr>
        <p:spPr/>
        <p:txBody>
          <a:bodyPr/>
          <a:p>
            <a:fld id="{1EAC0348-250A-496D-A93D-4E0028537735}" type="datetime1">
              <a:rPr lang="en-US"/>
              <a:t>07/30/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7B109A4-8B2A-4DFC-8F76-3AECF41E8F2E}" type="slidenum">
              <a:t>12</a:t>
            </a:fld>
          </a:p>
        </p:txBody>
      </p:sp>
      <p:sp>
        <p:nvSpPr>
          <p:cNvPr id="5" name="PlaceHolder 4"/>
          <p:cNvSpPr>
            <a:spLocks noGrp="1"/>
          </p:cNvSpPr>
          <p:nvPr>
            <p:ph type="dt" idx="1"/>
          </p:nvPr>
        </p:nvSpPr>
        <p:spPr/>
        <p:txBody>
          <a:bodyPr/>
          <a:p>
            <a:fld id="{08AF95A1-533F-478B-B1E1-C07BB3703789}" type="datetime1">
              <a:rPr lang="en-US"/>
              <a:t>07/30/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F0A0096-E84A-44D7-9E1C-8317469678C8}" type="slidenum">
              <a:t>13</a:t>
            </a:fld>
          </a:p>
        </p:txBody>
      </p:sp>
      <p:sp>
        <p:nvSpPr>
          <p:cNvPr id="5" name="PlaceHolder 4"/>
          <p:cNvSpPr>
            <a:spLocks noGrp="1"/>
          </p:cNvSpPr>
          <p:nvPr>
            <p:ph type="dt" idx="1"/>
          </p:nvPr>
        </p:nvSpPr>
        <p:spPr/>
        <p:txBody>
          <a:bodyPr/>
          <a:p>
            <a:fld id="{46A553C4-57AD-41D5-9ABA-766C83030836}" type="datetime1">
              <a:rPr lang="en-US"/>
              <a:t>07/30/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234C535-4522-47DD-84D3-56AB0822DF16}" type="slidenum">
              <a:t>14</a:t>
            </a:fld>
          </a:p>
        </p:txBody>
      </p:sp>
      <p:sp>
        <p:nvSpPr>
          <p:cNvPr id="5" name="PlaceHolder 4"/>
          <p:cNvSpPr>
            <a:spLocks noGrp="1"/>
          </p:cNvSpPr>
          <p:nvPr>
            <p:ph type="dt" idx="1"/>
          </p:nvPr>
        </p:nvSpPr>
        <p:spPr/>
        <p:txBody>
          <a:bodyPr/>
          <a:p>
            <a:fld id="{39A27747-64EF-44B7-BEFA-64B87CA95487}" type="datetime1">
              <a:rPr lang="en-US"/>
              <a:t>07/3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72CF7F7-B61B-42D0-8644-0E2CA022EFB3}" type="slidenum">
              <a:t>15</a:t>
            </a:fld>
          </a:p>
        </p:txBody>
      </p:sp>
      <p:sp>
        <p:nvSpPr>
          <p:cNvPr id="6" name="PlaceHolder 5"/>
          <p:cNvSpPr>
            <a:spLocks noGrp="1"/>
          </p:cNvSpPr>
          <p:nvPr>
            <p:ph type="dt" idx="1"/>
          </p:nvPr>
        </p:nvSpPr>
        <p:spPr/>
        <p:txBody>
          <a:bodyPr/>
          <a:p>
            <a:fld id="{F974FC17-978A-4299-A86B-133D09CA0DD4}" type="datetime1">
              <a:rPr lang="en-US"/>
              <a:t>07/3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066D3AD-1F8D-4B71-BCE0-944B2EE408EC}" type="slidenum">
              <a:t>16</a:t>
            </a:fld>
          </a:p>
        </p:txBody>
      </p:sp>
      <p:sp>
        <p:nvSpPr>
          <p:cNvPr id="5" name="PlaceHolder 4"/>
          <p:cNvSpPr>
            <a:spLocks noGrp="1"/>
          </p:cNvSpPr>
          <p:nvPr>
            <p:ph type="dt" idx="1"/>
          </p:nvPr>
        </p:nvSpPr>
        <p:spPr/>
        <p:txBody>
          <a:bodyPr/>
          <a:p>
            <a:fld id="{491264BB-7B58-4A8C-9720-DABA30ECBDC3}" type="datetime1">
              <a:rPr lang="en-US"/>
              <a:t>07/30/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9CC1914-7E99-446F-9507-17A6A97421C8}" type="slidenum">
              <a:t>17</a:t>
            </a:fld>
          </a:p>
        </p:txBody>
      </p:sp>
      <p:sp>
        <p:nvSpPr>
          <p:cNvPr id="5" name="PlaceHolder 4"/>
          <p:cNvSpPr>
            <a:spLocks noGrp="1"/>
          </p:cNvSpPr>
          <p:nvPr>
            <p:ph type="dt" idx="1"/>
          </p:nvPr>
        </p:nvSpPr>
        <p:spPr/>
        <p:txBody>
          <a:bodyPr/>
          <a:p>
            <a:fld id="{9B500975-84E4-417C-97A1-C7D5F5FC2B72}" type="datetime1">
              <a:rPr lang="en-US"/>
              <a:t>07/30/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029F6CE-9D5E-4F7C-82A9-D338D2200167}" type="slidenum">
              <a:t>18</a:t>
            </a:fld>
          </a:p>
        </p:txBody>
      </p:sp>
      <p:sp>
        <p:nvSpPr>
          <p:cNvPr id="5" name="PlaceHolder 4"/>
          <p:cNvSpPr>
            <a:spLocks noGrp="1"/>
          </p:cNvSpPr>
          <p:nvPr>
            <p:ph type="dt" idx="1"/>
          </p:nvPr>
        </p:nvSpPr>
        <p:spPr/>
        <p:txBody>
          <a:bodyPr/>
          <a:p>
            <a:fld id="{B98DE1B3-7772-44B8-AF6E-E9B9019479F5}" type="datetime1">
              <a:rPr lang="en-US"/>
              <a:t>07/3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504736F-86FD-4B5B-BD4B-4C51D417F320}" type="slidenum">
              <a:t>19</a:t>
            </a:fld>
          </a:p>
        </p:txBody>
      </p:sp>
      <p:sp>
        <p:nvSpPr>
          <p:cNvPr id="6" name="PlaceHolder 5"/>
          <p:cNvSpPr>
            <a:spLocks noGrp="1"/>
          </p:cNvSpPr>
          <p:nvPr>
            <p:ph type="dt" idx="1"/>
          </p:nvPr>
        </p:nvSpPr>
        <p:spPr/>
        <p:txBody>
          <a:bodyPr/>
          <a:p>
            <a:fld id="{98B25389-4B53-4E6D-87A6-B1668AE5B7A9}" type="datetime1">
              <a:rPr lang="en-US"/>
              <a:t>07/3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3C60D0F-A7F5-40F8-9BE8-DB7E54098326}" type="slidenum">
              <a:t>2</a:t>
            </a:fld>
          </a:p>
        </p:txBody>
      </p:sp>
      <p:sp>
        <p:nvSpPr>
          <p:cNvPr id="6" name="PlaceHolder 5"/>
          <p:cNvSpPr>
            <a:spLocks noGrp="1"/>
          </p:cNvSpPr>
          <p:nvPr>
            <p:ph type="dt" idx="1"/>
          </p:nvPr>
        </p:nvSpPr>
        <p:spPr/>
        <p:txBody>
          <a:bodyPr/>
          <a:p>
            <a:fld id="{3558EB31-5776-47F4-A5C3-576AA6D6AC28}" type="datetime1">
              <a:rPr lang="en-US"/>
              <a:t>07/30/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A0CBC27-E163-43FD-BF38-B06A80944DB0}" type="slidenum">
              <a:t>3</a:t>
            </a:fld>
          </a:p>
        </p:txBody>
      </p:sp>
      <p:sp>
        <p:nvSpPr>
          <p:cNvPr id="5" name="PlaceHolder 4"/>
          <p:cNvSpPr>
            <a:spLocks noGrp="1"/>
          </p:cNvSpPr>
          <p:nvPr>
            <p:ph type="dt" idx="1"/>
          </p:nvPr>
        </p:nvSpPr>
        <p:spPr/>
        <p:txBody>
          <a:bodyPr/>
          <a:p>
            <a:fld id="{E2C9602B-063F-49F9-892E-EE217A78B3D8}" type="datetime1">
              <a:rPr lang="en-US"/>
              <a:t>07/30/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3B49FCC-6527-4421-B0B0-27D0D73187ED}" type="slidenum">
              <a:t>4</a:t>
            </a:fld>
          </a:p>
        </p:txBody>
      </p:sp>
      <p:sp>
        <p:nvSpPr>
          <p:cNvPr id="6" name="PlaceHolder 5"/>
          <p:cNvSpPr>
            <a:spLocks noGrp="1"/>
          </p:cNvSpPr>
          <p:nvPr>
            <p:ph type="dt" idx="1"/>
          </p:nvPr>
        </p:nvSpPr>
        <p:spPr/>
        <p:txBody>
          <a:bodyPr/>
          <a:p>
            <a:fld id="{E0BC7657-3EF7-4FEE-AE13-445774CC542E}" type="datetime1">
              <a:rPr lang="en-US"/>
              <a:t>07/3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692E4CE-D1C6-4A82-B669-DA1569000B36}" type="slidenum">
              <a:t>5</a:t>
            </a:fld>
          </a:p>
        </p:txBody>
      </p:sp>
      <p:sp>
        <p:nvSpPr>
          <p:cNvPr id="6" name="PlaceHolder 5"/>
          <p:cNvSpPr>
            <a:spLocks noGrp="1"/>
          </p:cNvSpPr>
          <p:nvPr>
            <p:ph type="dt" idx="1"/>
          </p:nvPr>
        </p:nvSpPr>
        <p:spPr/>
        <p:txBody>
          <a:bodyPr/>
          <a:p>
            <a:fld id="{09F0788E-5D33-45EA-94FD-1F8B3CE0916C}" type="datetime1">
              <a:rPr lang="en-US"/>
              <a:t>07/30/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E534485-5FDA-45B7-8B70-FB9FF68343B5}" type="slidenum">
              <a:t>6</a:t>
            </a:fld>
          </a:p>
        </p:txBody>
      </p:sp>
      <p:sp>
        <p:nvSpPr>
          <p:cNvPr id="6" name="PlaceHolder 5"/>
          <p:cNvSpPr>
            <a:spLocks noGrp="1"/>
          </p:cNvSpPr>
          <p:nvPr>
            <p:ph type="dt" idx="1"/>
          </p:nvPr>
        </p:nvSpPr>
        <p:spPr/>
        <p:txBody>
          <a:bodyPr/>
          <a:p>
            <a:fld id="{995173F2-8D6B-40B1-A04C-672EC88091E4}" type="datetime1">
              <a:rPr lang="en-US"/>
              <a:t>07/30/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AAD6C94-02A0-4E6D-947A-472076A27469}" type="slidenum">
              <a:t>7</a:t>
            </a:fld>
          </a:p>
        </p:txBody>
      </p:sp>
      <p:sp>
        <p:nvSpPr>
          <p:cNvPr id="5" name="PlaceHolder 4"/>
          <p:cNvSpPr>
            <a:spLocks noGrp="1"/>
          </p:cNvSpPr>
          <p:nvPr>
            <p:ph type="dt" idx="1"/>
          </p:nvPr>
        </p:nvSpPr>
        <p:spPr/>
        <p:txBody>
          <a:bodyPr/>
          <a:p>
            <a:fld id="{085D7656-AE0F-41E2-BA60-B68DED485EA5}" type="datetime1">
              <a:rPr lang="en-US"/>
              <a:t>07/30/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200947C-A2C5-47A9-B0D5-592654EC6C66}" type="slidenum">
              <a:t>8</a:t>
            </a:fld>
          </a:p>
        </p:txBody>
      </p:sp>
      <p:sp>
        <p:nvSpPr>
          <p:cNvPr id="5" name="PlaceHolder 4"/>
          <p:cNvSpPr>
            <a:spLocks noGrp="1"/>
          </p:cNvSpPr>
          <p:nvPr>
            <p:ph type="dt" idx="1"/>
          </p:nvPr>
        </p:nvSpPr>
        <p:spPr/>
        <p:txBody>
          <a:bodyPr/>
          <a:p>
            <a:fld id="{7CF2EAA0-CD69-4A17-A82B-C46B1573499C}" type="datetime1">
              <a:rPr lang="en-US"/>
              <a:t>07/30/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B32F35A-10DE-4351-A107-962E8A1C21BD}" type="slidenum">
              <a:t>9</a:t>
            </a:fld>
          </a:p>
        </p:txBody>
      </p:sp>
      <p:sp>
        <p:nvSpPr>
          <p:cNvPr id="6" name="PlaceHolder 5"/>
          <p:cNvSpPr>
            <a:spLocks noGrp="1"/>
          </p:cNvSpPr>
          <p:nvPr>
            <p:ph type="dt" idx="1"/>
          </p:nvPr>
        </p:nvSpPr>
        <p:spPr/>
        <p:txBody>
          <a:bodyPr/>
          <a:p>
            <a:fld id="{9BDFA4E7-5C56-47D6-9120-D4D63B708D14}" type="datetime1">
              <a:rPr lang="en-US"/>
              <a:t>07/30/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