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AFFEF7-A6BF-461B-82A5-EDDCB03E71B6}"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B848A-C41D-4BD3-8F6B-561AA3E61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1C6B8-2541-4B29-8E97-22A8A9220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39B4A-F3BE-4C91-BA18-8EE9999D4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DEB4B-A0DE-4FF5-801F-8303ED57D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CA788-BB28-4861-9B15-8C005FA5E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2CC04-7F56-49F7-B1A4-CC7775956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665DC-D803-4DCD-A163-5B59FA7FB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E4F15-1374-4B1B-B684-7ACA9BC86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277D5-16B2-4479-BDC4-C71B62CF3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2B3B7-A5AE-4448-9B20-9851A4D6C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95F6D-82FE-4736-AE39-AA3BCF639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773D2-D13E-4D70-950D-CCA305AB8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F3F79-1E2E-4AFF-8948-8603DB016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18704-3F7C-46AA-8C36-7602B1FC9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69EC1-0AA9-4BD4-8B3C-6099CFA80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57AF6-A202-4DF4-A443-DEF0AA01B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3C18C-7F5E-4E88-9373-F3C0B5499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F6F8D-CECF-4F29-BFC5-6CD1CAE5F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E93A5-ACF1-41D3-9AFC-E1B0EABF1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FA4D0-D06F-4EA0-95C5-E05514D8F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5309F-2B96-40C0-BA5E-7BCBE5EBF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95B3A-A884-40B0-B538-94169A6BE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3D646-EE54-4E44-BCF3-914BD47C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757FB-C59F-480B-B110-1ABB34455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56D4-9F0D-4275-B729-B8B7EF81D5A7}"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4FB2-0085-4B70-9D27-B153D7E6B6AB}"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DF09-D0AE-402C-8E5D-8C014E882C09}"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F905-202D-4955-8C19-B2224C6E38CA}"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291F095-C65D-4443-A053-6EB2470AA166}" type="slidenum">
              <a:t>10</a:t>
            </a:fld>
          </a:p>
        </p:txBody>
      </p:sp>
      <p:sp>
        <p:nvSpPr>
          <p:cNvPr id="5" name="PlaceHolder 4"/>
          <p:cNvSpPr>
            <a:spLocks noGrp="1"/>
          </p:cNvSpPr>
          <p:nvPr>
            <p:ph type="dt" idx="1"/>
          </p:nvPr>
        </p:nvSpPr>
        <p:spPr/>
        <p:txBody>
          <a:bodyPr/>
          <a:p>
            <a:fld id="{6284FE1B-6A60-4A64-A3D1-D0755789E735}" type="datetime1">
              <a:rPr lang="en-US"/>
              <a:t>07/31/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1BB820F-3813-472F-BD92-401416D49F2C}" type="slidenum">
              <a:t>11</a:t>
            </a:fld>
          </a:p>
        </p:txBody>
      </p:sp>
      <p:sp>
        <p:nvSpPr>
          <p:cNvPr id="6" name="PlaceHolder 5"/>
          <p:cNvSpPr>
            <a:spLocks noGrp="1"/>
          </p:cNvSpPr>
          <p:nvPr>
            <p:ph type="dt" idx="1"/>
          </p:nvPr>
        </p:nvSpPr>
        <p:spPr/>
        <p:txBody>
          <a:bodyPr/>
          <a:p>
            <a:fld id="{DB405F3A-8655-4B01-BB7F-5CE4EB01A4C0}" type="datetime1">
              <a:rPr lang="en-US"/>
              <a:t>07/31/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AB62606-E318-4386-BCC7-8E7C6108D4D9}" type="slidenum">
              <a:t>12</a:t>
            </a:fld>
          </a:p>
        </p:txBody>
      </p:sp>
      <p:sp>
        <p:nvSpPr>
          <p:cNvPr id="6" name="PlaceHolder 5"/>
          <p:cNvSpPr>
            <a:spLocks noGrp="1"/>
          </p:cNvSpPr>
          <p:nvPr>
            <p:ph type="dt" idx="1"/>
          </p:nvPr>
        </p:nvSpPr>
        <p:spPr/>
        <p:txBody>
          <a:bodyPr/>
          <a:p>
            <a:fld id="{47A2934A-1535-4B97-BF15-A0E254ABB103}"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1CBE726-9115-4C11-8CC5-EA61B927EB75}" type="slidenum">
              <a:t>13</a:t>
            </a:fld>
          </a:p>
        </p:txBody>
      </p:sp>
      <p:sp>
        <p:nvSpPr>
          <p:cNvPr id="6" name="PlaceHolder 5"/>
          <p:cNvSpPr>
            <a:spLocks noGrp="1"/>
          </p:cNvSpPr>
          <p:nvPr>
            <p:ph type="dt" idx="1"/>
          </p:nvPr>
        </p:nvSpPr>
        <p:spPr/>
        <p:txBody>
          <a:bodyPr/>
          <a:p>
            <a:fld id="{C126B44E-CDE8-420B-92BC-73DE25D126D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46755DB-7C51-4821-86AA-00C92B2E7493}" type="slidenum">
              <a:t>14</a:t>
            </a:fld>
          </a:p>
        </p:txBody>
      </p:sp>
      <p:sp>
        <p:nvSpPr>
          <p:cNvPr id="6" name="PlaceHolder 5"/>
          <p:cNvSpPr>
            <a:spLocks noGrp="1"/>
          </p:cNvSpPr>
          <p:nvPr>
            <p:ph type="dt" idx="1"/>
          </p:nvPr>
        </p:nvSpPr>
        <p:spPr/>
        <p:txBody>
          <a:bodyPr/>
          <a:p>
            <a:fld id="{95B7EA52-487E-45B8-B926-F819FF21E61B}"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6FB6752-79DA-46B9-9235-ED053CAA1493}" type="slidenum">
              <a:t>15</a:t>
            </a:fld>
          </a:p>
        </p:txBody>
      </p:sp>
      <p:sp>
        <p:nvSpPr>
          <p:cNvPr id="6" name="PlaceHolder 5"/>
          <p:cNvSpPr>
            <a:spLocks noGrp="1"/>
          </p:cNvSpPr>
          <p:nvPr>
            <p:ph type="dt" idx="1"/>
          </p:nvPr>
        </p:nvSpPr>
        <p:spPr/>
        <p:txBody>
          <a:bodyPr/>
          <a:p>
            <a:fld id="{9FB8899E-F935-4A3F-BA8A-8C0EB7FDB6A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96A2804-929A-466C-B26A-A5E7578C7AF3}" type="slidenum">
              <a:t>2</a:t>
            </a:fld>
          </a:p>
        </p:txBody>
      </p:sp>
      <p:sp>
        <p:nvSpPr>
          <p:cNvPr id="6" name="PlaceHolder 5"/>
          <p:cNvSpPr>
            <a:spLocks noGrp="1"/>
          </p:cNvSpPr>
          <p:nvPr>
            <p:ph type="dt" idx="1"/>
          </p:nvPr>
        </p:nvSpPr>
        <p:spPr/>
        <p:txBody>
          <a:bodyPr/>
          <a:p>
            <a:fld id="{DFF2E118-4CC1-40B7-9890-610C9BD98A4A}" type="datetime1">
              <a:rPr lang="en-US"/>
              <a:t>07/31/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8D32E53-3B87-4C05-BCD2-A9BC1EBF7614}" type="slidenum">
              <a:t>3</a:t>
            </a:fld>
          </a:p>
        </p:txBody>
      </p:sp>
      <p:sp>
        <p:nvSpPr>
          <p:cNvPr id="6" name="PlaceHolder 5"/>
          <p:cNvSpPr>
            <a:spLocks noGrp="1"/>
          </p:cNvSpPr>
          <p:nvPr>
            <p:ph type="dt" idx="1"/>
          </p:nvPr>
        </p:nvSpPr>
        <p:spPr/>
        <p:txBody>
          <a:bodyPr/>
          <a:p>
            <a:fld id="{8C0CE834-8E8E-44D7-89BA-C87856607847}" type="datetime1">
              <a:rPr lang="en-US"/>
              <a:t>07/31/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F4AB8A3-0A47-41B7-A71E-171A5E6066B7}" type="slidenum">
              <a:t>4</a:t>
            </a:fld>
          </a:p>
        </p:txBody>
      </p:sp>
      <p:sp>
        <p:nvSpPr>
          <p:cNvPr id="6" name="PlaceHolder 5"/>
          <p:cNvSpPr>
            <a:spLocks noGrp="1"/>
          </p:cNvSpPr>
          <p:nvPr>
            <p:ph type="dt" idx="1"/>
          </p:nvPr>
        </p:nvSpPr>
        <p:spPr/>
        <p:txBody>
          <a:bodyPr/>
          <a:p>
            <a:fld id="{AFA444FA-272F-4535-A3C3-2A077C1FF589}" type="datetime1">
              <a:rPr lang="en-US"/>
              <a:t>07/31/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5C352CF-5274-4D5F-8BE0-77F0922E9856}" type="slidenum">
              <a:t>5</a:t>
            </a:fld>
          </a:p>
        </p:txBody>
      </p:sp>
      <p:sp>
        <p:nvSpPr>
          <p:cNvPr id="5" name="PlaceHolder 4"/>
          <p:cNvSpPr>
            <a:spLocks noGrp="1"/>
          </p:cNvSpPr>
          <p:nvPr>
            <p:ph type="dt" idx="1"/>
          </p:nvPr>
        </p:nvSpPr>
        <p:spPr/>
        <p:txBody>
          <a:bodyPr/>
          <a:p>
            <a:fld id="{698CE24D-ABA4-4997-AD22-6DC72C8A08E3}" type="datetime1">
              <a:rPr lang="en-US"/>
              <a:t>07/31/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52A2903-F0A5-4656-B7B1-48C5B1475E1B}" type="slidenum">
              <a:t>6</a:t>
            </a:fld>
          </a:p>
        </p:txBody>
      </p:sp>
      <p:sp>
        <p:nvSpPr>
          <p:cNvPr id="5" name="PlaceHolder 4"/>
          <p:cNvSpPr>
            <a:spLocks noGrp="1"/>
          </p:cNvSpPr>
          <p:nvPr>
            <p:ph type="dt" idx="1"/>
          </p:nvPr>
        </p:nvSpPr>
        <p:spPr/>
        <p:txBody>
          <a:bodyPr/>
          <a:p>
            <a:fld id="{59A55431-BBC8-4B5D-A3F3-3F8F56E6D2EE}" type="datetime1">
              <a:rPr lang="en-US"/>
              <a:t>07/31/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6296070-F5B8-4499-956B-BFDADD218F6E}" type="slidenum">
              <a:t>7</a:t>
            </a:fld>
          </a:p>
        </p:txBody>
      </p:sp>
      <p:sp>
        <p:nvSpPr>
          <p:cNvPr id="6" name="PlaceHolder 5"/>
          <p:cNvSpPr>
            <a:spLocks noGrp="1"/>
          </p:cNvSpPr>
          <p:nvPr>
            <p:ph type="dt" idx="1"/>
          </p:nvPr>
        </p:nvSpPr>
        <p:spPr/>
        <p:txBody>
          <a:bodyPr/>
          <a:p>
            <a:fld id="{035B4B4F-3DF4-4DEE-A17F-1C3AD677ED92}" type="datetime1">
              <a:rPr lang="en-US"/>
              <a:t>07/31/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753D6FD-76A7-49EF-B4F8-6D557B997F27}" type="slidenum">
              <a:t>8</a:t>
            </a:fld>
          </a:p>
        </p:txBody>
      </p:sp>
      <p:sp>
        <p:nvSpPr>
          <p:cNvPr id="6" name="PlaceHolder 5"/>
          <p:cNvSpPr>
            <a:spLocks noGrp="1"/>
          </p:cNvSpPr>
          <p:nvPr>
            <p:ph type="dt" idx="1"/>
          </p:nvPr>
        </p:nvSpPr>
        <p:spPr/>
        <p:txBody>
          <a:bodyPr/>
          <a:p>
            <a:fld id="{E6B7E589-6C02-472C-A573-8320580C2746}" type="datetime1">
              <a:rPr lang="en-US"/>
              <a:t>07/31/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D7FAC99-4881-4294-B48C-D8308748C653}" type="slidenum">
              <a:t>9</a:t>
            </a:fld>
          </a:p>
        </p:txBody>
      </p:sp>
      <p:sp>
        <p:nvSpPr>
          <p:cNvPr id="5" name="PlaceHolder 4"/>
          <p:cNvSpPr>
            <a:spLocks noGrp="1"/>
          </p:cNvSpPr>
          <p:nvPr>
            <p:ph type="dt" idx="1"/>
          </p:nvPr>
        </p:nvSpPr>
        <p:spPr/>
        <p:txBody>
          <a:bodyPr/>
          <a:p>
            <a:fld id="{9067A2C3-BBEE-44A0-BEBF-0A7C78A1495D}" type="datetime1">
              <a:rPr lang="en-US"/>
              <a:t>07/31/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