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36A03-E484-4762-95BA-229D601A6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D7AD0-C9B5-4BBC-8798-31493A38D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A3774-A8E9-401B-B1C8-8E8B89E58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AEC9D-A19C-4F24-ADB1-A375A30E4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DC27C4B-2900-494A-9AF1-3D7673DA9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550D962-D51A-418E-8E17-9841D93C4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F56934-C612-43EA-B132-44C75BC74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18C4455-B7AD-4837-870C-0D4A240FB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C27FB87-8B41-402D-B0C4-838F38F97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2B902EA-0A73-4E97-8561-B32DE9868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794A1B-B813-4EB4-A40B-CF4440B1A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BB7EE-0E38-45FE-B40B-7F809FC54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2B3018-06B7-4F04-8E96-2FC35C6A0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3FE4E7-1B03-41CB-A533-3D56927AD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9C4C1F1-3ED6-4391-8370-0E348441D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947849E-37FC-440A-9A36-45BD34B85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A26FA3B-0AB1-4DA9-B932-5FA3568EF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DE9E2-1EC8-4128-A41C-9311D52E8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09D71-51F0-4749-95AA-DAB1314C3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43AE7-CC99-498D-82C3-D7A37C2A9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80972-AD8C-4FA8-A374-0944F26B5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7376B-BBAF-4029-95E7-7B3AFDC22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CF268-A99D-44AA-82E6-D55C9DB1E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8A982-E69E-4FEE-97F1-B5BACE843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9582-3E3B-4D04-9328-B72F11C0D416}"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BB60-958C-4807-9072-08C9EC0F5015}"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447920"/>
            <a:ext cx="64008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e3e3ff"/>
              </a:solidFill>
              <a:latin typeface="Arial"/>
            </a:endParaRPr>
          </a:p>
        </p:txBody>
      </p:sp>
      <p:sp>
        <p:nvSpPr>
          <p:cNvPr id="123"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3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9</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زايا العاملين</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حالة تطبيقية</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تعلق المعلومات التالية بموقف نظم المزايا المحددة لشركة الممتاز عن عام </a:t>
            </a:r>
            <a:r>
              <a:rPr b="0" lang="ar-EG" sz="2800" spc="-1" strike="noStrike">
                <a:solidFill>
                  <a:srgbClr val="ffffff"/>
                </a:solidFill>
                <a:latin typeface="Arial"/>
              </a:rPr>
              <a:t>2200</a:t>
            </a:r>
            <a:r>
              <a:rPr b="0" lang="ar-EG" sz="2800" spc="-1" strike="noStrike">
                <a:solidFill>
                  <a:srgbClr val="ffffff"/>
                </a:solidFill>
                <a:latin typeface="Arial"/>
              </a:rPr>
              <a:t> ، فما تكلفة الخطة عن ذلك العام؟ </a:t>
            </a:r>
            <a:endParaRPr b="0" lang="en-US" sz="2800" spc="-1" strike="noStrike">
              <a:solidFill>
                <a:srgbClr val="ffffff"/>
              </a:solidFill>
              <a:latin typeface="Arial"/>
            </a:endParaRPr>
          </a:p>
        </p:txBody>
      </p:sp>
      <p:graphicFrame>
        <p:nvGraphicFramePr>
          <p:cNvPr id="142" name=""/>
          <p:cNvGraphicFramePr/>
          <p:nvPr/>
        </p:nvGraphicFramePr>
        <p:xfrm>
          <a:off x="457200" y="2590920"/>
          <a:ext cx="8229600" cy="3622680"/>
        </p:xfrm>
        <a:graphic>
          <a:graphicData uri="http://schemas.openxmlformats.org/drawingml/2006/table">
            <a:tbl>
              <a:tblPr/>
              <a:tblGrid>
                <a:gridCol w="2895480"/>
                <a:gridCol w="53341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حل</a:t>
            </a:r>
            <a:endParaRPr b="0" lang="en-US" sz="4400" spc="-1" strike="noStrike">
              <a:solidFill>
                <a:srgbClr val="e3e3ff"/>
              </a:solidFill>
              <a:latin typeface="Arial"/>
            </a:endParaRPr>
          </a:p>
        </p:txBody>
      </p:sp>
      <p:graphicFrame>
        <p:nvGraphicFramePr>
          <p:cNvPr id="144" name=""/>
          <p:cNvGraphicFramePr/>
          <p:nvPr/>
        </p:nvGraphicFramePr>
        <p:xfrm>
          <a:off x="457200" y="1600200"/>
          <a:ext cx="8229600" cy="4495680"/>
        </p:xfrm>
        <a:graphic>
          <a:graphicData uri="http://schemas.openxmlformats.org/drawingml/2006/table">
            <a:tbl>
              <a:tblPr/>
              <a:tblGrid>
                <a:gridCol w="2057400"/>
                <a:gridCol w="61722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a:t>
                      </a: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ي تكلفة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762120" y="762120"/>
            <a:ext cx="76960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 هى مزايا العامل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ى كافة أشكال المقابل الذى تعطيه المنشأة مقابل الخدمة التى يقدمها العاملو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a:off x="685800" y="2590920"/>
            <a:ext cx="81532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هدف المعيا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يهدف المعيار إلى </a:t>
            </a:r>
            <a:r>
              <a:rPr b="0" lang="ar-SA" sz="2400" spc="-1" strike="noStrike">
                <a:solidFill>
                  <a:srgbClr val="ffffff"/>
                </a:solidFill>
                <a:latin typeface="Arial"/>
              </a:rPr>
              <a:t>تحديد المحاسبة و الإفصاح بشأن مزايا العاملين ، ويتطلب المعيار أن تقوم المنِشأة بالاعتراف بأى التزام عند قيام عامل بتقديم خدمة لها مقابل مزايا العاملين التى ستقوم بسدادها لهم </a:t>
            </a:r>
            <a:r>
              <a:rPr b="1" i="1" lang="ar-SA" sz="2400" spc="-1" strike="noStrike" u="sng">
                <a:solidFill>
                  <a:srgbClr val="ffffff"/>
                </a:solidFill>
                <a:uFillTx/>
                <a:latin typeface="Arial"/>
              </a:rPr>
              <a:t>فى المستقبل</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487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واع</a:t>
            </a:r>
            <a:r>
              <a:rPr b="1" lang="ar-SA" sz="2400" spc="-1" strike="noStrike" u="sng">
                <a:solidFill>
                  <a:srgbClr val="ffff00"/>
                </a:solidFill>
                <a:uFillTx/>
                <a:latin typeface="Arial"/>
              </a:rPr>
              <a:t> مزايا العاملين :</a:t>
            </a:r>
            <a:endParaRPr b="0" lang="en-US" sz="2400" spc="-1" strike="noStrike">
              <a:solidFill>
                <a:srgbClr val="e3e3ff"/>
              </a:solidFill>
              <a:latin typeface="Arial"/>
            </a:endParaRPr>
          </a:p>
        </p:txBody>
      </p:sp>
      <p:sp>
        <p:nvSpPr>
          <p:cNvPr id="127" name=""/>
          <p:cNvSpPr/>
          <p:nvPr/>
        </p:nvSpPr>
        <p:spPr>
          <a:xfrm>
            <a:off x="304920" y="1066680"/>
            <a:ext cx="8458200" cy="57859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قصيرة الأجل</a:t>
            </a:r>
            <a:r>
              <a:rPr b="0" lang="ar-SA" sz="2400" spc="-1" strike="noStrike">
                <a:solidFill>
                  <a:srgbClr val="ffffff"/>
                </a:solidFill>
                <a:latin typeface="Arial"/>
              </a:rPr>
              <a:t> مثل الأجور و المرتبات و اشتراكات التأمينات الاجتماعية   و الإجازات السنوية المدفوعة و المكافآت ( إذا استحقت خلال </a:t>
            </a:r>
            <a:r>
              <a:rPr b="0" lang="ar-SA" sz="2400" spc="-1" strike="noStrike">
                <a:solidFill>
                  <a:srgbClr val="ffffff"/>
                </a:solidFill>
                <a:latin typeface="Arial"/>
              </a:rPr>
              <a:t>12</a:t>
            </a:r>
            <a:r>
              <a:rPr b="0" lang="ar-SA" sz="2400" spc="-1" strike="noStrike">
                <a:solidFill>
                  <a:srgbClr val="ffffff"/>
                </a:solidFill>
                <a:latin typeface="Arial"/>
              </a:rPr>
              <a:t> شهراً من نهاية الفترة ) و المزايا غير النقدية ( مثل الرعاية الطبية و الإسكان  و الانتقال أو البضائع و الخدمات المجانية أو المدعومة ) للعاملين الحاليين.</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ما بعد انتهاء الخدمة</a:t>
            </a:r>
            <a:r>
              <a:rPr b="0" lang="ar-SA" sz="2400" spc="-1" strike="noStrike">
                <a:solidFill>
                  <a:srgbClr val="ffffff"/>
                </a:solidFill>
                <a:latin typeface="Arial"/>
              </a:rPr>
              <a:t> مثل معاشات التقاعد و مزايا التقاعد الأخرى و التأمين على الحياة لما بعد انتهاء الخدمة و الرعاية الطبية لما بعد انتهاء الخدم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الأخرى طويلة الأجل</a:t>
            </a:r>
            <a:r>
              <a:rPr b="0" lang="ar-SA" sz="2400" spc="-1" strike="noStrike">
                <a:solidFill>
                  <a:srgbClr val="ffffff"/>
                </a:solidFill>
                <a:latin typeface="Arial"/>
              </a:rPr>
              <a:t> بما فى ذلك إجازة الخدمة الطويلة أو إجازة التفرغ للبحث أو الاحتفال بالمناسبات أو مزايا الخدمة الطويلة الأخرى و مزايا العجز طويلة الأجل بالإضافة إلى المكافآت و التعويضات المؤجلة إذا كانت مستحقة خلال </a:t>
            </a:r>
            <a:r>
              <a:rPr b="0" lang="ar-SA" sz="2400" spc="-1" strike="noStrike">
                <a:solidFill>
                  <a:srgbClr val="ffffff"/>
                </a:solidFill>
                <a:latin typeface="Arial"/>
              </a:rPr>
              <a:t>12</a:t>
            </a:r>
            <a:r>
              <a:rPr b="0" lang="ar-SA" sz="2400" spc="-1" strike="noStrike">
                <a:solidFill>
                  <a:srgbClr val="ffffff"/>
                </a:solidFill>
                <a:latin typeface="Arial"/>
              </a:rPr>
              <a:t>  شهراً أو أكثر بعد نـهـاية الفتـر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إنهاء الخدم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3000"/>
          </a:bodyPr>
          <a:p>
            <a:pPr marL="318960" indent="-318960" algn="r" rtl="1">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ظم المزايا المحددة</a:t>
            </a:r>
            <a:r>
              <a:rPr b="1" lang="ar-EG" sz="2800" spc="-1" strike="noStrike" u="sng">
                <a:solidFill>
                  <a:srgbClr val="ffffff"/>
                </a:solidFill>
                <a:uFillTx/>
                <a:latin typeface="Arial"/>
              </a:rPr>
              <a:t>:</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حدد المنشأة القيمة الحالية لإلتزامات المنافع المحددة والقيمة العادلة لأى أصول للنظام بإنتظام كاف </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جب إستخدام الطرق الإكتوارية عن المتغيرات السكانية (تغيرات العاملين والوفيات) والمتغيرات المالية (زيادة مستقبلية فى المرتبات وتغيرات فى المزاي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عترف بالفرق بين القيمة العادلة لأى من أصول النظام والمبلغ المحمل لإلتزام المزايا المحددة كإلتزام أو أصل عندما يكون مؤكد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غير مسموح بعمل مقاصة بين الأصول والإلتزامات لمختلف النظ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يجب الإعتراف بالبنود التالية كمصروف أو إيراد:</a:t>
            </a:r>
            <a:endParaRPr b="0" lang="en-US" sz="2400" spc="-1" strike="noStrike">
              <a:solidFill>
                <a:srgbClr val="e3e3ff"/>
              </a:solidFill>
              <a:latin typeface="Arial"/>
            </a:endParaRPr>
          </a:p>
        </p:txBody>
      </p:sp>
      <p:sp>
        <p:nvSpPr>
          <p:cNvPr id="13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صافى إجمالى تكلفة الخدمة الحالي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عائد المتوقع على أصول النظام</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مكاسب أو الخسائر الإكتوارية وتكلفة الخدمات السابقة وأثر اى تخفيضات للنظام أو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تكلفة الخدمة الماضية على أساس قسط ثابت على مدار متوسط الفترة حتى تصير المزايا المعدلة مستحق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المكاسب أو الخسائر على التخفيضات أو التسويات لنظام المزايا المحددة عندما تحدث التخفيضات أو ال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جزء محدد من صافى المكاسب أو الخسائر المتراكمة الإكتوارية التى تتجاوز القيمة الأكبر من:</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حالية لإلتزام المزايا المحددة (قبل خصم أصول النظام)   و </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عادلة لأى أصول النظا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العرض والإفصاح:</a:t>
            </a:r>
            <a:br>
              <a:rPr sz="2400"/>
            </a:br>
            <a:r>
              <a:rPr b="0" lang="ar-EG" sz="2400" spc="-1" strike="noStrike">
                <a:solidFill>
                  <a:srgbClr val="e3e3ff"/>
                </a:solidFill>
                <a:latin typeface="Arial"/>
              </a:rPr>
              <a:t>ينبغى بيان السياسات المحاسبية فيما يتعلق بالتالى:</a:t>
            </a:r>
            <a:endParaRPr b="0" lang="en-US" sz="2400" spc="-1" strike="noStrike">
              <a:solidFill>
                <a:srgbClr val="e3e3ff"/>
              </a:solidFill>
              <a:latin typeface="Arial"/>
            </a:endParaRPr>
          </a:p>
        </p:txBody>
      </p:sp>
      <p:sp>
        <p:nvSpPr>
          <p:cNvPr id="132" name="PlaceHolder 2"/>
          <p:cNvSpPr>
            <a:spLocks noGrp="1"/>
          </p:cNvSpPr>
          <p:nvPr>
            <p:ph/>
          </p:nvPr>
        </p:nvSpPr>
        <p:spPr>
          <a:xfrm>
            <a:off x="457200" y="1599840"/>
            <a:ext cx="8229600" cy="18162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مطبقة للإعتراف بمختلف أنواع مزايا العاملين</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خطط المزايا بعد التقاعد</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إكتوارية المستخدمة للتقييم.</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إفتراضات الإكتوارية الأساس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3e3ff"/>
                </a:solidFill>
                <a:uFillTx/>
                <a:latin typeface="Arial"/>
              </a:rPr>
              <a:t>نظم الاشتراك المحدد</a:t>
            </a:r>
            <a:endParaRPr b="0" lang="en-US" sz="2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حيث يقوم صاحب العمل بالمساهمة بمبلغ محدد فى نظام المعاشات كل سنة ويتحدد دخل العامل بعد التقاعد فى ضوء أداء المحفظة التى تم الإستثمار بها.</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كون تكلفة المعاشات السنوية على صاحب العمل هى المبلغ الذى يجب أن تسهم به الشركة سنويا وفقا لصيغة النطام، وعند قيام الشركة بسداد إشتراكها السنوى لايكون هناك إلتزام أخر خلال العام.</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a:t>
            </a:r>
            <a:r>
              <a:rPr b="0" lang="ar-SA" sz="2400" spc="-1" strike="noStrike">
                <a:solidFill>
                  <a:srgbClr val="ffffff"/>
                </a:solidFill>
                <a:latin typeface="Arial"/>
              </a:rPr>
              <a:t>تعتبر محاسبة نظم الاشتراك المحدد سهلة وواضحة لأن التزام المنشأة المعدة للتقارير يتم تحديده حسب المبالغ التى سيتم الاشتراك بها لتلك الفترة ، وتبعاً لذلك لا تتطلب افتراضات اكتوارية لقياس الالتزام أو المصروف و لا يوجد احتمال لأى ربح أو خسارة اكتوارية، علاوة على ذلك يتم قياس الالتزامات على أساس غير مخصم فيما عدا عندما لا تستحق بكاملها خلال </a:t>
            </a:r>
            <a:r>
              <a:rPr b="0" lang="ar-SA" sz="2400" spc="-1" strike="noStrike">
                <a:solidFill>
                  <a:srgbClr val="ffffff"/>
                </a:solidFill>
                <a:latin typeface="Arial"/>
              </a:rPr>
              <a:t>12</a:t>
            </a:r>
            <a:r>
              <a:rPr b="0" lang="ar-SA" sz="2400" spc="-1" strike="noStrike">
                <a:solidFill>
                  <a:srgbClr val="ffffff"/>
                </a:solidFill>
                <a:latin typeface="Arial"/>
              </a:rPr>
              <a:t>  شهراً بعد نهاية الفترة التى يقوم خلالها العاملون بتقديم خدماتهم .</a:t>
            </a:r>
            <a:endParaRPr b="0" lang="en-US" sz="2400" spc="-1" strike="noStrike">
              <a:solidFill>
                <a:srgbClr val="ffffff"/>
              </a:solidFill>
              <a:latin typeface="Arial"/>
            </a:endParaRPr>
          </a:p>
          <a:p>
            <a:pPr marL="3016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معايير قياس إلتزام المعاش المحدد:</a:t>
            </a:r>
            <a:endParaRPr b="0" lang="en-US" sz="2400" spc="-1" strike="noStrike">
              <a:solidFill>
                <a:srgbClr val="e3e3ff"/>
              </a:solidFill>
              <a:latin typeface="Arial"/>
            </a:endParaRPr>
          </a:p>
        </p:txBody>
      </p:sp>
      <p:sp>
        <p:nvSpPr>
          <p:cNvPr id="13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تراكمة (</a:t>
            </a:r>
            <a:r>
              <a:rPr b="0" lang="en-US" sz="2400" spc="-1" strike="noStrike">
                <a:solidFill>
                  <a:srgbClr val="ffffff"/>
                </a:solidFill>
                <a:latin typeface="Arial"/>
              </a:rPr>
              <a:t>Accumulated Benefit Obligation ABO</a:t>
            </a:r>
            <a:r>
              <a:rPr b="0" lang="ar-EG" sz="2400" spc="-1" strike="noStrike">
                <a:solidFill>
                  <a:srgbClr val="ffffff"/>
                </a:solidFill>
                <a:latin typeface="Arial"/>
              </a:rPr>
              <a:t>) القيمة الحالية لمزايا المعاش المكتسبة بناء على المرتبات الحالي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تقديرية (</a:t>
            </a:r>
            <a:r>
              <a:rPr b="0" lang="en-US" sz="2400" spc="-1" strike="noStrike">
                <a:solidFill>
                  <a:srgbClr val="ffffff"/>
                </a:solidFill>
                <a:latin typeface="Arial"/>
              </a:rPr>
              <a:t>Projected Benefit Obligation PBO</a:t>
            </a:r>
            <a:r>
              <a:rPr b="0" lang="ar-EG" sz="2400" spc="-1" strike="noStrike">
                <a:solidFill>
                  <a:srgbClr val="ffffff"/>
                </a:solidFill>
                <a:latin typeface="Arial"/>
              </a:rPr>
              <a:t>) القيمة الحالية لمزايا المعاش المكتسبة بما فى ذلك زيادات المرتب المتوقع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كتسبة (</a:t>
            </a:r>
            <a:r>
              <a:rPr b="0" lang="en-US" sz="2400" spc="-1" strike="noStrike">
                <a:solidFill>
                  <a:srgbClr val="ffffff"/>
                </a:solidFill>
                <a:latin typeface="Arial"/>
              </a:rPr>
              <a:t>Vested Benefit Obligation VBO</a:t>
            </a:r>
            <a:r>
              <a:rPr b="0" lang="ar-EG" sz="2400" spc="-1" strike="noStrike">
                <a:solidFill>
                  <a:srgbClr val="ffffff"/>
                </a:solidFill>
                <a:latin typeface="Arial"/>
              </a:rPr>
              <a:t>) ويمثل الجزء فى إلتزام المنافع الذى لا يتوقف على خدمة الموظف فى المستقبل أو الجزء المكتسب من إلتزام المزايا التراكمية </a:t>
            </a:r>
            <a:r>
              <a:rPr b="0" lang="en-US" sz="2400" spc="-1" strike="noStrike">
                <a:solidFill>
                  <a:srgbClr val="ffffff"/>
                </a:solidFill>
                <a:latin typeface="Arial"/>
              </a:rPr>
              <a:t>ABO</a:t>
            </a:r>
            <a:r>
              <a:rPr b="0"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marL="3967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Arial"/>
              </a:rPr>
              <a:t>الاكتواري</a:t>
            </a:r>
            <a:endParaRPr b="0" lang="en-US" sz="3600" spc="-1" strike="noStrike">
              <a:solidFill>
                <a:srgbClr val="e3e3ff"/>
              </a:solidFill>
              <a:latin typeface="Arial"/>
            </a:endParaRPr>
          </a:p>
        </p:txBody>
      </p:sp>
      <p:sp>
        <p:nvSpPr>
          <p:cNvPr id="138" name="PlaceHolder 2"/>
          <p:cNvSpPr>
            <a:spLocks noGrp="1"/>
          </p:cNvSpPr>
          <p:nvPr>
            <p:ph/>
          </p:nvPr>
        </p:nvSpPr>
        <p:spPr>
          <a:xfrm>
            <a:off x="457200" y="1599840"/>
            <a:ext cx="8229600" cy="7570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وجد إفتراضات إكتوارية كثيرة مؤثرة على إلتزامات المعاش ومصروف المعاش ومتطلبات التمويل للشركة:</a:t>
            </a:r>
            <a:endParaRPr b="0" lang="en-US" sz="2400" spc="-1" strike="noStrike">
              <a:solidFill>
                <a:srgbClr val="ffffff"/>
              </a:solidFill>
              <a:latin typeface="Arial"/>
            </a:endParaRPr>
          </a:p>
        </p:txBody>
      </p:sp>
      <p:sp>
        <p:nvSpPr>
          <p:cNvPr id="139" name=""/>
          <p:cNvSpPr/>
          <p:nvPr/>
        </p:nvSpPr>
        <p:spPr>
          <a:xfrm>
            <a:off x="380880" y="2590920"/>
            <a:ext cx="8229600" cy="2600640"/>
          </a:xfrm>
          <a:prstGeom prst="rect">
            <a:avLst/>
          </a:prstGeom>
          <a:noFill/>
          <a:ln w="0">
            <a:noFill/>
          </a:ln>
        </p:spPr>
        <p:style>
          <a:lnRef idx="0"/>
          <a:fillRef idx="0"/>
          <a:effectRef idx="0"/>
          <a:fontRef idx="minor"/>
        </p:style>
        <p:txBody>
          <a:bodyPr lIns="90000" rIns="90000" tIns="46800" bIns="46800" anchor="t">
            <a:spAutoFit/>
          </a:bodyPr>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الخص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نمو الأجور</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العائد المتوقع على أصول النظا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توزيع العمرى للعمالة</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متوسط مدة خدمة العاملين</a:t>
            </a:r>
            <a:endParaRPr b="0" lang="en-US" sz="2400" spc="-1" strike="noStrike">
              <a:solidFill>
                <a:srgbClr val="ffffff"/>
              </a:solidFill>
              <a:latin typeface="Arial"/>
            </a:endParaRPr>
          </a:p>
          <a:p>
            <a:pPr marL="687240" indent="-34272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05:43:59Z</dcterms:created>
  <dc:creator>Moustafa Shawki</dc:creator>
  <dc:description/>
  <dc:language>en-US</dc:language>
  <cp:lastModifiedBy>Eissa</cp:lastModifiedBy>
  <dcterms:modified xsi:type="dcterms:W3CDTF">2006-11-15T09:43:08Z</dcterms:modified>
  <cp:revision>22</cp:revision>
  <dc:subject/>
  <dc:title>Slide 1</dc:title>
</cp:coreProperties>
</file>