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699-A716-4DC9-8D55-8EC853F4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EA7-A7D3-486D-BE25-2B37D6A6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A7A-111D-43B5-980B-3D74C069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BE1-3594-4B93-8083-41A68CFF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E6138-E8C1-44FE-905A-DD03EF95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6AF91-9A56-4DE1-A9FF-F9013CBF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C15DF-8D77-4B9B-9515-CD19A0B2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1831D-6D29-4EE5-9F8E-9A1D47C3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DDF77-B178-407B-BDCC-5EA0F5D8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BE2BB-80F5-4A1E-9159-83921B98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175E6-304B-4BAA-8AAF-1D464E6C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505-0B53-4FE9-AAAD-8FC2E970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65F57-491B-47CA-9BF7-3F705B6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1CD65-5FA3-42BF-B9D0-5ADBFF4C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7D8D8-F41F-49ED-A2AD-BC5E9511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A2385-72CC-431B-8844-9ECFB5CB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3BBB5-4B91-485E-ADD5-B1A4689D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33F-05E8-4B30-BE1F-5443300D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89A-2375-440A-A8A5-A89F0E5C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13B-712C-42BA-A66C-7252DCA7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57C-6FF7-465E-A53F-BD0A3375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A96-CD5F-41C9-A9D9-A5214002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B9A-8F20-4E9C-93CF-881BEA1B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E92A-A118-4CA4-B330-553CB77A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4E0D-203A-448A-ACCB-4E7DB74DF0A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C379-2F16-4668-960C-480CC80164A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557360"/>
            <a:ext cx="741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مخــزون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852640"/>
            <a:ext cx="504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720" y="1197000"/>
            <a:ext cx="36100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01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ادة ما يتم تخفيض قيمة المخزون إلى صافى قيمته البيعية على أساس كل بند على ح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يكون مناسباً تجميع البنود المتجانسة أو المتعلق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بعض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فى مجموع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عتمد تقدير صافى القيمة البيعية على الدلائل المتاحة التى يمكن أن يعتد بها وقت إعداد هذا التقدير والتى يكون من المتوقع أن تحققها بنود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683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ميل على المصرو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مل القيمة الدفترية للمخزون المباع كمصروف فى الفترة التى تحقق فيها الإيراد الناتج عن البي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معالجة قيمة أى رد لأى تخفيض فى قيمة المخزون الناشئ عن الزيادة فى صافى قيمته البيعية كتخفيض فى تكلفة المخزون المباع فى الفترة التى تم الرد في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تستخدم بعض بنود المخزون فى إنشاء أصول ثابتة وعندئذ تحمل تكلفة هذه البنود على حسابات هذه الأصو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3640" y="333000"/>
            <a:ext cx="1893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لإفصــــاح</a:t>
            </a:r>
            <a:r>
              <a:rPr b="0" lang="ar-EG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91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61160" indent="0" algn="r" rtl="1">
              <a:lnSpc>
                <a:spcPct val="90000"/>
              </a:lnSpc>
              <a:spcBef>
                <a:spcPts val="901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يجب أن تفصح القوائم المالية عن الآتي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ياسات المحاسبية المتبعة عند قياس قيمة المخزون بما فى ذلك الطريقة المستخدمة لحساب التكلف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ى تغيير فى السياسات المحاسبية المتعلقة بالمخزون والأسباب الضرورية لهذا التعديل وأثر هذا التعديل فى الفترة الجارية والفترات الساب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جمالى القيمة الدفترية للمخزون مبوبة تبويباً مناسباً يتفق مع طبيعة نشاط المنشأ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للمخزون بصافى قيمته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يمة المخزون المرهون كضمان الالتزا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10920" y="2565360"/>
            <a:ext cx="490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حالات عمليــ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720" y="475920"/>
            <a:ext cx="1954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ثال (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شترت شركة رولا مخزون فى أول يناي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كانت صافى القيمة البيعي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، و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اعت الشركة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قاً لما سبق، أى من البيانات التالية صحيحاً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ـ- 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ما يظهر فى قائمة الدخل كمكسب هو 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 - فى السنة المالية المنته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الشركة اعترفت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د) هو ال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تتطلب معايير المحاسبة المصرية أن يتم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قييم المخزون آخر المدة بالتكلفة أو صافى القيمة البيعية أيهما أقل، وينبغى على الشركة الاعتراف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(عبارة عن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فى قائمة الدخل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ينبغى الاعتراف بربح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يعترف بها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 أ 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ه يجب تخفيض المخزون الى القيمة السوقية فى نهاية ال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ب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 واقع أن المخزون تم بيعه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نيه مصرى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يس له تأثير على رصيد المخزون فى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ج) غير 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أن بيع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يجب مقارنته بقيمة المخزون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الذى كان القيمة الاقل من التكلفة أو صافى القيمة البيعية أى النتيجة تحقيق مكسب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عبارة عن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ال (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915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يما يلى بعض المعلومات المتعلقة بشركة الياسمين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47640" y="2060640"/>
          <a:ext cx="6991560" cy="2070000"/>
        </p:xfrm>
        <a:graphic>
          <a:graphicData uri="http://schemas.openxmlformats.org/drawingml/2006/table">
            <a:tbl>
              <a:tblPr/>
              <a:tblGrid>
                <a:gridCol w="2376720"/>
                <a:gridCol w="46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شتريات بغرض ا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رتجعات للب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وائد على الحسابات الدائ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صروفات شحن البض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755640" y="450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فإن تكلفة المخزون سوف تكون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297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ب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 (ج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4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 د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16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48000" y="333000"/>
            <a:ext cx="1738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3628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أ ) غير صحيح، لأن مصروفات الشحن يجب أن تدخل كجزء من تكلفة المخزو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ب) غير صحيح، لأنه بالاضافة الى مشتريات البضاعة فإن البضاعة المرتجعة ومصروفات الشحن يجب إدخالهما ضمن الحسا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د) غير صحيح، لأن تكلفة الفائدة على التمويل لا تدخل ضمن تكلفة المخزون (إلا فى ظل إشتراطات معينة كما جاء فى المعيار المحاسبى المصرى رقم (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) والمتعلق بتكلفة الاقترا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ffff00"/>
                </a:solidFill>
                <a:uFillTx/>
                <a:latin typeface="Arial"/>
              </a:rPr>
              <a:t>وتتلخص الاشتراطات فى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يتطلب المخزون فترة زمنية طويلة لاعداده وبيعه مثل شركات الاستثمار العقا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تكون تكلفة الاقتراض فعلية وليس افتراض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عدم استكمال الاصل بشكل جوه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268280"/>
          <a:ext cx="6918480" cy="1822680"/>
        </p:xfrm>
        <a:graphic>
          <a:graphicData uri="http://schemas.openxmlformats.org/drawingml/2006/table">
            <a:tbl>
              <a:tblPr/>
              <a:tblGrid>
                <a:gridCol w="2448000"/>
                <a:gridCol w="4470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شتريا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مصروفات الشح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 مرتجعات للبائ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4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31640" y="1341360"/>
            <a:ext cx="302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2421000"/>
            <a:ext cx="4691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تعريفـــ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افصا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حالات عم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2923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شرح المعالجة المحاسبية ل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فر هذا المعيار إرشادا عملياً لتحديد التكلفة وما سيتتبع ذلك من الاعتراف بها كمصروفات بما فى ذلك أى تخفيض فى القيمة للوصول إلى صافى القيمة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أنه يوفر إرشادات عن طرق حساب التكلفة التى تستخدم لتحميل التكاليف على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59280" y="691920"/>
            <a:ext cx="2027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260280"/>
            <a:ext cx="2952720" cy="1059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معيار المحاسبة المصرى رقم (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84280"/>
            <a:ext cx="2089080" cy="78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ول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تعريف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208908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نيـ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قياس قيمة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13000"/>
            <a:ext cx="252072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لثـ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افصاح عن المخزون فى القوائم المال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835280" y="119700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9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70828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تكلفة أو صافة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3789360"/>
            <a:ext cx="208908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  - قياس التكلف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860640"/>
            <a:ext cx="2519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ب – قياس صافى القيمة البي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60640"/>
            <a:ext cx="277344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جـ- كيفية تطبيق طريقة التكلفة أو صافى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إقتناء أو الحصول على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869000"/>
            <a:ext cx="2521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والمنصرف خلال الفترة للانتاج أو البي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المتبقى آخر الفت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619776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تجارية والمواد الخ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صنا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خد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8920" y="364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4294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63280" y="458136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2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5516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39640" y="580536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80536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72000" y="404640"/>
            <a:ext cx="2314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ـــــــات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خزون هو أص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( أ 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حتفظ به بغرض البيع ضمن النشاط العادى للمنشأ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ب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مرحلة الانتاج ليصبح قابلاً ل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ج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شكل مواد خام أو مهمات تستخدم فى مراحل الانتاج أو فى تقديم الخدمات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068640"/>
            <a:ext cx="82803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سعر التقديرى للبيع من خلال  النشاط العادى ناقصاً التكلفة التقديرية للاتمام وكذلك أية تكلفة أخرى تستلزمها إتمام عملية ا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قيمة العادل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هى القيمة التى يمكن بموجبها تبادل أصل أو تسوية التزام بين أطراف كل منهم لديه الرغبة فى التبادل وعلى بينة من الحقائق ويتعاملان بإرادة ح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340000" y="2707920"/>
            <a:ext cx="4896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96000" y="1268280"/>
            <a:ext cx="2890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حساب التكلفة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حميل بنود المخزون المحددة بذاتها والمنتجات والخدمات التى يمكن فصلها ويتم ربطها بمشروعات معينة بعناصر التكاليف الخاصة بكل منها على ح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ستخدام طريقة الوارد أولاً يصرف أولاً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 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طريقة المتوسط المرجح للتكلفة عند تحديد تكلفة المخزون فى الحالات الأخرى خلاف تلك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تى يتم فيها تحميل بنود المخزون المحددة بذاتها والمنتجات والخدمات التى يمكن فصلها ويتم ربطها بمشروعات معينة بعناصر التكاليف الخاصة بكل منها على حد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51640" y="1052280"/>
            <a:ext cx="2962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لا يمكن استرداد تكلفة المخزون إذا ما تعرض للتلف أو التقادم الكلى أو الجزئى أو إذا انخفض سعر بيعه 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لا يمكن أيضاً استرداد تكلفة المخزون إذا زادت التكلفة التقديرية لإتمامه أو إذا زادت التكلفة التقديرية المتوقع تحملها لإتمام عملية البيع عن سعر بيع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r.mansour</cp:lastModifiedBy>
  <dcterms:modified xsi:type="dcterms:W3CDTF">2006-12-11T13:26:42Z</dcterms:modified>
  <cp:revision>47</cp:revision>
  <dc:subject/>
  <dc:title>معيار المحاسبة المصرى رقم (14) تكلفة الاقتراض</dc:title>
</cp:coreProperties>
</file>