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10F46-5F72-46E6-ACF4-3E6580EB4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37A06-0B53-41B8-B64F-CA539C121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6417C-432A-4BE6-B6ED-C48716277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C9DDA-F25C-4AFC-ACF7-DA105C767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7A4EA97-3246-48D2-A201-7F1377B56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6C24D66-3732-4CBB-8997-266F61408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720725E-BC32-4CB7-9A68-0661F86A1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2FA95F3-A909-4102-A206-903229CB5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5BD53A8-8CED-46AF-84B1-C84F38047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48814B3-5996-4569-AB7D-5075CEF8D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D9C427B-2003-4700-92CE-26573274C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E47EC-A6A9-44CB-962B-9BF52A262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76C8DC-94F6-4C88-9C7D-2B60215DB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27D79B-A591-4765-8BA6-7757332F1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420466D-4A9E-47AA-8BAB-61F684CC4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94E2A3E-E6D7-4C41-933C-925CFA7064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7BCECCD-1954-4C6B-872A-66FD2AFA1B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5B52D-A140-4CC7-A74A-C9F34DD26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801E2-0229-4E1F-A439-CC8CC44CC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82AB3-282F-4B63-8416-2DA8E4533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D8CD9-92B8-4B52-B349-C04AF3913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88075-B3E1-4DCB-9261-934C40691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18BC8-843B-4B3D-BFBF-69BCC103E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8004E-A34D-4655-97CD-8F9DA595A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174FB-579D-433A-9BF7-4844370B47BB}"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7DE9-BE9F-4B38-8BE5-F2236D8D1459}"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25</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32</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دوات المالية : الافصاح والعرض</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11280" y="995760"/>
            <a:ext cx="7596000" cy="43599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عتبر جوهر الأداة المالية ، وليس شكلها القانونى، هو العامل المتحكم فى تصنيفها فى ميزانية المنشأة وغالباً ما يكون الجوهر والشكل القانونى متوافقين ولكن هذا ليس هو الحال دائماً فهناك بعض الأدوات المالية التى تأخذ الشكل القانونى لحقوق الملكية إلا أنها تكون التزامات فى جوهرها  (مثل الاسهم القابلة للاسترداد </a:t>
            </a:r>
            <a:r>
              <a:rPr b="1" lang="en-US" sz="2800" spc="-1" strike="noStrike">
                <a:solidFill>
                  <a:srgbClr val="ffffff"/>
                </a:solidFill>
                <a:latin typeface="Arial"/>
                <a:ea typeface="Arial"/>
              </a:rPr>
              <a:t>Re-deemable Shares</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755640" y="4637160"/>
            <a:ext cx="7016760" cy="51912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269400" y="403920"/>
            <a:ext cx="258696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هم الخزينة </a:t>
            </a:r>
            <a:endParaRPr b="0" lang="en-US" sz="2800" spc="-1" strike="noStrike">
              <a:solidFill>
                <a:srgbClr val="ffffff"/>
              </a:solidFill>
              <a:latin typeface="Times New Roman"/>
            </a:endParaRPr>
          </a:p>
        </p:txBody>
      </p:sp>
      <p:sp>
        <p:nvSpPr>
          <p:cNvPr id="139" name=""/>
          <p:cNvSpPr/>
          <p:nvPr/>
        </p:nvSpPr>
        <p:spPr>
          <a:xfrm>
            <a:off x="539640" y="724320"/>
            <a:ext cx="7848720" cy="594612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قامت المنشأة بإعادة شراء أدوات حقوق الملكية الخاصة بها (أسهم خزينة) فيتم خصم تلك الأدوات من حقوق الملكية بدون الاعتراف بأى ربح أو خسارة فى الأرباح أو الخسائر الناتجة عن شراء أو بيع أو إصدار أو إلغاء أدوات حقوق الملكية للمنشأة </a:t>
            </a:r>
            <a:endParaRPr b="0" lang="en-US" sz="2400" spc="-1" strike="noStrike">
              <a:solidFill>
                <a:srgbClr val="ffffff"/>
              </a:solidFill>
              <a:latin typeface="Times New Roman"/>
            </a:endParaRPr>
          </a:p>
          <a:p>
            <a:pPr marL="722160" indent="-72216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افصاح الخاص بأسهم الخزينة</a:t>
            </a: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cs typeface="Arial"/>
              </a:rPr>
              <a:t>يتم الإفصاح بصورة منفصلة عن أسهم الخزينة التى تحتفظ بها المنشأة وذلك إما فى صلب الميزانية أو فى الإيضاحات المرفقة بالقوائم المالية </a:t>
            </a: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وإذا أعادت المنشأة شراء أدوات حقوق الملكية الخاصة بها من أطراف ذوى علاقة فإنها تقوم بالإفصاح وفقاً لمعيار المحاسبة المصرى "الإفصاح عن الأطراف ذوى العلاق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تغيرات فى القيمة الدفترية للالتزام المالى</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536040" indent="-536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م الاعتراف بالأرباح والخسائر المرتبطة بالتغيرات فى القيمة الدفترية للالتزام المالى كدخل أو مصروف فى </a:t>
            </a:r>
            <a:r>
              <a:rPr b="0" lang="ar-SA" sz="3200" spc="-1" strike="noStrike" u="sng">
                <a:solidFill>
                  <a:srgbClr val="ffffff"/>
                </a:solidFill>
                <a:uFillTx/>
                <a:latin typeface="Arial"/>
              </a:rPr>
              <a:t>الأرباح أو الخسائر</a:t>
            </a:r>
            <a:r>
              <a:rPr b="0" lang="ar-SA" sz="3200" spc="-1" strike="noStrike">
                <a:solidFill>
                  <a:srgbClr val="ffffff"/>
                </a:solidFill>
                <a:latin typeface="Arial"/>
              </a:rPr>
              <a:t> وذلك </a:t>
            </a:r>
            <a:r>
              <a:rPr b="0" lang="ar-SA" sz="3200" spc="-1" strike="noStrike" u="sng">
                <a:solidFill>
                  <a:srgbClr val="ffffff"/>
                </a:solidFill>
                <a:uFillTx/>
                <a:latin typeface="Arial"/>
              </a:rPr>
              <a:t>عندما تكون</a:t>
            </a:r>
            <a:r>
              <a:rPr b="0" lang="ar-SA" sz="3200" spc="-1" strike="noStrike">
                <a:solidFill>
                  <a:srgbClr val="ffffff"/>
                </a:solidFill>
                <a:latin typeface="Arial"/>
              </a:rPr>
              <a:t> تلك الأرباح / الخسائر مرتبطة بأداة تتضمن </a:t>
            </a:r>
            <a:r>
              <a:rPr b="0" lang="ar-SA" sz="3200" spc="-1" strike="noStrike" u="sng">
                <a:solidFill>
                  <a:srgbClr val="ffffff"/>
                </a:solidFill>
                <a:uFillTx/>
                <a:latin typeface="Arial"/>
              </a:rPr>
              <a:t>حق</a:t>
            </a:r>
            <a:r>
              <a:rPr b="0" lang="ar-SA" sz="3200" spc="-1" strike="noStrike">
                <a:solidFill>
                  <a:srgbClr val="ffffff"/>
                </a:solidFill>
                <a:latin typeface="Arial"/>
              </a:rPr>
              <a:t> حاملها فى </a:t>
            </a:r>
            <a:r>
              <a:rPr b="0" lang="ar-SA" sz="3200" spc="-1" strike="noStrike" u="sng">
                <a:solidFill>
                  <a:srgbClr val="ffffff"/>
                </a:solidFill>
                <a:uFillTx/>
                <a:latin typeface="Arial"/>
              </a:rPr>
              <a:t>الحصة المتبقية فى أصول المنشأة</a:t>
            </a:r>
            <a:r>
              <a:rPr b="0" lang="ar-SA" sz="3200" spc="-1" strike="noStrike">
                <a:solidFill>
                  <a:srgbClr val="ffffff"/>
                </a:solidFill>
                <a:latin typeface="Arial"/>
              </a:rPr>
              <a:t> مقابل نقدية أو أصل مالى أخر.</a:t>
            </a:r>
            <a:endParaRPr b="0" lang="en-US" sz="3200" spc="-1" strike="noStrike">
              <a:solidFill>
                <a:srgbClr val="ffffff"/>
              </a:solidFill>
              <a:latin typeface="Arial"/>
            </a:endParaRPr>
          </a:p>
          <a:p>
            <a:pPr marL="536040" indent="-536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تقوم المنشأة بعرض أية أرباح أو خسائر ناتجة عن إعادة قياس تلك الأداة بصورة منفصلة فى صلب قائمة الدخل عندما يكون ذلك ملائماً فى شرح أداء المنشأ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مقاصة بين أصل والتزام مالى</a:t>
            </a:r>
            <a:r>
              <a:rPr b="0" lang="ar-SA" sz="4400" spc="-1" strike="noStrike">
                <a:solidFill>
                  <a:srgbClr val="ffff00"/>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5727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يتم عمل مقاصة بين أصل مالى والتزام مالى وعرض صافى المقاصة فى الميزانية عندما ، </a:t>
            </a:r>
            <a:r>
              <a:rPr b="1" i="1" lang="ar-SA" sz="3200" spc="-1" strike="noStrike" u="sng">
                <a:solidFill>
                  <a:srgbClr val="ffffff"/>
                </a:solidFill>
                <a:uFillTx/>
                <a:latin typeface="Arial"/>
              </a:rPr>
              <a:t>وفقط عندما</a:t>
            </a:r>
            <a:r>
              <a:rPr b="1" i="1" lang="ar-SA" sz="3200" spc="-1" strike="noStrike">
                <a:solidFill>
                  <a:srgbClr val="ffffff"/>
                </a:solidFill>
                <a:latin typeface="Arial"/>
              </a:rPr>
              <a:t> ، تكون المنشأة :</a:t>
            </a:r>
            <a:endParaRPr b="0" lang="en-US" sz="3200" spc="-1" strike="noStrike">
              <a:solidFill>
                <a:srgbClr val="ffffff"/>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أ)</a:t>
            </a:r>
            <a:r>
              <a:rPr b="1" i="1" lang="ar-SA" sz="3200" spc="-1" strike="noStrike">
                <a:solidFill>
                  <a:srgbClr val="ffffff"/>
                </a:solidFill>
                <a:latin typeface="Arial"/>
              </a:rPr>
              <a:t>	</a:t>
            </a:r>
            <a:r>
              <a:rPr b="1" i="1" lang="ar-SA" sz="3200" spc="-1" strike="noStrike">
                <a:solidFill>
                  <a:srgbClr val="ffffff"/>
                </a:solidFill>
                <a:latin typeface="Arial"/>
              </a:rPr>
              <a:t>تمتلك حالياً الحق القانونى القابل للنفاذ لإجراء المقاصة بين المبالغ المعترف بها </a:t>
            </a:r>
            <a:endParaRPr b="0" lang="en-US" sz="3200" spc="-1" strike="noStrike">
              <a:solidFill>
                <a:srgbClr val="ffffff"/>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Arial"/>
              </a:rPr>
              <a:t> </a:t>
            </a:r>
            <a:r>
              <a:rPr b="1" i="1" lang="ar-SA" sz="3200" spc="-1" strike="noStrike">
                <a:solidFill>
                  <a:srgbClr val="ffffff"/>
                </a:solidFill>
                <a:latin typeface="Arial"/>
              </a:rPr>
              <a:t>و(ب)</a:t>
            </a:r>
            <a:r>
              <a:rPr b="1" i="1" lang="ar-SA" sz="3200" spc="-1" strike="noStrike">
                <a:solidFill>
                  <a:srgbClr val="ffffff"/>
                </a:solidFill>
                <a:latin typeface="Arial"/>
              </a:rPr>
              <a:t>	</a:t>
            </a:r>
            <a:r>
              <a:rPr b="1" i="1" lang="ar-SA" sz="3200" spc="-1" strike="noStrike">
                <a:solidFill>
                  <a:srgbClr val="ffffff"/>
                </a:solidFill>
                <a:latin typeface="Arial"/>
              </a:rPr>
              <a:t>لديها النية إما لإجراء التسوية على اساس صافى المبالغ أو الاعتراف بالأصل وتسوية الالتزام فى آن واح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افصاح عن المخاطر</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lvl="1" marL="89136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00"/>
                </a:solidFill>
                <a:latin typeface="Arial"/>
              </a:rPr>
              <a:t>مخاطر السوق وتتضمن ثلاثة أنواع من المخاطر: </a:t>
            </a:r>
            <a:endParaRPr b="0" lang="en-US" sz="24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1</a:t>
            </a:r>
            <a:r>
              <a:rPr b="0" i="1" lang="ar-SA" sz="2800" spc="-1" strike="noStrike">
                <a:solidFill>
                  <a:srgbClr val="ffffff"/>
                </a:solidFill>
                <a:latin typeface="Arial"/>
              </a:rPr>
              <a:t>)  </a:t>
            </a:r>
            <a:r>
              <a:rPr b="0" i="1" lang="ar-SA" sz="2800" spc="-1" strike="noStrike">
                <a:solidFill>
                  <a:srgbClr val="ffff00"/>
                </a:solidFill>
                <a:latin typeface="Arial"/>
              </a:rPr>
              <a:t>مخاطر العملة</a:t>
            </a:r>
            <a:r>
              <a:rPr b="0" i="1" lang="ar-SA" sz="2800" spc="-1" strike="noStrike">
                <a:solidFill>
                  <a:srgbClr val="ffffff"/>
                </a:solidFill>
                <a:latin typeface="Arial"/>
              </a:rPr>
              <a:t> – هى مخاطر التغير فى قيمة الأداة المالية بسبب التغير فى أسعار صرف العملات الأجنبية . </a:t>
            </a:r>
            <a:endParaRPr b="0" lang="en-US" sz="28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2</a:t>
            </a:r>
            <a:r>
              <a:rPr b="0" i="1" lang="ar-SA" sz="2800" spc="-1" strike="noStrike">
                <a:solidFill>
                  <a:srgbClr val="ffffff"/>
                </a:solidFill>
                <a:latin typeface="Arial"/>
              </a:rPr>
              <a:t>)  </a:t>
            </a:r>
            <a:r>
              <a:rPr b="0" i="1" lang="ar-SA" sz="2800" spc="-1" strike="noStrike">
                <a:solidFill>
                  <a:srgbClr val="ffff00"/>
                </a:solidFill>
                <a:latin typeface="Arial"/>
              </a:rPr>
              <a:t>مخاطر القيمة العادلة لسعر الفائدة</a:t>
            </a:r>
            <a:r>
              <a:rPr b="0" i="1" lang="ar-SA" sz="2800" spc="-1" strike="noStrike">
                <a:solidFill>
                  <a:srgbClr val="ffffff"/>
                </a:solidFill>
                <a:latin typeface="Arial"/>
              </a:rPr>
              <a:t> – هى مخاطر التغير فى قيمة الأداة المالية بسبب التغير فى أسعار الفائدة فى السوق .</a:t>
            </a:r>
            <a:endParaRPr b="0" lang="en-US" sz="28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3</a:t>
            </a:r>
            <a:r>
              <a:rPr b="0" i="1" lang="ar-SA" sz="2800" spc="-1" strike="noStrike">
                <a:solidFill>
                  <a:srgbClr val="ffffff"/>
                </a:solidFill>
                <a:latin typeface="Arial"/>
              </a:rPr>
              <a:t>)  </a:t>
            </a:r>
            <a:r>
              <a:rPr b="0" i="1" lang="ar-SA" sz="2800" spc="-1" strike="noStrike">
                <a:solidFill>
                  <a:srgbClr val="ffff00"/>
                </a:solidFill>
                <a:latin typeface="Arial"/>
              </a:rPr>
              <a:t>مخاطر السعر</a:t>
            </a:r>
            <a:r>
              <a:rPr b="0" i="1" lang="ar-SA" sz="2800" spc="-1" strike="noStrike">
                <a:solidFill>
                  <a:srgbClr val="ffffff"/>
                </a:solidFill>
                <a:latin typeface="Arial"/>
              </a:rPr>
              <a:t> – هى مخاطر التغير فى قيمة الأداة المالية كنتيجة للتغيرات فى أسعار السوق بصرف النظر عما إذا كانت تلك التغيرات ناتجة عن عوامل متعلقة بالأداة المالية أو مصدرها أو العوامل المؤثرة فى كافة الأدوات التى يتم تداولها فى السوق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fontScale="93000"/>
          </a:bodyPr>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Arial"/>
              </a:rPr>
              <a:t>مخاطر الائتمان</a:t>
            </a:r>
            <a:endParaRPr b="0" lang="en-US" sz="28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و</a:t>
            </a:r>
            <a:r>
              <a:rPr b="0" lang="ar-SA" sz="2800" spc="-1" strike="noStrike">
                <a:solidFill>
                  <a:srgbClr val="ffffff"/>
                </a:solidFill>
                <a:latin typeface="Arial"/>
              </a:rPr>
              <a:t>هى مخاطر إخفاق أحد أطراف الأداة المالية فى تسوية التزام معين مما يؤدى إلى تكبد الطرف الآخر خسارة مالية.</a:t>
            </a:r>
            <a:endParaRPr b="0" lang="en-US" sz="2800" spc="-1" strike="noStrike">
              <a:solidFill>
                <a:srgbClr val="ffffff"/>
              </a:solidFill>
              <a:latin typeface="Arial"/>
            </a:endParaRPr>
          </a:p>
          <a:p>
            <a:pPr lvl="1" marL="690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endParaRPr b="0" lang="en-US" sz="2800" spc="-1" strike="noStrike">
              <a:solidFill>
                <a:srgbClr val="ffffff"/>
              </a:solidFill>
              <a:latin typeface="Arial"/>
            </a:endParaRPr>
          </a:p>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Arial"/>
              </a:rPr>
              <a:t>مخاطر السيولة ويطلق عليها كذلك مخاطر التمويل</a:t>
            </a:r>
            <a:endParaRPr b="0" lang="en-US" sz="28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0" lang="ar-SA" sz="2800" spc="-1" strike="noStrike">
                <a:solidFill>
                  <a:srgbClr val="ffffff"/>
                </a:solidFill>
                <a:latin typeface="Arial"/>
              </a:rPr>
              <a:t>وهى مخاطر تعرض المنشأة لصعوبات فى جمع الاموال اللازمة للوفاء بارتباطاتها المتعلقة بالأدوات المالية . وقد تنتج مخاطر السيولة</a:t>
            </a:r>
            <a:r>
              <a:rPr b="1" i="1" lang="ar-SA" sz="2800" spc="-1" strike="noStrike">
                <a:solidFill>
                  <a:srgbClr val="ffffff"/>
                </a:solidFill>
                <a:latin typeface="Arial"/>
              </a:rPr>
              <a:t> </a:t>
            </a:r>
            <a:r>
              <a:rPr b="0" lang="ar-SA" sz="2800" spc="-1" strike="noStrike">
                <a:solidFill>
                  <a:srgbClr val="ffffff"/>
                </a:solidFill>
                <a:latin typeface="Arial"/>
              </a:rPr>
              <a:t>عن عدم القدرة على بيع الأصل المالى بسرعة وبقيمة تقترب من قيمته العادل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00"/>
                </a:solidFill>
                <a:latin typeface="Arial"/>
              </a:rPr>
              <a:t>مخاطر التدفقات النقدية المتعلقة بسعر الفائدة</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و</a:t>
            </a:r>
            <a:r>
              <a:rPr b="0" lang="ar-SA" sz="3200" spc="-1" strike="noStrike">
                <a:solidFill>
                  <a:srgbClr val="ffffff"/>
                </a:solidFill>
                <a:latin typeface="Arial"/>
              </a:rPr>
              <a:t>هى مخاطر التغيرات فى التدفقات النقدية المستقبلية للأداة المالية بسبب التغير فى أسعار الفائدة فى السوق ، فعلى سبيل المثال فى حالة أداة الدين ذات الفائدة المعومة </a:t>
            </a:r>
            <a:r>
              <a:rPr b="0" lang="en-US" sz="3200" spc="-1" strike="noStrike">
                <a:solidFill>
                  <a:srgbClr val="ffffff"/>
                </a:solidFill>
                <a:latin typeface="Arial"/>
              </a:rPr>
              <a:t>Floating rate</a:t>
            </a:r>
            <a:r>
              <a:rPr b="0" lang="ar-SA" sz="3200" spc="-1" strike="noStrike">
                <a:solidFill>
                  <a:srgbClr val="ffffff"/>
                </a:solidFill>
                <a:latin typeface="Arial"/>
              </a:rPr>
              <a:t> تؤدى مثل هذه التغيرات إلى تغير فى معدل الفائدة الفعلى للأداة المالية غالباً بدون حدوث تغير مقابل فى قيمتها العادلة</a:t>
            </a:r>
            <a:r>
              <a:rPr b="0" lang="ar-SA" sz="2800" spc="-1" strike="noStrike">
                <a:solidFill>
                  <a:srgbClr val="ffffff"/>
                </a:solidFill>
                <a:latin typeface="Arial"/>
              </a:rPr>
              <a:t> </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تبويب</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SA" sz="3200" spc="-1" strike="noStrike">
                <a:solidFill>
                  <a:srgbClr val="ffffff"/>
                </a:solidFill>
                <a:latin typeface="Arial"/>
              </a:rPr>
              <a:t>يجب أن تميز مجموعات الأدوات المالية بين البنود التى تم قياسه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التكلفة أو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كلفة المستهلكة </a:t>
            </a:r>
            <a:r>
              <a:rPr b="0" lang="ar-EG" sz="3200" spc="-1" strike="noStrike">
                <a:solidFill>
                  <a:srgbClr val="ffffff"/>
                </a:solidFill>
                <a:latin typeface="Arial"/>
              </a:rPr>
              <a:t>أو</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القيمة العادل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سياسات إدارة المخاطر وعمليات التغطية</a:t>
            </a:r>
            <a:r>
              <a:rPr b="0" lang="ar-SA" sz="4400" spc="-1" strike="noStrike">
                <a:solidFill>
                  <a:srgbClr val="ffff00"/>
                </a:solidFill>
                <a:latin typeface="Arial"/>
              </a:rPr>
              <a:t> </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تقوم المنشأة بالإفصاح عن البنود التالية بصورة منفصلة وذلك بالنسبة لتغطية القيمة العادلة وتغطية التدفقات النقدية وتغطية صافى الاستثمار فى كيان أجنبى</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أ)   وصف التغطية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ب)  وصف الأدوات المالية المحددة كأدوات تغطية وقيمها العادلة فى تاريخ الميزانية</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ج)  طبيعة المخاطر التى تم تغطيتها</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د)  بالنسبة لتغطية التدفقات النقدية يجب الإفصاح عن الفترات المتوقعة للتدفقات النقدية ومتى يتوقع أن تدخل فى تحديد الأرباح أو الخسائر </a:t>
            </a:r>
            <a:r>
              <a:rPr b="1" i="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عرض القيمة الدفترية للأدوات المالية</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lvl="1" marL="91116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SA" sz="2400" spc="-1" strike="noStrike">
                <a:solidFill>
                  <a:srgbClr val="ffffff"/>
                </a:solidFill>
                <a:latin typeface="Arial"/>
              </a:rPr>
              <a:t>يمكن عرض القيمة الدفترية للأدوات المالية المعرضة لمخاطر أسعار الفائدة فى صورة جداول مقسمة إلى مجموعات حسب فترة الاستحقاق أو إعادة التسعير الواردة فى العقد وذلك وفقاً للفترات التالية بعد تاريخ الميزانية: </a:t>
            </a:r>
            <a:endParaRPr b="0" lang="en-US" sz="2400" spc="-1" strike="noStrike">
              <a:solidFill>
                <a:srgbClr val="ffffff"/>
              </a:solidFill>
              <a:latin typeface="Arial"/>
            </a:endParaRPr>
          </a:p>
          <a:p>
            <a:pPr lvl="1" marL="91116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1</a:t>
            </a:r>
            <a:r>
              <a:rPr b="0" lang="ar-SA" sz="2800" spc="-1" strike="noStrike">
                <a:solidFill>
                  <a:srgbClr val="ffffff"/>
                </a:solidFill>
                <a:latin typeface="Arial"/>
              </a:rPr>
              <a:t>)  خلال سنة واحدة أو أقل</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2</a:t>
            </a:r>
            <a:r>
              <a:rPr b="0" lang="ar-SA" sz="2800" spc="-1" strike="noStrike">
                <a:solidFill>
                  <a:srgbClr val="ffffff"/>
                </a:solidFill>
                <a:latin typeface="Arial"/>
              </a:rPr>
              <a:t>)  خلال أكثر من سنة وليس أكثر من سنتين </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3</a:t>
            </a:r>
            <a:r>
              <a:rPr b="0" lang="ar-SA" sz="2800" spc="-1" strike="noStrike">
                <a:solidFill>
                  <a:srgbClr val="ffffff"/>
                </a:solidFill>
                <a:latin typeface="Arial"/>
              </a:rPr>
              <a:t>)  خلال أكثر من سنتين وليس أكثر من ثلاث سنوات </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4</a:t>
            </a:r>
            <a:r>
              <a:rPr b="0" lang="ar-SA" sz="2800" spc="-1" strike="noStrike">
                <a:solidFill>
                  <a:srgbClr val="ffffff"/>
                </a:solidFill>
                <a:latin typeface="Arial"/>
              </a:rPr>
              <a:t>)  خلال أكثر من ثلاث سنوات وليس أكثر من أربع سنوات</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5</a:t>
            </a:r>
            <a:r>
              <a:rPr b="0" lang="ar-SA" sz="2800" spc="-1" strike="noStrike">
                <a:solidFill>
                  <a:srgbClr val="ffffff"/>
                </a:solidFill>
                <a:latin typeface="Arial"/>
              </a:rPr>
              <a:t>)  خلال أكثر من أربع سنوات و ليس أكثر من خمس سنوات </a:t>
            </a:r>
            <a:endParaRPr b="0" lang="en-US" sz="2800" spc="-1" strike="noStrike">
              <a:solidFill>
                <a:srgbClr val="ffffff"/>
              </a:solidFill>
              <a:latin typeface="Arial"/>
            </a:endParaRPr>
          </a:p>
          <a:p>
            <a:pPr marL="560520" indent="-56052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6</a:t>
            </a:r>
            <a:r>
              <a:rPr b="0" lang="ar-SA" sz="2800" spc="-1" strike="noStrike">
                <a:solidFill>
                  <a:srgbClr val="ffffff"/>
                </a:solidFill>
                <a:latin typeface="Arial"/>
              </a:rPr>
              <a:t>)  خلال أكثر من خمس سنوات</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556000" y="1196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395280" y="2060640"/>
          <a:ext cx="7993080" cy="3483000"/>
        </p:xfrm>
        <a:graphic>
          <a:graphicData uri="http://schemas.openxmlformats.org/drawingml/2006/table">
            <a:tbl>
              <a:tblPr/>
              <a:tblGrid>
                <a:gridCol w="7272360"/>
                <a:gridCol w="720720"/>
              </a:tblGrid>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1</a:t>
                      </a:r>
                      <a:r>
                        <a:rPr b="1" lang="ar-EG" sz="2400" spc="-1" strike="noStrike">
                          <a:solidFill>
                            <a:srgbClr val="ffffff"/>
                          </a:solidFill>
                          <a:latin typeface="Arial"/>
                          <a:ea typeface="Times New Roman"/>
                        </a:rPr>
                        <a:t>.  هدف المعيار</a:t>
                      </a:r>
                      <a:endParaRPr b="0" lang="en-US" sz="2400" spc="-1" strike="noStrike">
                        <a:solidFill>
                          <a:srgbClr val="ffffff"/>
                        </a:solidFill>
                        <a:latin typeface="Times New Roman"/>
                      </a:endParaRPr>
                    </a:p>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2</a:t>
                      </a:r>
                      <a:r>
                        <a:rPr b="1" lang="ar-EG" sz="2400" spc="-1" strike="noStrike">
                          <a:solidFill>
                            <a:srgbClr val="ffffff"/>
                          </a:solidFill>
                          <a:latin typeface="Arial"/>
                          <a:ea typeface="Times New Roman"/>
                        </a:rPr>
                        <a:t>.  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3</a:t>
                      </a:r>
                      <a:r>
                        <a:rPr b="1" lang="ar-EG" sz="2400" spc="-1" strike="noStrike">
                          <a:solidFill>
                            <a:srgbClr val="ffffff"/>
                          </a:solidFill>
                          <a:latin typeface="Arial"/>
                          <a:ea typeface="Times New Roman"/>
                        </a:rPr>
                        <a:t>.  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4</a:t>
                      </a:r>
                      <a:r>
                        <a:rPr b="1" lang="ar-EG" sz="2400" spc="-1" strike="noStrike">
                          <a:solidFill>
                            <a:srgbClr val="ffffff"/>
                          </a:solidFill>
                          <a:latin typeface="Arial"/>
                          <a:ea typeface="Times New Roman"/>
                        </a:rPr>
                        <a:t>.  العــرض</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  الا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  اسلوب عرض الادوات المالية وموقعها وبنودها</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ضمحلال القيمة</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تقوم المنشأة بالإفصاح عن طبيعة وقيمة أية خسائر ناتجة عن اضمحلال القيمة</a:t>
            </a:r>
            <a:r>
              <a:rPr b="1" i="1" lang="ar-EG" sz="3200" spc="-1" strike="noStrike">
                <a:solidFill>
                  <a:srgbClr val="ffffff"/>
                </a:solidFill>
                <a:latin typeface="Arial"/>
              </a:rPr>
              <a:t> التي </a:t>
            </a:r>
            <a:r>
              <a:rPr b="1" i="1" lang="ar-SA" sz="3200" spc="-1" strike="noStrike">
                <a:solidFill>
                  <a:srgbClr val="ffffff"/>
                </a:solidFill>
                <a:latin typeface="Arial"/>
              </a:rPr>
              <a:t> تم الاعتراف بها في الأرباح أو الخسائر، وذلك بالنسبة لأي أصل مالي، وبصفة منفصلة لكل مجموعة جوهرية من الأصول المالية </a:t>
            </a:r>
            <a:r>
              <a:rPr b="1" i="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11280" y="2421000"/>
            <a:ext cx="7705800" cy="259236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هدف هذا المعيار إلى تحسين فهم مستخدمى القوائم المالية لأهمية الأدوات المالية بالنسبة للمركز المالى للمنشأة وأدائها وتدفقاتها النقدية .</a:t>
            </a:r>
            <a:endParaRPr b="0" lang="en-US" sz="2800" spc="-1" strike="noStrike">
              <a:solidFill>
                <a:srgbClr val="ffffff"/>
              </a:solidFill>
              <a:latin typeface="Times New Roman"/>
            </a:endParaRPr>
          </a:p>
        </p:txBody>
      </p:sp>
      <p:sp>
        <p:nvSpPr>
          <p:cNvPr id="126" name=""/>
          <p:cNvSpPr/>
          <p:nvPr/>
        </p:nvSpPr>
        <p:spPr>
          <a:xfrm>
            <a:off x="4716360" y="134136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11280" y="1628640"/>
            <a:ext cx="8064360" cy="338472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لا يطبق هذا المعيار على :-</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حصص فى الشركات التابعة والشقيقة والمشروعات المشتركة .</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حقوق والتزامات صاحب العمل بموجب نظم مزايا العاملين.</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تأمين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د -الادوات المالية والعقود والالتزامات المتعلقة بمعاملات المدفوعات </a:t>
            </a:r>
            <a:r>
              <a:rPr b="1" lang="ar-EG" sz="2800" spc="-1" strike="noStrike" u="sng">
                <a:solidFill>
                  <a:srgbClr val="ffffff"/>
                </a:solidFill>
                <a:uFillTx/>
                <a:latin typeface="Arial"/>
                <a:cs typeface="Arial"/>
              </a:rPr>
              <a:t>المبنية على أسهم</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8"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988640"/>
            <a:ext cx="8229600" cy="309564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ينطبق هذا المعيار على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عقود شراء أو بيع البنود التى يمكن تسويتها نقداً أو بأداة مالية أخرى أو بمبادلة الأدوات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11280" y="845640"/>
            <a:ext cx="7956360" cy="52131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أداة المالية</a:t>
            </a:r>
            <a:r>
              <a:rPr b="1" lang="ar-EG" sz="2800" spc="-1" strike="noStrike">
                <a:solidFill>
                  <a:srgbClr val="ffffff"/>
                </a:solidFill>
                <a:latin typeface="Arial"/>
                <a:ea typeface="Arial"/>
              </a:rPr>
              <a:t> هى أى عقد يؤدى إلى نشأة أصل مالى لمنشأة والتزام مالى أو أداة حقوق ملكية لمنشأة أخرى.</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أصل المالى</a:t>
            </a:r>
            <a:r>
              <a:rPr b="1" lang="ar-EG" sz="2800" spc="-1" strike="noStrike">
                <a:solidFill>
                  <a:srgbClr val="ffffff"/>
                </a:solidFill>
                <a:latin typeface="Arial"/>
                <a:ea typeface="Arial"/>
              </a:rPr>
              <a:t> هو أى أصل يكون إم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نقدي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ب)  أداة حقوق ملكية لمنشأة أخرى</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ج)   حق تعاقدى: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لاستلام نقدية أو أصل مالى آخر من منشأة أخرى .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  -  لمبادلة الأصول المالية أو الالتزامات المالية مع منشأة أخرى بموجب شروط تكون على الأرجح لمصلحة المنشأة </a:t>
            </a:r>
            <a:endParaRPr b="0" lang="en-US" sz="2800" spc="-1" strike="noStrike">
              <a:solidFill>
                <a:srgbClr val="ffffff"/>
              </a:solidFill>
              <a:latin typeface="Times New Roman"/>
            </a:endParaRPr>
          </a:p>
        </p:txBody>
      </p:sp>
      <p:sp>
        <p:nvSpPr>
          <p:cNvPr id="131" name=""/>
          <p:cNvSpPr/>
          <p:nvPr/>
        </p:nvSpPr>
        <p:spPr>
          <a:xfrm>
            <a:off x="4643280" y="69228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عريفــــ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لتزام المالى</a:t>
            </a:r>
            <a:r>
              <a:rPr b="1" lang="ar-EG" sz="2800" spc="-1" strike="noStrike">
                <a:solidFill>
                  <a:srgbClr val="ffffff"/>
                </a:solidFill>
                <a:latin typeface="Arial"/>
                <a:ea typeface="Arial"/>
              </a:rPr>
              <a:t> هو أى التزام يكون إما: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أ)   التزاماً تعاقدياً:</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لتسليم النقدية أو أصل مالى آخر إلى منشأة أخرى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 لمبادلة الأصول أو الالتزامات المالية مع منشأة أخرى بموجب شروط تكون على الأرجح فى غير مصلحة المنشأ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11280" y="1844640"/>
            <a:ext cx="781056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داة حقوق الملكية</a:t>
            </a:r>
            <a:r>
              <a:rPr b="1" lang="ar-EG" sz="2800" spc="-1" strike="noStrike">
                <a:solidFill>
                  <a:srgbClr val="ffffff"/>
                </a:solidFill>
                <a:latin typeface="Arial"/>
                <a:ea typeface="Arial"/>
              </a:rPr>
              <a:t> هى أى عقد يثبت الحق فى باقى أصول منشأة بعد خصم جميع التزاماتها .</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قيمة العادلة</a:t>
            </a:r>
            <a:r>
              <a:rPr b="1" lang="ar-EG" sz="2800" spc="-1" strike="noStrike">
                <a:solidFill>
                  <a:srgbClr val="ffffff"/>
                </a:solidFill>
                <a:latin typeface="Arial"/>
                <a:ea typeface="Arial"/>
              </a:rPr>
              <a:t> هى القيمة التى يمكن بموجبها تبادل أصل أو تسوية التزام بين أطراف كل منهم لديه الرغبة فى التبادل وعلى بينة من الحقائق ويتعاملان بإرادة حر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68360" y="2133720"/>
            <a:ext cx="8136000" cy="2590560"/>
          </a:xfrm>
          <a:prstGeom prst="rect">
            <a:avLst/>
          </a:prstGeom>
          <a:noFill/>
          <a:ln w="0">
            <a:noFill/>
          </a:ln>
        </p:spPr>
        <p:style>
          <a:lnRef idx="0"/>
          <a:fillRef idx="0"/>
          <a:effectRef idx="0"/>
          <a:fontRef idx="minor"/>
        </p:style>
        <p:txBody>
          <a:bodyPr lIns="90000" rIns="90000" tIns="46800" bIns="46800" anchor="t">
            <a:no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التزامات وحقوق المساهمين</a:t>
            </a:r>
            <a:r>
              <a:rPr b="0" lang="ar-EG"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الاعتراف الأولى يتعين على مصدر الأداة المالية تصنيف الأداة أو مكوناتها كأصل مالى أو التزام مالى أو أداة حقوق ملكية وفقاً لجوهر الاتفاق التعاقدى.</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5" name=""/>
          <p:cNvSpPr/>
          <p:nvPr/>
        </p:nvSpPr>
        <p:spPr>
          <a:xfrm>
            <a:off x="3059280" y="1197000"/>
            <a:ext cx="54496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العـــــــر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1-15T09:44:59Z</dcterms:modified>
  <cp:revision>66</cp:revision>
  <dc:subject/>
  <dc:title>Slide 1</dc:title>
</cp:coreProperties>
</file>