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Univers 45 Light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152280"/>
            <a:ext cx="990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Reference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 </a:t>
            </a:r>
            <a:r>
              <a:rPr b="1" lang="ar-SA" sz="700" spc="-1" strike="noStrike">
                <a:solidFill>
                  <a:srgbClr val="fafd00"/>
                </a:solidFill>
                <a:latin typeface="Univers 45 Light"/>
                <a:cs typeface="Times New Roman"/>
              </a:rPr>
              <a:t>ُ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ESA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23080" y="6400800"/>
            <a:ext cx="11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إيهاب عقل - </a:t>
            </a:r>
            <a:r>
              <a:rPr b="1" lang="ar-SA" sz="1000" spc="-1" strike="noStrike">
                <a:solidFill>
                  <a:srgbClr val="fafd00"/>
                </a:solidFill>
                <a:latin typeface="Univers 55"/>
                <a:ea typeface="Times New Roman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1120" y="62784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B30-AF0A-445D-BE16-03DD6A4EE84F}" type="slidenum">
              <a:rPr b="0" lang="en-US" sz="2200" spc="-1" strike="noStrike">
                <a:solidFill>
                  <a:srgbClr val="b760f9"/>
                </a:solidFill>
                <a:latin typeface="Univers 65 Bold"/>
              </a:rPr>
              <a:t>&lt;number&gt;</a:t>
            </a:fld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18440"/>
            <a:ext cx="96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المحاسبة –  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ن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ها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ئ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Univers 45 Light"/>
              </a:rPr>
              <a:t>جمعية المحاسبين و المراجعين المصرية</a:t>
            </a:r>
            <a:endParaRPr b="1" lang="en-US" sz="4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7925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رنامج الإعداد لإمتحان النهائى </a:t>
            </a:r>
            <a:br>
              <a:rPr sz="4000"/>
            </a:b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ادة المحاس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ميزة الرئيسية للطريقة المباشرة هي أنها توضح المتحصلات والمدفوعات النقدية التشغي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عرفة المصادر الخاصة بالمتحصلات النقدية والأغراض التي تم صرف المدفوعات النقدية فيها في الفترات الماضية قد يكون مفيدا فى تحديد التدفقات النقدية المستقب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عيار المحاسبة الدولي رقم (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شجع ، لكن لا يشترط استخدام الطريقة المباشر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غير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416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تمثل الميزة الرئيسية للطريقة غير المباشرة في أنها تلقى الضوء على الفروق بين الربح المقرر عنه (بقائمة الدخل) وصافى التدفقات النقدية من أنشطة التشغي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عتقد العديد من المستخدمين أن تلك التسوية ضرورية للحصول على مؤشر عن جودة الأرباح في المنشأ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قوم بعض المستثمرين والمقرضين بتحديد التدفقات النقدية المستقبلية عن طريق تحديد الدخل المستقبلي وعندئذ السماح بتسويات المستحقات ، لذلك فالمعلومات عن تسويات المستحقات الماضية قد تكون مفيدة فى المساعدة فى تقدير التسويات المستقبل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إهلاك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هلاك هو تخفيض دفترى للنفقة الرأسمالية . والنفقة الرأسمالية سوف يتم إدراجها ضمن الأنشطة الاستثمارية فى وقت التدفق النقدى الخارج لسدادها، ولذلك فالاهلاك يجب أن يتم اضافته للربح المقرر عنه عند تحديد التدفقات النقدية من أنشطة التشغيل 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أنشطة التشغيل -   التخلص من الأصل غير المتداول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إدراج التدفق النقدى الداخل من البيع ضمن الأنشطة الاستثمارية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تم ادراج الربح أو الخسارة عند البيع فى الربح قبل الضريبة ، فمن الضرورى اجراء تسوية عند حساب التدفق النقدى ، ويتم اضافة الخسارة الى الربح المقرر عنه ، ويتم خصم الربح من الربح المقرر عنه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خلال الفترة لا تعنى بالضرورة وجود تدفقات نقدية داخلة للشركة إلا إذا قام العملاء المعنيين بسداد قيمة هذه المبيعات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تسوية ربح الفترة بقيمة التغير فى أرصدة العملاء للوصول إلى التدفقات النقدية الداخلة من العملاء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أرصدة العملاء تمثل مبيعات لم تحصل قيمتها بعد لذلك يجب خصمها من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أرصدة العملاء تمثل متحصلات من مبيعات الفترات السابقة تم سدادها علاوة على سداد كافة مبيعات الفترة الحالية لذلك يجب إضافتها إلى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مخزو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مثل المخزون في تاريخ الميزانية المشتريات التى لم يتم تحميلها بالفعل على الأرباح الحالي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لم يتم بيعها)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ذلك يجب تسوية ربح/خسارة الفترة بقيمة التغير فى المخزون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خزون يعنى أن جزء من تكلفة المبيعات يمثل بضاعة تم شرائها من العام الماضى و بالتالى لا يمثل تدفقات نقدية خارجة خلال الفترة الحالية و عليه يجب إضافة قيمة هذا النقص إلى التدفقات النقدية من أنشطة التشغ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تعنى أن بضائع تم شرائها خلال الفترة و لم تحمل على قائمة الدخل حيث لم يتم بيعها بعد، لذلك يجب خصم قيمة هذه الزيادة من التدفقات النقدية لأنشطة التشغي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رصدة الموردين تشير إلى أن جزء من تكلفة المشتريات لم يتم سدادها للموردين بعد ، لذلك يجب تسوية أرباح أو خسائر الفترة بقيمة التغير فى أرصدة الموردين بغرض تحديد التدفقات النقدية من أنشطة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ي الموردين تعنى أن بعض المشتريات خلال العام لم تسدد قيمتها بعد لذلك يجب إضافة قيمة هذه الزيادة للتدفقات النقدية من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وردين يعنى أن مشتريات العام تم سدادها بالكامل بالإضافة لسداد جزء من قيمة مشتريات الفترات السابقة لذلك يجب تخفيض الربح المقرر عنه بقيمة هذا النقص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حالة عم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سفرت نتائج أعمال السنة المالية الأولى لشركة الرواد عن صافى ربح قبل الضرائب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300.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جنيه . حدد صافى التدفقات النقدية من أنشطة التشغيل ، و فيما يلى بعض أرصدة الميزانية فى نهاية العام :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Arabic Transparent"/>
              </a:rPr>
              <a:t>جنيه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عملاء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خزو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18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وردي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حليل الموردين ك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واد الخام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027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أصل غير متداول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صروفات المتنوعة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ستحقات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6800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5000" spc="-1" strike="noStrike">
                <a:solidFill>
                  <a:srgbClr val="0000fa"/>
                </a:solidFill>
                <a:latin typeface="Univers 45 Light"/>
              </a:rPr>
              <a:t>حل الحالة العملية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 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جنيه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ربح قبل الضرائب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0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8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عملاء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وردين 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3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23000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صافى التدفق النقدي من أنشطة التشغيل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8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447920"/>
            <a:ext cx="2819520" cy="1066680"/>
          </a:xfrm>
          <a:prstGeom prst="wedgeRoundRectCallout">
            <a:avLst>
              <a:gd name="adj1" fmla="val -73930"/>
              <a:gd name="adj2" fmla="val 193750"/>
              <a:gd name="adj3" fmla="val 16667"/>
            </a:avLst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خص اصل غير متداو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درج بأنشطة الاستثم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فائدة والتوز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438280"/>
            <a:ext cx="7315200" cy="1221120"/>
            <a:chOff x="914400" y="2438280"/>
            <a:chExt cx="7315200" cy="1221120"/>
          </a:xfrm>
        </p:grpSpPr>
        <p:sp>
          <p:nvSpPr>
            <p:cNvPr id="91" name=""/>
            <p:cNvSpPr/>
            <p:nvPr/>
          </p:nvSpPr>
          <p:spPr>
            <a:xfrm>
              <a:off x="914400" y="259056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شغ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243828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سئول عن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3530520"/>
            <a:ext cx="7315200" cy="1225800"/>
            <a:chOff x="914400" y="3530520"/>
            <a:chExt cx="7315200" cy="1225800"/>
          </a:xfrm>
        </p:grpSpPr>
        <p:sp>
          <p:nvSpPr>
            <p:cNvPr id="94" name=""/>
            <p:cNvSpPr/>
            <p:nvPr/>
          </p:nvSpPr>
          <p:spPr>
            <a:xfrm>
              <a:off x="914400" y="368748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استثمار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353052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صدر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4610160"/>
            <a:ext cx="7315200" cy="1213200"/>
            <a:chOff x="914400" y="4610160"/>
            <a:chExt cx="7315200" cy="1213200"/>
          </a:xfrm>
        </p:grpSpPr>
        <p:sp>
          <p:nvSpPr>
            <p:cNvPr id="97" name=""/>
            <p:cNvSpPr/>
            <p:nvPr/>
          </p:nvSpPr>
          <p:spPr>
            <a:xfrm>
              <a:off x="914400" y="475452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461016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الأكثر إتباع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2578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الف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توزيعات الأرب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638680"/>
            <a:ext cx="7696080" cy="6098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Univers 65 Bold"/>
              </a:rPr>
              <a:t>يمكن إتباع أى طريقة عرض و لكن يجب الثبات على استخدام هذه الطريق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6200" spc="-1" strike="noStrike">
                <a:solidFill>
                  <a:srgbClr val="000099"/>
                </a:solidFill>
                <a:latin typeface="Univers 45 Light"/>
              </a:rPr>
              <a:t>قائمة التدفقات النقدية</a:t>
            </a:r>
            <a:endParaRPr b="1" lang="en-US" sz="62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3040" y="31240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شام الافندى – شريك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KPMG</a:t>
            </a: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حازم حسن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596880" y="21700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                 </a:t>
            </a: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ضرائب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دفقات النقدية الناتجة من الضرائب على الدخل يجب الافصاح عنها بشكل منفصل كجزء من الأنشطة التشغيلية ما لم يمكن تحديد أنها ترتبط بصفة خاصة بالأنشطة التمويلية و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إذا تم تخصيص مدفوعات ضرائب الدخل على أكثر من نوع من النشاط ، يجب الإفصاح عن ذلك في إيضاح مرف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لحساب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84320"/>
          <a:ext cx="8686800" cy="33210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قائمة الدخل لعام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× 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توزيعات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9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مرح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نهائ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495680"/>
          <a:ext cx="8686800" cy="12654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الميزانية فى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31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 ديسمب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متداولة -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غير متداولة -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28600" y="5791320"/>
            <a:ext cx="8686800" cy="533160"/>
          </a:xfrm>
          <a:prstGeom prst="rect">
            <a:avLst/>
          </a:prstGeom>
          <a:solidFill>
            <a:srgbClr val="fc012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 : تحديد قيمة الضريبة المسددة بواسطة الشركة (×) فى سنة 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2008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-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760" y="1338120"/>
          <a:ext cx="8610480" cy="445464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3048120"/>
                <a:gridCol w="1218960"/>
              </a:tblGrid>
              <a:tr h="541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8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ضرائب الدخل – حساب مؤق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سددة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69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المحمل على قائمة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ظهر البنود بقائمة التدفقات النقدية (مبيعات – مشتريات ....إلخ) صافية من ضرائب المبيعا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 يظهر صافى التغير فى المبالغ المستحقة و المسددة إلى مصلحة الضرائب على المبيعات ضمن التدفقات النقدية من أنشطة  التشغيل ما لم تكون معالجة مختلفة أكثر ملائمة في الظروف المحيط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66680"/>
          <a:ext cx="8305920" cy="5315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سنة الماض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يزانية فى نهاية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مـــ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6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أس مال – أسه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حتياطيا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حقوق الملك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زامات جارية – موردون،ضريبة مبيعات،كسب 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يتكون رصيد الموردون من :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- رصيد من دفتر حسابات استاذ الموردين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- ضرائب مبيعات مستحق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خصومات ضريبية من مرتبات مستحقة للسلطات الضريب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فيما يلي حسابات الرقابة الملخصة للنشاط ، وتخضع كل المبيعات والمشتريات لضريبة مبيعات بنسب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%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1143000"/>
          <a:ext cx="8610480" cy="535140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عملا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تحصلات 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6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مورد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مشتريات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رصيد آخر المد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6760" y="990720"/>
          <a:ext cx="8610480" cy="54482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ضريبة المبيع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8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الأجو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أجور ال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ضمن 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9040" y="1222200"/>
          <a:ext cx="8305920" cy="411156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يانات مستخرجة من قائمة الدخل عن العام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تكلفة المبيعات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2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 (لا يوجد مخزون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رتبات و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5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مصروفات إدارية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196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04920" y="5410080"/>
            <a:ext cx="8534160" cy="838440"/>
          </a:xfrm>
          <a:prstGeom prst="rect">
            <a:avLst/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: إعداد قائمة التدفقات النقدية بإستخدام الطريقة المباشرة و غير المباشرة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ظهر حساب رقابة حسابات أستاذ العملاء المتحصلات النقدية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يشتمل على ضريبة مبيعات بمعدل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 ويترتب على استبعاد ضريبة المبيعات 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787.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÷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7.5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21.226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لاحظ أن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ذا الرقم لا يعكس أن ضريبة المبيعات قد تم المحاسبة عنها على المبيعات عندما حررت الفاتورة . ولذلك فإنه يجب استبعادها على المبيعات و ليس على المتحصلات ، كما يتضح مما يلى :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نقدية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يخصم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: ضريبة مبيعات على المبيع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محسوبة من قائمة الدخل 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89.447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×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278153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العملاء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509287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هداف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هدف معيار المحاسبة الدولي رقم (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أن تقدم المنشأة معلومات عن التغيرات التاريخية فى النقدية وما يعادلها عن طريق قائمة التدفقات النقدية التى تصنف التدفقات النقدية خلال الفترة بين تلك الناتجة من الأنشطة التشغيلية والاستثمارية والتمويل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ستخدموا القوائم المالية يحتاجون إلى معلومات عن السيولة ، والسلامة المالية وإمكانية التكيف المالي للمنشآت، الأمر الذى يسهل عملية مقارنة أداء التدفق النقدى بين الشركات المختلف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د مستخدمو القوائم المالية بمعلومات تمكنهم من تقييم التدفقات النقدية المستقبلية للمنشأة (أساس ثروة وقيمة المنشأة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ابع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كمدخل بديل ، والذى يكون استخدامه أسهل اذا لم تتضمن الحالة حسابات الرقابة ، هو اعادة تصوير حساب رقابة العملاء ، على النحو التالي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760" y="2514600"/>
          <a:ext cx="8610480" cy="291132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ـ / رقابة أستاذ حساب العملا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متحصلات نقدية (رقم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09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(يشتمل على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 من قائمة الدخل (بالتالى مستبعد منها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333440" y="57150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تغير فى رصيد العملاء =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26584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34600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= (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8016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تحديد النقدية المدفوعة إل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مراعاة أن مشتريات النفقات الرأسمالية ليست تدفق نقدي خارج من الأنشطة التشغيلية و بالتالى يجب إدراجها ضمن التدفقات النقدية من أنشطة الاستثمار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9360" y="2057400"/>
          <a:ext cx="8572680" cy="411336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وفقاً لحساب الرقا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المدفوعات النقدية للأصل غير المتداو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 من حساب رقابة أستاذ المورد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المشتريات (بدون الأصول الرأسمالي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ضريبة المبيعات على المشتريات (ح/ ض.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أصول رأسمال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     (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÷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  ×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6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92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مدفوع للموردين ع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      تحديد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دائنى ضريبة المبيعات (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600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164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2436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مكن إجراء مقاصة بالنسبة لهذا المبلغ مع المدفوعات النقدية للموردين 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تغير في الموردين المدرج فى قائمة التسوية يشتمل الموردين التجاريين ( مع استبعاد دائنو الأصول غير المتداولة ) وأى مستحقات مرتبطة بالمرتبات و الاجور . كذلك قد يتم إدراج التغير في دائني ضريبة المبيعات . (مع أن المتحصلات النقدية من العملاء والنقدية المسددة للموردين يجب إظهارها على أساس صافى من ضريبة المبيعات ، إلا أن تحرك ضريبة المبيعات يجب أيضا تخصيصه للأنشطة التشغيلية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9360" y="3857760"/>
          <a:ext cx="8572680" cy="246672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ساب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بيانات من معطيات حسابات الرقابة التفصيلي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وردون تجاريو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صومات ضريبية من المرتبات و ال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86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غي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حديد النفقات على الأصول غير المتداول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أصول غير المتداولة المشتراة كما ظهر فى حساب رقابة استاذ المشتريات هى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4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، وهذا المبلغ يشتمل على ضريبة المبيعات . السعر الخالى من ضريبة المبيعات هو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. هذا المبلغ يتفق مع البيانات الظاهرة فى حساب الأصول غير المتداولة وفقا للميزانيات العموم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760" y="3673440"/>
          <a:ext cx="8610480" cy="2333520"/>
        </p:xfrm>
        <a:graphic>
          <a:graphicData uri="http://schemas.openxmlformats.org/drawingml/2006/table">
            <a:tbl>
              <a:tblPr/>
              <a:tblGrid>
                <a:gridCol w="3009960"/>
                <a:gridCol w="133344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أصول غير المتداول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 (من قائمة الدخل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ضافات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تحديد التغير فى دائنو الأصول غير المتداول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يث أن هناك حساب دائنين فى نهاية السنة ، لذلك فالنفقة الرأسمالية هى(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لا يمثل مدفوعات نقدية صافية لأن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لا تشتمل على ضريبة المبيعات لكن مبلغ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تشتمل ضريبة المبيعات . ومع ذلك ، فهى نفس الطريقة التى تم بها الوصول الى رقم المدفوعات النقدية الى الموردين فى اجمالى التدفقات النقدية التشغيلية ، بمعنى ، النقدية المسددة تساو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شتريات ( صافية من ضريبة المبيعات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الدائنين ( الموردين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     مستخلص من قائمة التدفقات النقدي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066680"/>
          <a:ext cx="8839440" cy="534672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3124080"/>
                <a:gridCol w="129564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1.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حصلة من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509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أعباء الإهلا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مدفوعات النقدية إل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092.66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مخزو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سددة إلى/نيابة عن العامل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75.3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الأجور الصافية من ح/ الأجو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64.5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ضريبة مسددة من ح/ الأجو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39.8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0.16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الزيادة ف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3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عناصر أخرى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(الزيادة فى ض. المبيعات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2.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إستثمار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للحصول على العقارات و الآلات والمعدات وعناصر 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عقارات والآلات والمعدات و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مقابل الاستثمارات فى أو القروض الى المنشآت ال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استثمارات أو استرداد القروض الى منشآت 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فائدة المحصلة على الاستثمارات أو القروض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وزيعات المحصلة على الاستثمار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2438280" cy="1371600"/>
          </a:xfrm>
          <a:prstGeom prst="rect">
            <a:avLst/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وائد و التوزيعات يمكن إدراجها ضمن أنشطة 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تموي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أسهم أو أدوات حقوق الملكية الأخرى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سندات ، والقروض ، وأوراق الدفع ومن الاقتراض قصير وطويل الأجل ( بخلاف السحب على المكشوف الذى يعتبر فى العادة جزء من النقدية وما يعادلها )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رد المبالغ المقترضة ( بخلاف السحب على المكشوف 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عنصر الرأسمالي من مدفوعات الايجار التمويل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دفوعات لإعادة شراء أو استرداد أسهم المنشأة (أسهم الخزينة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عناصر غير العادية بقائمة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رتبط التدفقات النقدية بعناصر تم تصنيفها على أنها غير عادية فى قائمة الدخل ، فيجب اظهارها تحت العناوين النمطية المناسبة ، وفقا لطبيعة كل عنصر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ويجب تحديد التدفقات النقدية المرتبطة بالعناصر غير العادية في قائمة التدفقات النقدية أو في الإيضاحات المتممة لها ويجب تفسير العلاقة بين التدفقات النقدية والعنصر غير العادى الناتج عن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كون التدفقات النقدية غير عادية بسبب حجمها (بالنسبة للتدفقات النقدية من نفس الطبيعة) أو تكرارها ولكن ليس بسبب ارتباطها بعناصر تم معالجتها كعناصر غير عادية في قائمة الدخل ، يجب تقديم إفصاح كافي ليشرح سببها وطبيعت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جب إدراج التدفقات النقدية المرتبطة بالأنشطة غير المستمرة بشكل منفصل فى قائمة التدفقات النقدية أو فى الايضاحات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عاملات غير النقدية الرئيس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ا تدرج المعاملات غير النقدية الناتجة من أنشطة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استثمار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و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تمويل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قائمة التدفقات النقدية 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لحصول على الصورة الكاملة للتغير فى الموقف المالى للمنشأة يجب الإفصاح عن هذه المعاملات في الإيضاحات المتممة لقائمة التدفقات النقدية . مثل :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34340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شراء الأصول عن طريق الإيجار التمويلى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حويل الدين إلى حقوق ملكية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362320"/>
            <a:ext cx="838224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marL="100080" indent="0" algn="r" rtl="1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كون من النقدية في الخزينة والودائع تحت الطل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ي الاستثمارات قصيرة الأجل ، التي تتمتع بدرجة عالية من السيولة والتى يمكن تحويلها بشكل ثابت الى مبالغ نقدية محددة والتى تخضع الى مخاطر غير جوهرية للتغييرات في القيم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7339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ما فى حكم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قائمة التدفقات النقدية المجم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ما تمتلك الشركة شركات تابعة ، يجب أن تعتمد قوائم التدفقات النقدية على حسابات المجموعة ، ولذلك يجب أن يكون رقم البداية هو صافى التدفق النقدى من الأنشطة التشغيلية للمجمو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ستبعاد التدفقات النقدية التي تكون داخلية في المجموعة (ما بين شركات المجموعة) عند إعداد قائمة التدفقات النقدية المجمع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ناك نقاط خاصة يجب ملاحظتها بالنسبة لحقوق الأقلية ، الشركات الشقيقة ، المشروعات المشتركة وشراء والتخلص من الشركات التابع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r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افصاح عن التوزيعات المسددة لحقوق الأقلية بشكل منفصل ضمن الأنشطة التمويل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409840"/>
          <a:ext cx="8229600" cy="2941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486400"/>
              </a:tblGrid>
              <a:tr h="47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مثال – توزيعات حقوق الأقل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وزيعات المستحقة للأقلية (معلنة قبل نهاية السن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صافى أصول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الربح المجمع بعد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طلوب : ما هى التوزيعات المسددة لحقوق الأقلية خلال السنة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: 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38320"/>
          <a:ext cx="8610480" cy="3295800"/>
        </p:xfrm>
        <a:graphic>
          <a:graphicData uri="http://schemas.openxmlformats.org/drawingml/2006/table">
            <a:tbl>
              <a:tblPr/>
              <a:tblGrid>
                <a:gridCol w="3047760"/>
                <a:gridCol w="1295640"/>
                <a:gridCol w="3047760"/>
                <a:gridCol w="121932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حقوق الأقل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توزيعات مستحق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وزيعات مسددة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توز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صة الأقلية فى ربح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رتب على الشركات الشقيقة تدفق نقدى داخل أو خارج بالنسبة للمجموعة للمدى الذى يكون فيه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 استلام التوزيعات من أرباح الشركة الشقيق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دوث متاجرة بين المجموعة والشركة الشقيقة أو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جود استثمارات اضافية فى الشركة الشقيقة.  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دراج التدفقات النقدية لأى وحدة يتم المحاسبة عنها بطريقة حقوق الملكية فى قائمة التدفقات النقدية للمجموعة </a:t>
            </a:r>
            <a:r>
              <a:rPr b="1" lang="ar-SA" sz="2800" spc="-1" strike="noStrike" u="sng">
                <a:solidFill>
                  <a:srgbClr val="fafd00"/>
                </a:solidFill>
                <a:uFillTx/>
                <a:latin typeface="Times New Roman"/>
                <a:cs typeface="Simplified Arabic"/>
              </a:rPr>
              <a:t>فقط الى المدى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ذى حدثت فيه تدفقات نقدية فعلية بين المجموعة والوحدة محل الاهتمام . على سبيل المثال ، التوزيعات المحصلة نقدا و القروض التى تمت أو سدد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تاجرة بين المجموعة والشركة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ؤدى المتاجرة بين المجموعة والشركة الشقيقة الى أرصدة معاملات متبادلة بين الشركات فى الميزانية العمومية للمجموعة فى نهاية السنة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معالجة هذه الأرصدة بنفس الطريقة الخاصة بمعالجة أى أرصدة عملاء أو موردين تجاريين ، بمعنى أن التغير فى هذه الأرصدة يشكل جزء من التسوية بين ربح المجموعة وصافى التدفق النقدى الداخل للمجموعة من أنشطة التشغيل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ترتب على ذلك أنه عندما يتم سداد / تحصيل النقدية بالنسبة لأرصدة المعاملات بين الشركات ، فالنقدية يتم ادراجها ضمن النقدية المحصلة من العملاء / المدفوعات النقدية الى الموردين فى قائمة التدفقات النقدية . ومع ذلك ، قد يكون من المناسب عرض التدفق النقدى الداخل / الخارج بشكل منفصل عن العملاء والموردين الخارجيين للمجموع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غير فى الاستثمار فى 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شأ التغير فى الاستثمار فى الشركة الشقيقة عندما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شراء ملكية اضافية أو يتم بيع جزء من الملك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جراء قروض من / الى الشركة الشقيقة أو يتم استرداد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بلغ المقترض فيما سب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أن يظهر المقابل النقدى لهذه المعاملات ضمن قطاع الأنشطة  الاستثمارية فى قائمة التدفقات النقد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المشاريع المشترك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دير بالذكر فى هذا الصدد أن المعالجة القياسية للمحاسبة عن المشاريع المشتركة فى القوائم المالية المجمعة هى استخدام طريقة التجميع النسبى ، بينما أن طريقة حق الملكية هى المعالجة البديلة المسموح بها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اذا تم استخدام طريقة حق الملكية ، فان المحاسبة عن المشروع المشترك فى قائمة التدفقات النقدية تكون هى نفسها الخاصة بالشركة الشقيقة . واذا تم استخدام طريقة التجميع النسبى ، عندئذ فان قائمة التدفقات النقدية المجمعة يجب أن تشتمل على الحصة النسبية للشركة المستثمرة فى كل التدفقات النقدية للوحدة المسيطر عليها بشكل مشترك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عمليات شراء والتخلص من الشركات التابعة خلال السن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تشتر</a:t>
            </a:r>
            <a:r>
              <a:rPr b="1" lang="ar-EG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ى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شركة تابعة أو تترك المجموعة خلال السنة المالية ، يجب أن تتضمن التدفقات النقدية للمجموعة التدفقات النقدية للشركة التابعة محل الاهتمام عن نفس الفترة التى تم فيها ادراج نتائج الشركة التابعة فى قائمة دخل المجموع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تقرير عن المدفوعات لشراء الشركات التابعة والمتحصلات من بيع الشركات التابعة بشكل منفصل فى قائمة التدفقات النقدية تحت عنوان الأنشطة الاستثمارية . ويجب اظهار أى ارصدة نقدية أو ما يعادلها محصلة أو مسددة بشكل  منفصل (ليست بالصافى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أن يظهر ايضاح مرفق بقائمة التدفقات النقدية يلخص آثار عمليات الشراء والتخلص من الشركات التابعة ويوضح قيمة المقابل المكون من النقدية وما يعادلها ، والأصول والالتزامات المشتراة أو التى تم التخلص منها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الجوانب الحسابية لمعالجة عمليات الشراء والتخلص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ن جوهر عملية شراء الشركة التابعة هو أن المجموعة اشترت جميع اصول و التزامات الشركة التاب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إعداد قائمة التدفقات النقدية للمجموعة فإن أصول الشركة التابعة المشتراة لا تظهر بشكل منفصل (كنشاط استثمار) و إنما تظهر ضمن حركة التدفقات النقدية لنفس البنود على مستوى المجموعة كك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حديد قيمة التدفقات النقدية الداخلة أو الخارجة من المجموعة ككل (متضمنة الشركة التابعة) بنفس الأسلوب المتبع لكل بند على حده (حركة الحساب الرقابى للبند).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2433600"/>
          <a:ext cx="8610480" cy="259560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7432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نه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ا حدث خلال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د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ويشتمل على الشركة التابعة المقتناة خلال السنة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4666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م شراء الشركة التابعة وتتضمن صافى الأصول المشتراة مخزون بمبلغ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384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بدون الشركة التابعة التى لم تشترى بعد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3019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541008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لزيادة فى المخزون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74666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 – (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53019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+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9384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)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12263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952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مخزون الشركة التابعة المقتنا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ابع ال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38224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قد تعتبر عمليات السحب على المكشوف عنصر سلبى في النقدية وما يعادلها ، إلا أن عمليات الاقتراض البنكية الأطول أجلا تعتبر بصفة عامة أنشطة تمويل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سحب على المكشو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38224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Univers 45 Light"/>
                <a:cs typeface="Simplified Arabic"/>
              </a:rPr>
              <a:t>هي التدفقات الداخلة والتدفقات الخارجة من النقدية وما يعادل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197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تدفقات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981080"/>
          <a:ext cx="8534160" cy="3700440"/>
        </p:xfrm>
        <a:graphic>
          <a:graphicData uri="http://schemas.openxmlformats.org/drawingml/2006/table">
            <a:tbl>
              <a:tblPr/>
              <a:tblGrid>
                <a:gridCol w="1815840"/>
                <a:gridCol w="671832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شركة (أ) اشترت شركة (ب) خلال العام، و فيما يلى بيانات مستخرجة من حسابات المجموعة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أول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آخر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.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 العام المحمل على قائمة الدخ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المتخلص من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يمة العادلة لأصول (ب) عند شراء ( أ) ل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04920" y="571500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حسب التدفقات النقدية الخارجة من المجموعة لأصول غير متداولة خلال العام؟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الأصول غير المتداولة للشركة التابع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0000fa"/>
                </a:solidFill>
                <a:latin typeface="Univers 45 Light"/>
              </a:rPr>
              <a:t>حل المثال: تأثير الأصول غير المتداولة للشركة التابعة خلال العام </a:t>
            </a:r>
            <a:endParaRPr b="1" lang="en-US" sz="28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6760" y="1530360"/>
          <a:ext cx="8610480" cy="28004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1053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/ الأصول غير المتداولة – صافى القيمة الدفتر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ل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أصول المتخلص منها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الشركة التابعة عند الشرا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ضافات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4920" y="4952880"/>
            <a:ext cx="853416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 u="sng">
                <a:solidFill>
                  <a:srgbClr val="0000fa"/>
                </a:solidFill>
                <a:uFillTx/>
                <a:latin typeface="Univers 45 Light"/>
                <a:cs typeface="Arabic Transparent"/>
              </a:rPr>
              <a:t>الخلاصة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: التدفقات النقدية الخارجة لشراء أصول غير متداولة خلال العام بمبلغ </a:t>
            </a:r>
            <a:r>
              <a:rPr b="1" lang="en-US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4.400.000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خلص من الشركة التاب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عالج عملية التخلص باستخدام نفس المبادئ الخاصة بعملية الشراء. للمدى الذى تم فيه استلام النقدية كمقابل ، فان هذه النقدية سوف تظهر كمتحصلات تحت الأنشطة 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ذا كانت أى أصول أو التزامات للمجموعة سوف يتم تحليلها لتحديد التدفقات النقدية الداخلة / الخارجة ، فان  القيمة الدفترية لأصول / التزامات الشركة التابعة سوف تشكل جزء من هذا التحليل . أى أنه يتم استبعاد الأرصدة التى تخص الشركة التابعة المباعة من حركة الرصيد المقابل لها فى حسابات المجموعة وصولا للتغير النقدى للبند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مثال: ح/ الضرائب - عند التخلص من الشركة التابع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19040" y="1776240"/>
          <a:ext cx="8305560" cy="348120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429000"/>
                <a:gridCol w="83808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 / الضرائب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التزام المجموعة   (أ + ب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 (رصيد متم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عبء الضريبى عن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التزام ضريبى فى الشركة التابعة فى تاريخ التخل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التزام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9040" y="3276720"/>
            <a:ext cx="266724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استبعاد هذه الفروق ضمن تسويات صافى الربح وصولا التدفقات النقدية من التشغيل و تدرج التدفقات النقدية بالإجمالى (قبل إعادة التقيي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400" spc="-1" strike="noStrike">
                <a:solidFill>
                  <a:srgbClr val="0000fa"/>
                </a:solidFill>
                <a:latin typeface="Univers 45 Light"/>
              </a:rPr>
              <a:t>أرباح وخسائر الصرف الأجنبى فى قوائم التدفقات النقدية</a:t>
            </a:r>
            <a:endParaRPr b="1" lang="en-US" sz="3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605808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تجاهلها حيث تمثل تدفقات نقدية فعلية داخلة أو خارجة من المنشأة عند تسوية المعاملات الخاصة به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حذف هذه الفروق عند تحديد صافى التدفقات النقدية من انشطة التشغيل (حركة الحسابات الرقابية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أو التغيرات فى رأس المال العامل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المعام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استثمار أو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488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شترت الشركة (أ) مواد خ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00.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Z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. وقد تم ترجمة هذا المبلغ الى قيمته الدفترية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فى نهاية السنة ، تم سداد نصف قيمة البضاعة (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8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) والمبلغ المستحق المتبقى تم اعادة ترجمته بسعر الاقفال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النقدية تبلغ 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3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تكلفة المبيعات ت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10000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صلت الشركة على قرض طويل الأجل بالفرنك الفرنسى الذى تم تسجيله فى الميزانية العمومية للسن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سابقة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3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ولهذا الع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afd00"/>
                </a:solidFill>
                <a:latin typeface="Univers 45 Light"/>
                <a:cs typeface="Simplified Arabic"/>
              </a:rPr>
              <a:t>وضح أثر هذه المعاملات على قائمة التدفقات النقدية؟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المثال – مستخرج من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0" y="1633680"/>
          <a:ext cx="4419360" cy="2890800"/>
        </p:xfrm>
        <a:graphic>
          <a:graphicData uri="http://schemas.openxmlformats.org/drawingml/2006/table">
            <a:tbl>
              <a:tblPr/>
              <a:tblGrid>
                <a:gridCol w="1295280"/>
                <a:gridCol w="3124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حصل نقدا من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8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للموردي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1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1633680"/>
          <a:ext cx="4343400" cy="453852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رب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سارة فروق الصرف عل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رض بعملة أجنب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دفقات النقدية قب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ات فى رأس المال العا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 فى الموردين (الصاف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عد إعادة التقيي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410080" y="110016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087560"/>
            <a:ext cx="2819160" cy="53316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</a:t>
            </a:r>
            <a:r>
              <a:rPr b="1" lang="ar-EG" sz="2400" spc="-1" strike="noStrike">
                <a:solidFill>
                  <a:srgbClr val="ffffff"/>
                </a:solidFill>
                <a:latin typeface="Univers 65 Bold"/>
              </a:rPr>
              <a:t> غير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اعداد قوائم التدفقات النقدية المجمعة التى تنطوى على شركة تابعة أجنب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جزء من نشاط وحدة التقرير يتم تنفذه بواسطة شركة أجنبية ، يجب ادراج التدفقات النقدية لتلك الوحدة فى قائمة التدفق النقدى على الأساس المستخدم لترجمة نتائج تلك الأنشطة فى قائمة الدخل لوحدة التقرير (الطريقة المؤقتة – طريقة سعر الاقفال)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ستخدام نفس الأساس فى عرض التحركات فى المخزون ،والعملاء ، والموردين فى التسوية بين الربح و النقدية من الأنشطة التشغيلي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هناك قابلية لتحديد التدفقات النقدية ما بين المجموعة بشكل منفصل ويكون سعر الصرف الفعلى الذى حدثت به معروف ، قد يستخدم هذا السعر لترجمة التدفقات النقدية لكى نتأكد أنه قد تم حذفها عند التجميع 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طريقة المؤقت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استخدام الطريقة المؤقتة ، سوف ترتبط فروق الصرف عند ترجمة القوائم المالية للمنشأة الأجنبية بصافى الأصول النقدية فى بداية الفترة لتلك المنشأة ( بمعنى ، العملاء والموردون ، والنقدية و القروض ) فى ظل الطريقة المؤقتة ، كل فروق الصرف يتم إدراجها بقائمة الدخل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ما أن يتم تجاهلها و بالتالى يسمح بتسجيل كامل التغير فى الميزانية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أن فروق الصرف يتم ردها فى القسم الخاص بتسوية صافى الربح ويتم عرض التغيرات فى الميزانية بإجمالى قيمتها بدون إعادة التقييم 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استخدام طريقة سعر الاقفال / طريقة صافى الاستثمار ، سيرتبط فرق الصرف على ترجمة قوائم الوحدة الأجنبية بصافى أصول تلك الوحدة فى بداية الفترة ( بمعنى ، الأصول غير المتداولة ، المخزون ، العملاء ، النقدية ،الموردون ، القروض ) وكذلك ترتبط بالفرق بين السعر المتوسط وسعر اقفال الصرف عند ترجمة قائمة الدخ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فى ظل طريقة سعر الاقفال / صافى الاستثمار ، سيتم تحويل حصة المجموعة فى فروق صرف الترجمة مباشرة الى الاحتياطات. واذا كان هناك قروض بعملة أجنبية فى دفاتر الشركة القابضة ، فى العادة سوف تمر فروق الصرف الأجنبى من خلال قائمة الدخ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شغيل</a:t>
            </a:r>
            <a:r>
              <a:rPr b="1" lang="ar-SA" sz="2800" spc="-1" strike="noStrike">
                <a:solidFill>
                  <a:srgbClr val="fafd00"/>
                </a:solidFill>
                <a:latin typeface="Univers 45 Light"/>
                <a:ea typeface="Arabic Transparent"/>
              </a:rPr>
              <a:t>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رئيسية المنتجة للإيراد للمنشأة ، والأنشطة الأخرى التى لا تمثل أنشطة استثمار أو تمو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استثمار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أنشطة اقتناء واستبعاد الأصول طويلة الأجل والاستثمارات الأخرى التى لا تدخل فى حكم النقد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مويل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تى ينتج عنها تغيرات فى حجم ومكونات حقوق الملكية والاقتراض بالمنشأ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534160" cy="685800"/>
          </a:xfrm>
          <a:prstGeom prst="rect">
            <a:avLst/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تابع التعاري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تابع : 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طلب الأمر تحليل حركة التغير فى الأصول غير المتداولة لكى نحدد التدفق النقدى الحقيقى واستبعاد ذلك الجزء من التغير فى الأصول غير المتداولة الخاص بأرباح / خسارة صرف أجنب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طلب حقوق الأقلية التحليل لتحديد التوزيعات المسددة لهم ، يجب ملاحظة أن حقوق الأقلية تحتوى على حصته فى أرباح / خسارة الصرف الناتجة من ترجمة حسابات الشركة التابعة (يجب استبعادها لتحديد التدفقات النقدية)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قائمة التدفقات النقد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وفر معلومات تكون غير متاحة فى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ة وقوائم الدخ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ساعد مستخدمى القوائم المالية فى وضع أحكام عن مبلغ ، وتوقيت ودرجة التأكد من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عطى مؤشر عن العلاقة بين الربحية والقدرة على توليد النقدية ، وبالتالى عن جودة الربح المكتس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اعد محللوا ومستخدموا المعلومات المالية الآخرين فى فحص مدى دقة التوقعات النقدية المستقبلية التى قاموا بإعدادها فى فترات سابق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أثر التدفقات النقدية بالحكم الشخصى أو السياسات المحاسب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دود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وائم التدفق النقدى تعتمد على معلومات تاريخية وبالتالى لا تقدم معلومات كاملة لتقييم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ناك بعض الحدود لمعالجة التدفقات النقدية فعلى سبيل المثال ، قد تؤجل الشركة السداد للموردين حتى بعد نهاية السنة ، أو قد تعيد هيكلة المعاملات لدرجة أن رصيد النقدية يظهر بصورة أفض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دفق النقدى ضرورى للاستمرار فى الأجل القصير ، لكن للبقاء فى الأجل الطويل يجب أن يكون النشاط مربحا . وفى الغالب يكون من الضرورى التضحية بالتدفق النقدى فى الأجل القصير لكى تتولد الأرباح فى الأجل الطويل فرصيد النقدية الضخم ليس مؤشراً على الإدارة الجيد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r" pos="571500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Univers 45 Light"/>
              </a:rPr>
              <a:t>أسئلة و استفسارات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pic>
        <p:nvPicPr>
          <p:cNvPr id="213" name="hndshak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30480" y="55306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afd00"/>
                </a:solidFill>
                <a:latin typeface="MS Mincho"/>
                <a:cs typeface="AL-Bsher"/>
              </a:rPr>
              <a:t>أشكركم على حسن استماعك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عرض ا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403848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توضح المتحصلات والمدفوعات النقدية المتعلقة بالتشغيل (تشتمل ، بصفة خاصة ، على المتحصلات النقدية من العملاء ، والمدفوعات النقدية للموردين والمدفوعات النقدية الى أو نيابة عن العاملين ) ، وصولا الى صافى التدفقات النقدية من أنشطة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4038480" cy="441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بدأ بالربح قبل الضرائب ويتم تسويته لاستبعا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عاملات ذات الطبيعة غير النقدية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ى تأجيل أو استحقاق لمقبوضات أو لمدفوعات التشغيل الماضية أو المستقبلية (رأس المال العامل)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نود الإيرادات أو المصروفات المتعلقة بالتدفقات النقدية لأنشطة الاستثمار أو التمويل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</a:t>
            </a:r>
            <a:r>
              <a:rPr b="1" lang="ar-EG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غير</a:t>
            </a:r>
            <a:r>
              <a:rPr b="1" lang="ar-SA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مقارن ل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93800"/>
          <a:ext cx="8839440" cy="4249800"/>
        </p:xfrm>
        <a:graphic>
          <a:graphicData uri="http://schemas.openxmlformats.org/drawingml/2006/table">
            <a:tbl>
              <a:tblPr/>
              <a:tblGrid>
                <a:gridCol w="3276720"/>
                <a:gridCol w="1143000"/>
                <a:gridCol w="3200400"/>
                <a:gridCol w="121932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ربح قبل الضريب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حصلة من العم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4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عباء الإهلا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إل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.82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رباح بيع أصول ثابت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إلى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7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نيابة عن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دفوعات نقدية أخر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11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تحديد إجمالى التدفقات النقدية من أنشطة التشغيل (الطريقة المباشرة)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شجيع المنشآت على استخدام الطريقة المباشرة للتقرير عن صافى التدفق النقدى من الأنشطة التشغيلية . ويمكن تحديد التدفقات النقدية الملائمة مما يلى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أ)  من السجلات المحاسبية للمنشأة عن طريق تجميع المتحصلات النقدية والمدفوعات النقدية مباشر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(ب) م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ن مقارن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ات في بداية ونهاية المدة وقائمة الدخل عن السنة بإعداد حسابات رقابة ملخصة عن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( لتحديد النقدية المحصلة من العملاء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شتريات ( لتحديد المدفوعات النقدية إلى الموردين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رتبات ( لتحديد النقدية المسددة إلى ونيابة عن العمال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4:35Z</dcterms:created>
  <dc:creator>Amany Mahmoud</dc:creator>
  <dc:description/>
  <dc:language>en-US</dc:language>
  <cp:lastModifiedBy>Administrator</cp:lastModifiedBy>
  <dcterms:modified xsi:type="dcterms:W3CDTF">2005-03-08T17:56:59Z</dcterms:modified>
  <cp:revision>1923</cp:revision>
  <dc:subject/>
  <dc:title>PowerPoint Presentation</dc:title>
</cp:coreProperties>
</file>