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685800"/>
            <a:ext cx="800568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609480" y="914400"/>
            <a:ext cx="807732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قارير القطاعية</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a:t>
            </a:r>
            <a:r>
              <a:rPr b="1" lang="ar-EG" sz="2200" spc="-1" strike="noStrike">
                <a:solidFill>
                  <a:srgbClr val="ffffff"/>
                </a:solidFill>
                <a:latin typeface="Univers 45 Light"/>
              </a:rPr>
              <a:t>المعيار المحاسبي الدولي رقم </a:t>
            </a:r>
            <a:r>
              <a:rPr b="1" lang="ar-EG" sz="2200" spc="-1" strike="noStrike">
                <a:solidFill>
                  <a:srgbClr val="ffffff"/>
                </a:solidFill>
                <a:latin typeface="Univers 45 Light"/>
              </a:rPr>
              <a:t>14</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قدمة</a:t>
            </a:r>
            <a:endParaRPr b="0" lang="en-US" sz="2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ن كثيرا من المنشآت لها عدة أنواع ومستويات لأنشطتها أو أنها تعمل في عدة مواقع جغرافية لكل منها معدلات ربحية تختلف عن الأخرى فضلا عن اختلاف فرص التنمية ومستويات المخاطر المتعلقة بكل قطاع. وبالتالي قد لا يكون ممكنا لقارئ القوائم المالية أن يتفهم طبيعة الأنشطة المختلفة التي تقوم بها المنشاة ككل إلا إذا توافرت بعض تحليلات قطاعات القوائم المال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685800"/>
            <a:ext cx="8686800" cy="4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533520" y="1219320"/>
            <a:ext cx="815328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قطاعات التي يمكن التقرير عن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ن الاختيار الأساسي في تحديد القطاعات هو تحديد طبيعة القطاع الذي سيتم التقرير عنه وما إذا كان قطاع أعمال أو قطاع جغرافي أو لكليهم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ن متطلبات المعيار المحاسبي الدولي تقوم علي أساس النموذج الأساسي والنموذج الثانوي للقطاعات التي يمكن التقرير عنها.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ذا كان التصنيف على أساس النشاط هو النموذج الأساسي فإنه ينبغي التحليل الكامل على هذا الأساس ثم الإفصاح المحدود على أساس النموذج الثانوي الجغرافي والعكس صحيح فيما لو تم اختيار النموذج الجغرافي باعتباره النموذج الأساسي.</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380880"/>
            <a:ext cx="8610480" cy="412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299880" y="1371600"/>
            <a:ext cx="8920800" cy="277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هناك ثلاث اختيارات ممكنة للنموذج الأساسي:</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نشاط (تحليل على مستوى المنتجات أو الخدمات المختلف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جغرافيا تبعا لمكان وجود الأصول.</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جغرافيا تبعا لمكان وجود العملاء.</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228600" y="1066680"/>
            <a:ext cx="8534520" cy="42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80880" y="1143000"/>
            <a:ext cx="8458200" cy="478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تطلبات الإفصاح</a:t>
            </a: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سوية بين الأرقام القطاعية للإيرادات والأرباح والخسائر والأصول والالتزامات الخاصة بالقطاع مع الإجماليات بالقوائم المال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غييرات في السياسات المحاسبية للقطاع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نواع المنتجات أو الخدمات في كل 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دى الجغرافي لكل 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سياسات المحاسبية المستخدمة في إعداد تحليل القطاعات (يجب أن تكون مستخدمة في القوائم المالية الرئيس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762120"/>
            <a:ext cx="845820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457200" y="609480"/>
            <a:ext cx="815328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جالات المشاكل عن عملية التقرير عن القطاع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عريف القطاع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هناك طريقتين رئيسيتين لتعريف القطاع:</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طريقة المخاطر والعوائد</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عرف هذا الأسلوب القطاعات على أساس المخاطر المختلفة والعوائد الناتجة عن أنشطة الأعمال و المناطق الجغرافية. (المنهج التي أخذ به المعيار الدولي) ومن أهم مزاياه انه ينتج معلومات أكثر قابلية للمقارنة ومستمرة بمرور المدة، كما أنها تساعد على تقدير الربحية ومخاطر وعوائد الأجزاء التي تتكون منها المنشاة فضلا انه يعكس المنهج المستخدم في إعداد القوائم المالية الرئيس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04920" y="533520"/>
            <a:ext cx="845820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533520" y="914400"/>
            <a:ext cx="800100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طريقة المدخل الإدار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عرف هذا الأسلوب القطاعات تبعا للهيكل التنظيمي للمنشاة بمعنى أن الإدارة هي التي تحدد القطاعات التي يتم التقرير عنها وبالتالي يعرف القطاع بأنه جزء من المنشاة الذ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cs typeface="Times New Roman"/>
              </a:rPr>
              <a:t>يرتبط بنشاط المنشاة حيث يحقق إيرادات ويتكبد مصروفات.</a:t>
            </a:r>
            <a:endParaRPr b="0" lang="en-US" sz="22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cs typeface="Times New Roman"/>
              </a:rPr>
              <a:t>يتم مراجعة نتائج تشغيله بانتظام من الإدارة العليا بهدف تقييم الأداء واتخاذ القرارات.</a:t>
            </a:r>
            <a:endParaRPr b="0" lang="en-US" sz="22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cs typeface="Times New Roman"/>
              </a:rPr>
              <a:t>تتوافر معلومات مالية متعلقة به وتميزه عن باقي القطاعات.</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304920" y="533520"/>
            <a:ext cx="861048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457200" y="609480"/>
            <a:ext cx="8305920" cy="7132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كاليف المشتر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كاليف المشتركة هي تكاليف متعلقة بأكثر من قطاع ويتطلب المعيار بان التكاليف المشتركة للقطاعات على مستوى المنشأة يجب أن تستبعد من مصروفات القطاع عند عرض نتائجه.</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بيعات بين القطاعات داخلي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جب الإفصاح عن أساس أسعار التحويل بين قطاعات المنشاة حيث من الممكن زيادة ربحية قطاع عن طريق إجراء المبيعات بين القطاعات بقيمة أعلى من القيمة العاد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خصيص الفوائد الدائنة والفوائد المدين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عكس الفوائد المدينة والدائنة سياسة المنشاة في التمويل أكثر منه نتيجة القطاعات الفردية، وقد تتطلب المعيار انه في الظروف العادية يتعين استبعاد الفوائد من نتائج القطاعات إلا إذا لنشاط القطاع خدمات مالية بصورة رئيسية أو في حالة وجود قطاع يساهم بشكل كبير في تمويل باقي القطاعات نتيجة قدرته على توفير نقدية بصورة كبير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533520"/>
            <a:ext cx="815328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304920" y="533520"/>
            <a:ext cx="8458200" cy="71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هدف من عرض التقارير القطاعية</a:t>
            </a: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فهم أعمق لنتائج الموقف المالي للمنشأة من خلال عرض أفضل للأداء المتعلق بالمنشاة وبالتالي تقدير أفضل للتوقعات المستقبل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دراك تأثير التغيرات في المكونات المهمة لأنشطة المنشأة على نشاطها ككل.</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قدير المخاطر والعوائد على المنشأة عن كل قطاع على حد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نطاق تطبيق المعيار</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طبق معيار المحاسبة الدولي رقم </a:t>
            </a:r>
            <a:r>
              <a:rPr b="1" lang="ar-EG" sz="2200" spc="-1" strike="noStrike">
                <a:solidFill>
                  <a:srgbClr val="ffffff"/>
                </a:solidFill>
                <a:latin typeface="Univers 45 Light"/>
              </a:rPr>
              <a:t>14</a:t>
            </a:r>
            <a:r>
              <a:rPr b="1" lang="ar-EG" sz="2200" spc="-1" strike="noStrike">
                <a:solidFill>
                  <a:srgbClr val="ffffff"/>
                </a:solidFill>
                <a:latin typeface="Univers 45 Light"/>
              </a:rPr>
              <a:t> فقط على المنشآت المطروحة للاكتتاب العام أو في طريقها إلى الطرح في اكتتاب عام، كما يشجع المعيار المنشآت الأخرى على الإفصاح عن أداء القطاعات المختلف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عندما تعرض القوائم المالية المجمعة مع القوائم المالية للشركة القابضة يتم الإفصاح عن القطاعات بصورة مجمعة فقط.</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1219320"/>
            <a:ext cx="822960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457200" y="685800"/>
            <a:ext cx="8305920" cy="5791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عريفات</a:t>
            </a: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قطاع الأعمال</a:t>
            </a: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عرف قطاع الإعمال بأنه إحدى المكونات المميزة للمنشأة التي تكون مرتبطة مع بعضها بتوفير منتج معين أو خدمة معينة أو مجموعة من المنتجات أو الخدمات والتي تكون معرضة لمخاطر وعوائد مختلفة عن القطاعات الأخرى.</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ومن العوامل التي تستخدم عند تحديد ما إذا كانت المنتجات والخدمات مترابط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طبيعة المنتجات أو الخدم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طبيعة عملية الإنتاج.</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نوع أو مستوى عملاء هذه الخدم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طريقة المستخدمة لتوزيع المنتجات أو تقديم الخدم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طبيعة البيئة المنظم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457200"/>
            <a:ext cx="838188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57200" y="762120"/>
            <a:ext cx="8229600" cy="57916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قطاع الجغرافي</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عرف القطاع الجغرافي بأنه إحدى المكونات المميزة للمنشأة تقوم مرتبطة مع بعضها بتقديم منتجات أو خدمات في بيئة اقتصادية معينة وتكون عرضة لمخاطر وعوائد مختلفة عن تلك الوحدات التشغيلية التي تعمل في بيئة اقتصادية أخرى.</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ومن العوامل التي تستخدم عند تحديد القطاعات الجغراف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شابه في الظروف الاقتصادية والسياس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علاقة بين التشغيل في المناطق الجغرافية المختلف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قارب التشغيل.</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خاطر المصاحبة للتشغيل في مناطق معين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بادل قواعد الرقاب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خاطر العمل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1371600"/>
            <a:ext cx="853416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57200" y="304920"/>
            <a:ext cx="8305920" cy="7802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تقرير عن ال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تم التقرير عن قطاع الأعمال أو القطاع الجغرافي متى توافرت فيه التعريفات والشروط السابقة، وبالتالي يتم التقرير عنها منفصلا وفقا لمتطلبات هذا المعيار.</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يرادات ال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عرف إيراد القطاع بأنه:</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إيراد الذي يتم التقرير عنه منفصلا بقائمة الدخل للمنشاة المرتبطة مباشرة بالقطاع. و</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ي جزء من الإيراد المتعلق بإيرادات المنشاة وتحقق عن طريق القطاع على أساس واقعي من مبيعات لعملاء خارجيين أو معاملات مع قطاعات أخرى لنفس المنشأ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حصة في المشروعات المشتركة من أرباح أو خسائر أو الحصص في نتائج الاستثمارات الأخرى التي يتم المحاسبة عنها بطريقة حقوق الملك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حصة في إيرادات الشركة التابعة التي تدرج في القوائم المالية المجمع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04920" y="380880"/>
            <a:ext cx="8534160" cy="412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1490040" y="838080"/>
            <a:ext cx="12194280" cy="4451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لا يتضمن إيراد القطاع البنود التال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عناصر غير العاد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فوائد أو توزيعات الأرباح.</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رباح بيع الاستثمار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صروفات ال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تعرف مصروف القطاع بأنه:</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صروف الناتج عن الأنشطة التشغيلية للقطاع والتي تكون مرتبطة مباشرة به. و</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جزء المرتبط بالمصروفات التي يمكن تحميلها على القطاع باستخدام أسس مقبول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609480"/>
            <a:ext cx="8534160" cy="42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04920" y="533520"/>
            <a:ext cx="8458200" cy="57916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لا تتضمن مصروفات القطاع:</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عناصر غير العاد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فوائد التمويلية.</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خسائر بيع الاستثمار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خسائر المنشاة عن حصتها في المشروعات المشتركة أو الاستثمارات التي يتم المحاسبة عنها بطريقة حقوق الملكية باعتبارها قد أدرجت ضمن إيرادات القطاع كما سبق ذكره.</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صروفات ضريبة الدخل.</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صروفات إدارية وعمومية ومصروفات المركز الرئيسي والمصروفات الأخرى التي تنشأ على مستوى المنشاة كك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80880" y="533520"/>
            <a:ext cx="8458200" cy="4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80880" y="990720"/>
            <a:ext cx="8382240" cy="6126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عيار تحديد التقرير القطاعي</a:t>
            </a:r>
            <a:endParaRPr b="0" lang="en-US" sz="2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عند تحديد ما إذا كان القطاع هو قطاع يتعين التقرير عنه، يتم تطبيق قاعدة الـ </a:t>
            </a:r>
            <a:r>
              <a:rPr b="1" lang="ar-EG" sz="2200" spc="-1" strike="noStrike">
                <a:solidFill>
                  <a:srgbClr val="ffffff"/>
                </a:solidFill>
                <a:latin typeface="Univers 45 Light"/>
              </a:rPr>
              <a:t>1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وطبقا لهذه القاعدة فإن القطاع يكون قطاع تقرير إذا كانت غالبية مبيعاته لعملاء خارج المنشأة (ليس بين الأقسام أو القطاعات الداخلية للمنشأة) وله على الأقل </a:t>
            </a:r>
            <a:r>
              <a:rPr b="1" lang="ar-EG" sz="2200" spc="-1" strike="noStrike">
                <a:solidFill>
                  <a:srgbClr val="ffffff"/>
                </a:solidFill>
                <a:latin typeface="Univers 45 Light"/>
              </a:rPr>
              <a:t>10</a:t>
            </a:r>
            <a:r>
              <a:rPr b="1" lang="ar-EG" sz="2200" spc="-1" strike="noStrike">
                <a:solidFill>
                  <a:srgbClr val="ffffff"/>
                </a:solidFill>
                <a:latin typeface="Univers 45 Light"/>
              </a:rPr>
              <a:t>% من:</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جمالي المبيعات بما في ذلك المبيعات للقطاعات أو الأقسام الأخرى.</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جمالي الأرباح المحققة لكل القطاعات أو من إجمال الخسائر المحققة لكل القطاع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جمال الأصول لكل القطاعات.</a:t>
            </a: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مكن للقطاع الأقل من هذا المستوى أن يتم التقرير عنه منفصلا وذلك من خلال دمجه مع قطاع مشابه له.</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457200"/>
            <a:ext cx="8686800" cy="1099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sp>
        <p:nvSpPr>
          <p:cNvPr id="98" name=""/>
          <p:cNvSpPr/>
          <p:nvPr/>
        </p:nvSpPr>
        <p:spPr>
          <a:xfrm>
            <a:off x="380880" y="1143000"/>
            <a:ext cx="838224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يجب أن تغطى القطاعات التي تم التقرير عنها منفصلة </a:t>
            </a:r>
            <a:r>
              <a:rPr b="1" lang="ar-EG" sz="2200" spc="-1" strike="noStrike">
                <a:solidFill>
                  <a:srgbClr val="ffffff"/>
                </a:solidFill>
                <a:latin typeface="Univers 45 Light"/>
              </a:rPr>
              <a:t>75</a:t>
            </a:r>
            <a:r>
              <a:rPr b="1" lang="ar-EG" sz="2200" spc="-1" strike="noStrike">
                <a:solidFill>
                  <a:srgbClr val="ffffff"/>
                </a:solidFill>
                <a:latin typeface="Univers 45 Light"/>
              </a:rPr>
              <a:t>% على الأقل من إجمالي الإيرادات المجمعة أو إيرادات المنشأة. وفى حالة أن إجمالي القطاعات التي تم التقرير عنها لم تصل إلى النسبة المحددة يتم اختيار قطاع آخر للوصول إلى تلك النسبة وبالتالي لا يشترط استيفاء القطاع المختار للشروط السابق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عند التقرير عن القطاع لأول مرة فإن أرقام المقارنة يجب إعادة تبويبها لتتضمن القطاع الجديد إلا إذا كان ذلك غير عمليا وبالتالي يتم الإفصاح عن عدم القدرة على عرض أرقام المقارنة للقطاع الجديد وأسباب ذلك.</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في حالة حدوث تغيير في نتائج أحد القطاعات التي يتم التقرير عنها (انخفض عن نسبة الـ </a:t>
            </a:r>
            <a:r>
              <a:rPr b="1" lang="ar-EG" sz="2200" spc="-1" strike="noStrike">
                <a:solidFill>
                  <a:srgbClr val="ffffff"/>
                </a:solidFill>
                <a:latin typeface="Univers 45 Light"/>
              </a:rPr>
              <a:t>10</a:t>
            </a:r>
            <a:r>
              <a:rPr b="1" lang="ar-EG" sz="2200" spc="-1" strike="noStrike">
                <a:solidFill>
                  <a:srgbClr val="ffffff"/>
                </a:solidFill>
                <a:latin typeface="Univers 45 Light"/>
              </a:rPr>
              <a:t>%) قد ترى المنشاة الاستمرار في التقرير عنه.</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13:27Z</dcterms:created>
  <dc:creator>Administrator</dc:creator>
  <dc:description/>
  <dc:language>en-US</dc:language>
  <cp:lastModifiedBy>KPMG</cp:lastModifiedBy>
  <dcterms:modified xsi:type="dcterms:W3CDTF">2005-05-05T10:37:44Z</dcterms:modified>
  <cp:revision>10</cp:revision>
  <dc:subject/>
  <dc:title>PowerPoint Presentation</dc:title>
</cp:coreProperties>
</file>