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7E9-456F-4579-9DFB-6A855300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1233-EB45-4DF7-9D31-20D2DEF2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87B-8F91-4AAA-B604-B249FAA2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481-5C70-4DB1-80E3-75B1661A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7876-21C8-41CD-93F6-50F6D8BE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0936-A4C0-4C9C-BF94-47A0E998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FC4-D1F3-4458-AC16-11BE3DE5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0072-DDB2-4D98-A2AB-666043C1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C748-BEB2-4DEF-A617-99A954A9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373-D3C1-49C2-8B52-418DED75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2C48-6136-49C4-8044-E654BCA6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1A1-C32B-4E0D-BB05-9F31DDA0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D358-5DDF-48EB-9AEB-9D0630A84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61084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عقود الانشاء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سن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سن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سن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س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إجمالى سعر بيع عقد الأنشاء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0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0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0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تكاليف المقدرة لإجمالى الاعمال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0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2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2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تكاليف التى تمت حتى تاريخه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5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4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6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تكاليف المتكبدة حتى تاريخه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5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4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6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إجمالى تكاليف العقد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0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2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2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نسبة الاتمام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5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%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75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%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%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إجمالى إيرادات العقد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0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0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0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ناقصا: إجمالى التكاليف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0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2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2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إجمالى الارباح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0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8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نسبة الاتمام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5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%    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75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%    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%  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ارباح المحققة حتى تاريخه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5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6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8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أرباح التى تخص العام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5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0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7T12:56:24Z</dcterms:created>
  <dc:creator>Administrator</dc:creator>
  <dc:description/>
  <dc:language>en-US</dc:language>
  <cp:lastModifiedBy>Administrator</cp:lastModifiedBy>
  <dcterms:modified xsi:type="dcterms:W3CDTF">2003-06-07T12:56:48Z</dcterms:modified>
  <cp:revision>1</cp:revision>
  <dc:subject/>
  <dc:title>PowerPoint Presentation</dc:title>
</cp:coreProperties>
</file>