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457200" y="457200"/>
            <a:ext cx="8229600" cy="56412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abic)"/>
              </a:rPr>
              <a:t>المحاسبة عن جوهر المعاملات</a:t>
            </a:r>
            <a:endParaRPr b="0" lang="en-US" sz="28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ما يلى:</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همية تسجيل المعاملة طبقل للجوهر وليس الشكل القانونى.</a:t>
            </a: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وصف المعالم التى تشير الى إختلاف جوهر المعاملة عن شكلها القانونى.</a:t>
            </a: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حاسبة عن البضائع المباعة على أساس البيع أو الرد.</a:t>
            </a: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حاسبة عن عمليات بضاعة الامانة.</a:t>
            </a: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تفاقيات البيع مع التعهد بإعادة الشراء أو الشراء مع التعهد بإعادة البيع.</a:t>
            </a: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مليات البيع مع إعادة التاجير.</a:t>
            </a: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مليات خصم المدينين.</a:t>
            </a: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صول الضامن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04920" y="304920"/>
            <a:ext cx="853416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يع الذمم المدينة</a:t>
            </a:r>
            <a:endParaRPr b="0" lang="en-US" sz="2400" spc="-1" strike="noStrike">
              <a:solidFill>
                <a:srgbClr val="ffffff"/>
              </a:solidFill>
              <a:latin typeface="Times New Roman"/>
            </a:endParaRPr>
          </a:p>
          <a:p>
            <a:pPr marL="168120" indent="-1681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و إحدى الطرق الممتازة للحصول على الاموال، وتختلف درجة سيطرة المشترى على تلك الأرصدة من إتفاقية الى اخرى.</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نشأ الشق المحاسبى عند إستلام النقود مبكرا عن تاريخ إستلامها لولم يتم بيعها وبالتالى تتوقف المعالجة على ما إذا كان البائع إستلم المقابل ام لا ومن ثم تسجيلها قرضا بضمان الذمم المدينة او مبالغ دائنة تخفض بها الذمم المدينة.</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عيار فى تسجيل المعاملة المتعلقة ببيع الذمم هو من يتحمل مخاطر التحصيل البطىء ومن يحصل على المنافع المتعلقة بأرصدة الذمم (السداد المبكر).</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إذا كانت هناك تكلفة تمويلية تعكس احداث تقع بعد تاريخ تحويل المبالغ فإن المعاملة تمثل إقراضا، اما إذا كانت التكلفة محددة عندما تم التحويل دون وجود اعباء أخرى متغيرة فإن المعاملة تعتبر بيعا.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228600" y="345960"/>
            <a:ext cx="861048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ث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ى </a:t>
            </a:r>
            <a:r>
              <a:rPr b="0" lang="ar-SA" sz="2400" spc="-1" strike="noStrike">
                <a:solidFill>
                  <a:srgbClr val="ffffff"/>
                </a:solidFill>
                <a:latin typeface="Times New Roman"/>
              </a:rPr>
              <a:t>1/1/2002</a:t>
            </a:r>
            <a:r>
              <a:rPr b="0" lang="ar-SA" sz="2400" spc="-1" strike="noStrike">
                <a:solidFill>
                  <a:srgbClr val="ffffff"/>
                </a:solidFill>
                <a:latin typeface="Times New Roman"/>
              </a:rPr>
              <a:t> أبرمت شركة الرواد إتفاقية مع شركة الأهلى نقلت بموجبها ملكية الذمم التى تخصها لتصبح بأسم شركة الأهلى على أن يتم تخفيض الديون غير الجيدة، وذلك مقابل </a:t>
            </a:r>
            <a:r>
              <a:rPr b="0" lang="ar-SA" sz="2400" spc="-1" strike="noStrike">
                <a:solidFill>
                  <a:srgbClr val="ffffff"/>
                </a:solidFill>
                <a:latin typeface="Times New Roman"/>
              </a:rPr>
              <a:t>90</a:t>
            </a:r>
            <a:r>
              <a:rPr b="0" lang="ar-SA" sz="2400" spc="-1" strike="noStrike">
                <a:solidFill>
                  <a:srgbClr val="ffffff"/>
                </a:solidFill>
                <a:latin typeface="Times New Roman"/>
              </a:rPr>
              <a:t>% من صافى الذمم المدين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نص الأتفاقية على ان لشركة الرواد الحق فى الحصول مستقبلا على مبلغ يتوقف على إمكانية ووقت سداد الذمم، كما حصلت شركة الاهلى على حق الرجوع على شركة الرواد فى حالة أى خسائر إضافية بحد أقصى تم الاتفاق عليه.</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ى </a:t>
            </a:r>
            <a:r>
              <a:rPr b="0" lang="ar-SA" sz="2400" spc="-1" strike="noStrike">
                <a:solidFill>
                  <a:srgbClr val="ffffff"/>
                </a:solidFill>
                <a:latin typeface="Times New Roman"/>
              </a:rPr>
              <a:t>31/12/2001</a:t>
            </a:r>
            <a:r>
              <a:rPr b="0" lang="ar-SA" sz="2400" spc="-1" strike="noStrike">
                <a:solidFill>
                  <a:srgbClr val="ffffff"/>
                </a:solidFill>
                <a:latin typeface="Times New Roman"/>
              </a:rPr>
              <a:t> كانت ملكية الذمم قد إنتقلت مقابل فاتورة بمبلغ </a:t>
            </a:r>
            <a:r>
              <a:rPr b="0" lang="ar-SA" sz="2400" spc="-1" strike="noStrike">
                <a:solidFill>
                  <a:srgbClr val="ffffff"/>
                </a:solidFill>
                <a:latin typeface="Times New Roman"/>
              </a:rPr>
              <a:t>10</a:t>
            </a:r>
            <a:r>
              <a:rPr b="0" lang="ar-SA" sz="2400" spc="-1" strike="noStrike">
                <a:solidFill>
                  <a:srgbClr val="ffffff"/>
                </a:solidFill>
                <a:latin typeface="Times New Roman"/>
              </a:rPr>
              <a:t> مليون جنيه مخصوما منها مخصص الديون بمبلغ </a:t>
            </a:r>
            <a:r>
              <a:rPr b="0" lang="ar-SA" sz="2400" spc="-1" strike="noStrike">
                <a:solidFill>
                  <a:srgbClr val="ffffff"/>
                </a:solidFill>
                <a:latin typeface="Times New Roman"/>
              </a:rPr>
              <a:t>300000</a:t>
            </a:r>
            <a:r>
              <a:rPr b="0" lang="ar-SA" sz="2400" spc="-1" strike="noStrike">
                <a:solidFill>
                  <a:srgbClr val="ffffff"/>
                </a:solidFill>
                <a:latin typeface="Times New Roman"/>
              </a:rPr>
              <a:t> جنيها كحد أقصى محتمل لتغطية الخسائر المحتمل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80880" y="304920"/>
            <a:ext cx="8458200" cy="7294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ح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حتفظ شركة الرواد بمخاطر بطىء عملية السداد والديون غير الجيدة وبالتالى فإن جوهر المعاملة هى عملية إقتراض بضمان الذمم المدين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مويل سيتم إسترداده من متحصلات الذمم المدينة وبالتالى لا يوجد إحتمال لأى مطالبات ضد الشركة بخلاف المتحصلات الناتجة عن تحصيل الذمم المدين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وجد حق الرجوع على شركة الرواد فى حالة تكبد خسائر وحتى سقف معين.</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يزانية فى </a:t>
            </a:r>
            <a:r>
              <a:rPr b="0" lang="ar-SA" sz="2400" spc="-1" strike="noStrike">
                <a:solidFill>
                  <a:srgbClr val="ffffff"/>
                </a:solidFill>
                <a:latin typeface="Times New Roman"/>
              </a:rPr>
              <a:t>31/12/2001</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ذمم المدينة (بعد خصم الديون غير الجيد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9.7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خصم : متحصلات غير قابلة للرد (</a:t>
            </a:r>
            <a:r>
              <a:rPr b="0" lang="ar-SA" sz="2400" spc="-1" strike="noStrike">
                <a:solidFill>
                  <a:srgbClr val="ffffff"/>
                </a:solidFill>
                <a:latin typeface="Times New Roman"/>
              </a:rPr>
              <a:t>90</a:t>
            </a:r>
            <a:r>
              <a:rPr b="0" lang="ar-SA" sz="2400" spc="-1" strike="noStrike">
                <a:solidFill>
                  <a:srgbClr val="ffffff"/>
                </a:solidFill>
                <a:latin typeface="Times New Roman"/>
              </a:rPr>
              <a:t>%)</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8.63</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صافى</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7</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flipH="1">
            <a:off x="2133360" y="5334120"/>
            <a:ext cx="1447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H="1">
            <a:off x="2133360" y="594360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45960" y="533520"/>
            <a:ext cx="8340840" cy="6006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أصول الضامن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قصد بالضمان هنا تحويل أصول الى شركات اخرى ذات غرض خاص والتى تمول شراء هذه الاصول بإصدار سند دين. وتعتبر الاصول ضامنة لذلك السند على الرغم من أن حاملى السند غير معرضين لأية مخاطر تتعلق بتلك الاصول (قروض التمويل العقارى)</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ظلرا لأن الشركة المحولة للأصول تحتفظ بالمنافع والمخاطر المتعلقة بالأصل فتبقى القروض العقارية كأصل لديها كما تظهر المبالغ التى تستلمها كإلتزامات.</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عدم الاعتراف بالاصل (إستبعاده) يكون تطبيقه مناسبا فقط إذا لم تحتفظ الشركة المحولة للأصل بالمنافع والمخاطر الرئيسية المتعلقة ب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80880" y="228600"/>
            <a:ext cx="8534520" cy="885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مثال:</a:t>
            </a:r>
            <a:endParaRPr b="0" lang="en-US" sz="2200" spc="-1" strike="noStrike">
              <a:solidFill>
                <a:srgbClr val="ffffff"/>
              </a:solidFill>
              <a:latin typeface="Times New Roman"/>
            </a:endParaRPr>
          </a:p>
          <a:p>
            <a:pPr marL="457200" indent="-45720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فى أول يناير </a:t>
            </a:r>
            <a:r>
              <a:rPr b="1" lang="ar-SA" sz="2200" spc="-1" strike="noStrike">
                <a:solidFill>
                  <a:srgbClr val="ffffff"/>
                </a:solidFill>
                <a:latin typeface="Univers 45 Light"/>
                <a:ea typeface="Times New Roman (Arabic)"/>
              </a:rPr>
              <a:t>2000</a:t>
            </a:r>
            <a:r>
              <a:rPr b="1" lang="ar-SA" sz="2200" spc="-1" strike="noStrike">
                <a:solidFill>
                  <a:srgbClr val="ffffff"/>
                </a:solidFill>
                <a:latin typeface="Univers 45 Light"/>
                <a:ea typeface="Times New Roman (Arabic)"/>
              </a:rPr>
              <a:t> أبرمت شركة الزهور إتفاقية إستلمت بموجبها سيارات على سبيل الأمانة من شركة القاهرة وهى شركة كبرى للتصنيع، وكانت شروط الإتفاقية على النحو التالى:</a:t>
            </a:r>
            <a:endParaRPr b="0" lang="en-US" sz="2200" spc="-1" strike="noStrike">
              <a:solidFill>
                <a:srgbClr val="ffffff"/>
              </a:solidFill>
              <a:latin typeface="Times New Roman"/>
            </a:endParaRPr>
          </a:p>
          <a:p>
            <a:pPr marL="457200" indent="-457200" algn="just"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عند الإستلام تظل السيارات قانونا مملوكة لشركة القاهرة.</a:t>
            </a:r>
            <a:endParaRPr b="0" lang="en-US" sz="2200" spc="-1" strike="noStrike">
              <a:solidFill>
                <a:srgbClr val="ffffff"/>
              </a:solidFill>
              <a:latin typeface="Times New Roman"/>
            </a:endParaRPr>
          </a:p>
          <a:p>
            <a:pPr marL="457200" indent="-457200" algn="just"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تنتقل الملكية القانونية للسيارات لشركة الزهور عند دخولها فى إرتباطات ملزمة ببيع السيارات للغير أو عند إنقضاء ستة شهور من تاريخ تسليم السيارات لها.</a:t>
            </a:r>
            <a:endParaRPr b="0" lang="en-US" sz="2200" spc="-1" strike="noStrike">
              <a:solidFill>
                <a:srgbClr val="ffffff"/>
              </a:solidFill>
              <a:latin typeface="Times New Roman"/>
            </a:endParaRPr>
          </a:p>
          <a:p>
            <a:pPr marL="457200" indent="-457200" algn="just"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فى تاريخ إنتقال الملكية تحرر شركة القاهرة فاتورة بالسيارات المباعة بسعر البيع الخاص بشركة القاهرة فى تاريخ التسليم مضافا اليه </a:t>
            </a:r>
            <a:r>
              <a:rPr b="1" lang="ar-SA" sz="2200" spc="-1" strike="noStrike">
                <a:solidFill>
                  <a:srgbClr val="ffffff"/>
                </a:solidFill>
                <a:latin typeface="Univers 45 Light"/>
                <a:ea typeface="Times New Roman (Arabic)"/>
              </a:rPr>
              <a:t>1</a:t>
            </a:r>
            <a:r>
              <a:rPr b="1" lang="ar-SA" sz="2200" spc="-1" strike="noStrike">
                <a:solidFill>
                  <a:srgbClr val="ffffff"/>
                </a:solidFill>
                <a:latin typeface="Univers 45 Light"/>
                <a:ea typeface="Times New Roman (Arabic)"/>
              </a:rPr>
              <a:t>% عن كل شهر تظل فيه السيارات على سبيل الأمانة لدى شركة الزهور وأى تغيير فى سعر البيع لدى شركة القاهرة بعد تاريخ التسليم لا يغير المبلغ الذى تدفعه شركة الزهور.</a:t>
            </a:r>
            <a:endParaRPr b="0" lang="en-US" sz="2200" spc="-1" strike="noStrike">
              <a:solidFill>
                <a:srgbClr val="ffffff"/>
              </a:solidFill>
              <a:latin typeface="Times New Roman"/>
            </a:endParaRPr>
          </a:p>
          <a:p>
            <a:pPr marL="457200" indent="-457200" algn="just"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فى أى وقت بين تاريخ التسليم وتاريخ إنتقال الملكية القانونية لشركة الزهور يكون لدى شركة الزهور الحق فى إرجاع السيارات بشرط ألا يكون قد أصابها تلف أو تقادم على أن تدفع غرامة على أساس نسبة من سعر بيع الفاتورة محددة على أساس المدة التى إحتفظت بها شركة الزهور لتلك البضاعة.</a:t>
            </a:r>
            <a:endParaRPr b="0" lang="en-US" sz="2200" spc="-1" strike="noStrike">
              <a:solidFill>
                <a:srgbClr val="ffffff"/>
              </a:solidFill>
              <a:latin typeface="Times New Roman"/>
            </a:endParaRPr>
          </a:p>
          <a:p>
            <a:pPr marL="457200" indent="-457200" algn="just"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ليس لدى شركة القاهرة الحق فى طلب إرجاع البضاعة ما لم تصبح شركة الزهور معسر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04920" y="380880"/>
            <a:ext cx="8610480" cy="634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عنوان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تقرير بشأن المعالجة المحاسبية للبضائع المستلمة من شركة القاهرة“</a:t>
            </a:r>
            <a:endParaRPr b="0" lang="en-US" sz="2200" spc="-1" strike="noStrike">
              <a:solidFill>
                <a:srgbClr val="ffffff"/>
              </a:solidFill>
              <a:latin typeface="Times New Roman"/>
            </a:endParaRPr>
          </a:p>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ى: -------------------------------------------</a:t>
            </a:r>
            <a:endParaRPr b="0" lang="en-US" sz="2200" spc="-1" strike="noStrike">
              <a:solidFill>
                <a:srgbClr val="ffffff"/>
              </a:solidFill>
              <a:latin typeface="Times New Roman"/>
            </a:endParaRPr>
          </a:p>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من : -------------------------------------------</a:t>
            </a:r>
            <a:endParaRPr b="0" lang="en-US" sz="2200" spc="-1" strike="noStrike">
              <a:solidFill>
                <a:srgbClr val="ffffff"/>
              </a:solidFill>
              <a:latin typeface="Times New Roman"/>
            </a:endParaRPr>
          </a:p>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تالريخ: -----------------------------------------</a:t>
            </a:r>
            <a:endParaRPr b="0" lang="en-US" sz="2200" spc="-1" strike="noStrike">
              <a:solidFill>
                <a:srgbClr val="ffffff"/>
              </a:solidFill>
              <a:latin typeface="Times New Roman"/>
            </a:endParaRPr>
          </a:p>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r"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إثبات الأصول والإلتزامات</a:t>
            </a:r>
            <a:endParaRPr b="0" lang="en-US" sz="2200" spc="-1" strike="noStrike">
              <a:solidFill>
                <a:srgbClr val="ffffff"/>
              </a:solidFill>
              <a:latin typeface="Times New Roman"/>
            </a:endParaRPr>
          </a:p>
          <a:p>
            <a:pPr marL="457200" indent="-45720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0" lang="ar-SA" sz="2200" spc="-1" strike="noStrike">
                <a:solidFill>
                  <a:srgbClr val="ffffff"/>
                </a:solidFill>
                <a:latin typeface="Univers 45 Light"/>
                <a:cs typeface="Times New Roman (Arabic)"/>
              </a:rPr>
              <a:t>إن المعيار الرئيسى لمفهوم الجوهر قبل الشكل هو ضرورة قيام المنشاة بإثبات الجوهر التجارى للمعاملات وليس شكلها القانونى ، ويتم ذلك من خلال تحديد أثر المعاملة على أصول وإلتزامات المنشأة.</a:t>
            </a:r>
            <a:endParaRPr b="0" lang="en-US" sz="2200" spc="-1" strike="noStrike">
              <a:solidFill>
                <a:srgbClr val="ffffff"/>
              </a:solidFill>
              <a:latin typeface="Times New Roman"/>
            </a:endParaRPr>
          </a:p>
          <a:p>
            <a:pPr marL="457200" indent="-45720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تعريف الأصل: </a:t>
            </a:r>
            <a:r>
              <a:rPr b="0" lang="ar-SA" sz="2200" spc="-1" strike="noStrike">
                <a:solidFill>
                  <a:srgbClr val="ffffff"/>
                </a:solidFill>
                <a:latin typeface="Univers 45 Light"/>
                <a:cs typeface="Times New Roman (Arabic)"/>
              </a:rPr>
              <a:t>أحد الموارد التى تسيطر علية المنشأة نتيجة لأحداث وقعت فى الماضى ومن المتوقع أن يدر منافع إقتصادية مستقبلية للمنشأة ( جلب المنافع الأقتصادية المستقبلية – حجب الغير عن الوصول الى المنافع – التعرض للمخاطر المتعلقة بالسيطرة على المنافع الخاصة الأص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686800" cy="667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تعريف الإلتزام: </a:t>
            </a:r>
            <a:r>
              <a:rPr b="0" lang="ar-SA" sz="2200" spc="-1" strike="noStrike">
                <a:solidFill>
                  <a:srgbClr val="ffffff"/>
                </a:solidFill>
                <a:latin typeface="Univers 45 Light"/>
                <a:cs typeface="Times New Roman (Arabic)"/>
              </a:rPr>
              <a:t>تحويل منافع إقتصادية كنتيجة لأحداث وقعت فى الماضى ومن ثم لا تستطيع المنشأة تفادى تدفق مواردها الى خارج المنشأة</a:t>
            </a:r>
            <a:endParaRPr b="0" lang="en-US" sz="2200" spc="-1" strike="noStrike">
              <a:solidFill>
                <a:srgbClr val="ffffff"/>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قياس الأصول والإلتزامات: </a:t>
            </a:r>
            <a:r>
              <a:rPr b="0" lang="ar-SA" sz="2200" spc="-1" strike="noStrike">
                <a:solidFill>
                  <a:srgbClr val="ffffff"/>
                </a:solidFill>
                <a:latin typeface="Univers 45 Light"/>
                <a:cs typeface="Times New Roman (Arabic)"/>
              </a:rPr>
              <a:t>من غير الممكن إثبات الأصول والإلتزامات ما لم يتم قياسها فى شكل مبالغ نقدية بطريقة يمكن الأعتماد عليها بشكل كاف</a:t>
            </a:r>
            <a:r>
              <a:rPr b="0" lang="ar-SA" sz="2200" spc="-1" strike="noStrike">
                <a:solidFill>
                  <a:srgbClr val="ffffff"/>
                </a:solidFill>
                <a:latin typeface="Univers 45 Light"/>
                <a:ea typeface="Times New Roman (Arabic)"/>
              </a:rPr>
              <a:t>.</a:t>
            </a:r>
            <a:endParaRPr b="0" lang="en-US" sz="2200" spc="-1" strike="noStrike">
              <a:solidFill>
                <a:srgbClr val="ffffff"/>
              </a:solidFill>
              <a:latin typeface="Times New Roman"/>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توقف عن إثبات الأصول والإلتزامات: </a:t>
            </a:r>
            <a:r>
              <a:rPr b="0" lang="ar-SA" sz="2200" spc="-1" strike="noStrike">
                <a:solidFill>
                  <a:srgbClr val="ffffff"/>
                </a:solidFill>
                <a:latin typeface="Univers 45 Light"/>
                <a:cs typeface="Times New Roman (Arabic)"/>
              </a:rPr>
              <a:t>عند تحويل كافة الحقوق الجوهرية فى المنافع المرتبطة بأصل ما الى الآخرين وكذا تحويل المخاطر المرتبطة بتلك المنافع فإنه يجب التوقف عن الاعتراف بهذا الأصل</a:t>
            </a:r>
            <a:r>
              <a:rPr b="0" lang="ar-SA" sz="2200" spc="-1" strike="noStrike">
                <a:solidFill>
                  <a:srgbClr val="ffffff"/>
                </a:solidFill>
                <a:latin typeface="Univers 45 Light"/>
                <a:ea typeface="Times New Roman (Arabic)"/>
              </a:rPr>
              <a:t>.</a:t>
            </a:r>
            <a:endParaRPr b="0" lang="en-US" sz="2200" spc="-1" strike="noStrike">
              <a:solidFill>
                <a:srgbClr val="ffffff"/>
              </a:solidFill>
              <a:latin typeface="Times New Roman"/>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Univers 45 Light"/>
                <a:ea typeface="Times New Roman (Arabic)"/>
              </a:rPr>
              <a:t>2) </a:t>
            </a:r>
            <a:r>
              <a:rPr b="0" lang="ar-SA" sz="2200" spc="-1" strike="noStrike">
                <a:solidFill>
                  <a:srgbClr val="ffffff"/>
                </a:solidFill>
                <a:latin typeface="Univers 45 Light"/>
                <a:cs typeface="Times New Roman (Arabic)"/>
              </a:rPr>
              <a:t>المعالجة المحاسبية المقترحة للمعاملات مع شركة القاهرة</a:t>
            </a:r>
            <a:endParaRPr b="0" lang="en-US" sz="2200" spc="-1" strike="noStrike">
              <a:solidFill>
                <a:srgbClr val="ffffff"/>
              </a:solidFill>
              <a:latin typeface="Times New Roman"/>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Univers 45 Light"/>
                <a:ea typeface="Times New Roman (Arabic)"/>
              </a:rPr>
              <a:t>	</a:t>
            </a:r>
            <a:r>
              <a:rPr b="0" lang="ar-SA" sz="2200" spc="-1" strike="noStrike">
                <a:solidFill>
                  <a:srgbClr val="ffffff"/>
                </a:solidFill>
                <a:latin typeface="Univers 45 Light"/>
                <a:cs typeface="Times New Roman (Arabic)"/>
              </a:rPr>
              <a:t>إن الأعتراف بالسيارات ضمن الأصول عندما يتم نقل الملكية الى شركة الزهور هو طريقة للمحاسبة عن الشكل القانونى للمعاملة وليس جوهرها ، وبالتالى لا يعتبر ذلك طريقة ملائمة للمحاسبة عن مثل هذه النوعية من المعاملات</a:t>
            </a:r>
            <a:r>
              <a:rPr b="0" lang="ar-SA" sz="2200" spc="-1" strike="noStrike">
                <a:solidFill>
                  <a:srgbClr val="ffffff"/>
                </a:solidFill>
                <a:latin typeface="Univers 45 Light"/>
                <a:ea typeface="Times New Roman (Arabic)"/>
              </a:rPr>
              <a: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762120"/>
            <a:ext cx="8686800" cy="455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منافع المرتبطة بالأحتفاظ بالمخزون (أصل)</a:t>
            </a:r>
            <a:endParaRPr b="0" lang="en-US" sz="2200" spc="-1" strike="noStrike">
              <a:solidFill>
                <a:srgbClr val="ffffff"/>
              </a:solidFill>
              <a:latin typeface="Times New Roman"/>
            </a:endParaRPr>
          </a:p>
          <a:p>
            <a:pPr algn="r"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0" lang="ar-SA" sz="2200" spc="-1" strike="noStrike">
                <a:solidFill>
                  <a:srgbClr val="ffffff"/>
                </a:solidFill>
                <a:latin typeface="Univers 45 Light"/>
                <a:cs typeface="Times New Roman (Arabic)"/>
              </a:rPr>
              <a:t>الحق فى بيع البضاعة والحصول على التدفقات النقدية مستقبلا.</a:t>
            </a:r>
            <a:endParaRPr b="0" lang="en-US" sz="2200" spc="-1" strike="noStrike">
              <a:solidFill>
                <a:srgbClr val="ffffff"/>
              </a:solidFill>
              <a:latin typeface="Times New Roman"/>
            </a:endParaRPr>
          </a:p>
          <a:p>
            <a:pPr algn="r"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Univers 45 Light"/>
                <a:ea typeface="Times New Roman (Arabic)"/>
              </a:rPr>
              <a:t>  عدم التعرض لتغير زيادة الأسعار بواسطة المورد.</a:t>
            </a:r>
            <a:endParaRPr b="0" lang="en-US" sz="2200" spc="-1" strike="noStrike">
              <a:solidFill>
                <a:srgbClr val="ffffff"/>
              </a:solidFill>
              <a:latin typeface="Times New Roman"/>
            </a:endParaRPr>
          </a:p>
          <a:p>
            <a:pPr algn="r"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Univers 45 Light"/>
                <a:ea typeface="Times New Roman (Arabic)"/>
              </a:rPr>
              <a:t>  الحق فى إستخدام البضاعة.</a:t>
            </a:r>
            <a:endParaRPr b="0" lang="en-US" sz="2200" spc="-1" strike="noStrike">
              <a:solidFill>
                <a:srgbClr val="ffffff"/>
              </a:solidFill>
              <a:latin typeface="Times New Roman"/>
            </a:endParaRPr>
          </a:p>
          <a:p>
            <a:pPr algn="r"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مخاطر الرتبطة بالإحتفاظ بالمخزون (أصل)</a:t>
            </a:r>
            <a:endParaRPr b="0" lang="en-US" sz="2200" spc="-1" strike="noStrike">
              <a:solidFill>
                <a:srgbClr val="ffffff"/>
              </a:solidFill>
              <a:latin typeface="Times New Roman"/>
            </a:endParaRPr>
          </a:p>
          <a:p>
            <a:pPr algn="r"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0" lang="ar-SA" sz="2200" spc="-1" strike="noStrike">
                <a:solidFill>
                  <a:srgbClr val="ffffff"/>
                </a:solidFill>
                <a:latin typeface="Univers 45 Light"/>
                <a:cs typeface="Times New Roman (Arabic)"/>
              </a:rPr>
              <a:t>مخاطر تحقيق خسائر من البيع.</a:t>
            </a:r>
            <a:endParaRPr b="0" lang="en-US" sz="2200" spc="-1" strike="noStrike">
              <a:solidFill>
                <a:srgbClr val="ffffff"/>
              </a:solidFill>
              <a:latin typeface="Times New Roman"/>
            </a:endParaRPr>
          </a:p>
          <a:p>
            <a:pPr algn="r"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Univers 45 Light"/>
                <a:ea typeface="Times New Roman (Arabic)"/>
              </a:rPr>
              <a:t>  تحمل مخاطر البنود بطيئة الحركة وأعباء التمويل</a:t>
            </a:r>
            <a:endParaRPr b="0" lang="en-US" sz="2200" spc="-1" strike="noStrike">
              <a:solidFill>
                <a:srgbClr val="ffffff"/>
              </a:solidFill>
              <a:latin typeface="Times New Roman"/>
            </a:endParaRPr>
          </a:p>
          <a:p>
            <a:pPr algn="r"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Univers 45 Light"/>
                <a:ea typeface="Times New Roman (Arabic)"/>
              </a:rPr>
              <a:t>  مخاطر التقادم والتلف.</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228600" y="380880"/>
            <a:ext cx="8763120" cy="72025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وحيث أن شركة الزهور:</a:t>
            </a:r>
            <a:endParaRPr b="0" lang="en-US" sz="2200" spc="-1" strike="noStrike">
              <a:solidFill>
                <a:srgbClr val="ffffff"/>
              </a:solidFill>
              <a:latin typeface="Times New Roman"/>
            </a:endParaRPr>
          </a:p>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r"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لهل الحق فى بيع البضاعة (منافع)</a:t>
            </a:r>
            <a:endParaRPr b="0" lang="en-US" sz="2200" spc="-1" strike="noStrike">
              <a:solidFill>
                <a:srgbClr val="ffffff"/>
              </a:solidFill>
              <a:latin typeface="Times New Roman"/>
            </a:endParaRPr>
          </a:p>
          <a:p>
            <a:pPr marL="457200" indent="-457200" algn="r"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سعر الشراء يعتمد على تاريخ الأستلام وليس تاريخ نقل الملكية (منافع).</a:t>
            </a:r>
            <a:endParaRPr b="0" lang="en-US" sz="2200" spc="-1" strike="noStrike">
              <a:solidFill>
                <a:srgbClr val="ffffff"/>
              </a:solidFill>
              <a:latin typeface="Times New Roman"/>
            </a:endParaRPr>
          </a:p>
          <a:p>
            <a:pPr marL="457200" indent="-457200" algn="r"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لها الحق فى إستخدام السيارات (منافع).</a:t>
            </a:r>
            <a:endParaRPr b="0" lang="en-US" sz="2200" spc="-1" strike="noStrike">
              <a:solidFill>
                <a:srgbClr val="ffffff"/>
              </a:solidFill>
              <a:latin typeface="Times New Roman"/>
            </a:endParaRPr>
          </a:p>
          <a:p>
            <a:pPr marL="457200" indent="-457200" algn="r"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حق طلب رد البضاعة مرتبط بإعسار شركة الزهور وهو إحتمال بعيد من وجهة نظرنا.</a:t>
            </a:r>
            <a:endParaRPr b="0" lang="en-US" sz="2200" spc="-1" strike="noStrike">
              <a:solidFill>
                <a:srgbClr val="ffffff"/>
              </a:solidFill>
              <a:latin typeface="Times New Roman"/>
            </a:endParaRPr>
          </a:p>
          <a:p>
            <a:pPr marL="457200" indent="-457200" algn="r"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تقوم شركة الزهور بسداد غرامة إذا تم إرجاع السيارات (مخاطر).</a:t>
            </a:r>
            <a:endParaRPr b="0" lang="en-US" sz="2200" spc="-1" strike="noStrike">
              <a:solidFill>
                <a:srgbClr val="ffffff"/>
              </a:solidFill>
              <a:latin typeface="Times New Roman"/>
            </a:endParaRPr>
          </a:p>
          <a:p>
            <a:pPr marL="457200" indent="-457200" algn="r"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1%</a:t>
            </a:r>
            <a:r>
              <a:rPr b="1" lang="ar-SA" sz="2200" spc="-1" strike="noStrike">
                <a:solidFill>
                  <a:srgbClr val="ffffff"/>
                </a:solidFill>
                <a:latin typeface="Univers 45 Light"/>
                <a:ea typeface="Times New Roman (Arabic)"/>
              </a:rPr>
              <a:t> تكلفة التمويل عن كل شهر تمثل زيادة تكلفة الاحتفاظ بالمخزون (مخاطر).</a:t>
            </a:r>
            <a:endParaRPr b="0" lang="en-US" sz="2200" spc="-1" strike="noStrike">
              <a:solidFill>
                <a:srgbClr val="ffffff"/>
              </a:solidFill>
              <a:latin typeface="Times New Roman"/>
            </a:endParaRPr>
          </a:p>
          <a:p>
            <a:pPr marL="457200" indent="-457200" algn="r" rtl="1">
              <a:lnSpc>
                <a:spcPct val="100000"/>
              </a:lnSpc>
              <a:spcBef>
                <a:spcPts val="1375"/>
              </a:spcBef>
              <a:buClr>
                <a:srgbClr val="ffffff"/>
              </a:buClr>
              <a:buFont typeface="Univers 45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لا تستطيع شركة الزهور إرجاع السيارات المعيبة او المتقادمة (مخاطر)</a:t>
            </a:r>
            <a:endParaRPr b="0" lang="en-US" sz="2200" spc="-1" strike="noStrike">
              <a:solidFill>
                <a:srgbClr val="ffffff"/>
              </a:solidFill>
              <a:latin typeface="Times New Roman"/>
            </a:endParaRPr>
          </a:p>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457200" y="1295280"/>
            <a:ext cx="8305920" cy="4304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خلاص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من الواضح ان شركة الزهور لديها المنافع المتعلقة بالبضاعة المستلمة من شركة القاهرة كما انها تتعرض للمخاطر المتعلقة بالأحتفاظ بمخزون السيارات حتى قبل إنتقال الملكية القانونية ، وبناء عليه فإن جميع السيارات التى تحتفظ بها الشركة فى </a:t>
            </a:r>
            <a:r>
              <a:rPr b="1" lang="ar-SA" sz="2200" spc="-1" strike="noStrike">
                <a:solidFill>
                  <a:srgbClr val="ffffff"/>
                </a:solidFill>
                <a:latin typeface="Univers 45 Light"/>
                <a:ea typeface="Times New Roman (Arabic)"/>
              </a:rPr>
              <a:t>31</a:t>
            </a:r>
            <a:r>
              <a:rPr b="1" lang="ar-SA" sz="2200" spc="-1" strike="noStrike">
                <a:solidFill>
                  <a:srgbClr val="ffffff"/>
                </a:solidFill>
                <a:latin typeface="Univers 45 Light"/>
                <a:ea typeface="Times New Roman (Arabic)"/>
              </a:rPr>
              <a:t> ديسمبر </a:t>
            </a:r>
            <a:r>
              <a:rPr b="1" lang="ar-SA" sz="2200" spc="-1" strike="noStrike">
                <a:solidFill>
                  <a:srgbClr val="ffffff"/>
                </a:solidFill>
                <a:latin typeface="Univers 45 Light"/>
                <a:ea typeface="Times New Roman (Arabic)"/>
              </a:rPr>
              <a:t>2000</a:t>
            </a:r>
            <a:r>
              <a:rPr b="1" lang="ar-SA" sz="2200" spc="-1" strike="noStrike">
                <a:solidFill>
                  <a:srgbClr val="ffffff"/>
                </a:solidFill>
                <a:latin typeface="Univers 45 Light"/>
                <a:ea typeface="Times New Roman (Arabic)"/>
              </a:rPr>
              <a:t> يجب إدراجها ضمن بند المخزون بالميزانية. </a:t>
            </a:r>
            <a:endParaRPr b="0" lang="en-US" sz="2200" spc="-1" strike="noStrike">
              <a:solidFill>
                <a:srgbClr val="ffffff"/>
              </a:solidFill>
              <a:latin typeface="Times New Roman"/>
            </a:endParaRPr>
          </a:p>
          <a:p>
            <a:pPr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وهذا يعنى أنه سيدرج إلتزام مقابل لصالح شركة القاهرة تحت بند الإلتزامات المتداولة يمثل المبلغ الذى سيتم سداده مقابل هذا المخزون مضافا اليه أية أعباء تمويلية مستحق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727200"/>
            <a:ext cx="8077320" cy="6677640"/>
          </a:xfrm>
          <a:prstGeom prst="rect">
            <a:avLst/>
          </a:prstGeom>
          <a:noFill/>
          <a:ln w="0">
            <a:noFill/>
          </a:ln>
        </p:spPr>
        <p:style>
          <a:lnRef idx="0"/>
          <a:fillRef idx="0"/>
          <a:effectRef idx="0"/>
          <a:fontRef idx="minor"/>
        </p:style>
        <p:txBody>
          <a:bodyPr lIns="90000" rIns="90000" tIns="46800" bIns="46800" anchor="t">
            <a:spAutoFit/>
          </a:bodyPr>
          <a:p>
            <a:pPr marL="16812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ناك العديد من الطرق التى حاولت بها الشركات فى الماضى الاحتفاظ ببعض البنود خارج الميزانية مثل عمليات التأجير للأصول او عند وجود سيطرة أو تاثير على بعض الشركات المستثمر فيها بدون النسبة التى تتطلبها إعداد قوائم مالية مجمعة.</a:t>
            </a: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خطوة الاساسية لتحديد جوهر المعاملة هى التعرف على تأثيرها على الاصول والالتزامات، ومن ثم فعندما ينطبق تعريف الأصل او الألتزام على معاملة ما فيتعين ان تدرج بالقوائم المالية.</a:t>
            </a: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أن تظهر الأصول والالتزامات فى الميزانية عندما تتوافر كافة الشروط التالي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أن يكون هناك دليل كاف عن وجود الاصل او الألتزام.</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أنه يمكن قياس الاصول والالتزامات بمقدار نقدى وبموضوعية كافية.</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228600" y="228600"/>
            <a:ext cx="8381880" cy="7409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عتراف بالاصو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اعتراف بالاصول فقط عند إستيفاء الشرطين التاليين معا:</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ن يكون لدى المنشأة القدرة على تحقيق منافع مستقبلية أساسية من الأصل.</a:t>
            </a: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درجة المخاطر التى سوف تواجه المنشاة من إستخدام الاصل فى الواقع العملى ليست جوهرية.</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فصاحات</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كون الأفصاح عن المعاملة مفصلا بدرجة كافية حتى يتمكن مستخدم القوائم المالية من فهم تأثيرها التجارى على الاعمال.</a:t>
            </a: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أفصاح عن المعاملة حتى ولم يكن سينتج عنها أصولا او إلتزامات، كما يجب الافصاح عن الأصول والالتزامات التى تختلف عن طبيعة البنود التى أدرجت تحتها مثل الاصول الغير متاحة للأستخدام بسبب انها ضامنة لإلتزامات.</a:t>
            </a:r>
            <a:endParaRPr b="0" lang="en-US" sz="2400" spc="-1" strike="noStrike">
              <a:solidFill>
                <a:srgbClr val="ffffff"/>
              </a:solidFill>
              <a:latin typeface="Times New Roman"/>
            </a:endParaRPr>
          </a:p>
          <a:p>
            <a:pPr marL="457200" indent="-457200" algn="just"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ناك بعض الأصول والألتزامات التى يجب ربطها بعضها ببعض أو إجراء المقاصة فيما بي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228600" y="1600200"/>
            <a:ext cx="8686800" cy="314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بضاعة الأمان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مثل فى البضائع الموجودة بحوزة طرف ما ولكنها مملوكة قانونا من قبل طرف آخر فى ظل شروط تعطى الحائز الحق فى بيع البضاعة فى إطار نشاطه العادى أو يكون له الخيار فى إرجاعها للمالك القانونى دون بيعها.</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04920" y="228600"/>
            <a:ext cx="8534160" cy="6799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ثـــــــال:</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ى </a:t>
            </a:r>
            <a:r>
              <a:rPr b="0" lang="ar-SA" sz="2400" spc="-1" strike="noStrike">
                <a:solidFill>
                  <a:srgbClr val="ffffff"/>
                </a:solidFill>
                <a:latin typeface="Times New Roman"/>
              </a:rPr>
              <a:t>1/1/2002</a:t>
            </a:r>
            <a:r>
              <a:rPr b="0" lang="ar-SA" sz="2400" spc="-1" strike="noStrike">
                <a:solidFill>
                  <a:srgbClr val="ffffff"/>
                </a:solidFill>
                <a:latin typeface="Times New Roman"/>
              </a:rPr>
              <a:t> دخلت شركة توتو فى إتفاقية مع شركة سوسو تنص على تسليمها آلات لإعادة بيعها، وبموجب الاتفاق تسدد شركة سوسو إيجارا شهريا ثابتا لكل آلة فى حيازتها كما تسدد أيضا تكاليف التأمين والصيانة لتلك الآلات كما تستطيع أيضا عرضها فى معرضها وإستخدامها كنماذج للعرض.</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عند بيع البضاعة لعميل ما تسدد شركة سوسو ثمن البيع بسعر المصنع بتاريخ التسليم الأولى من شركة توتو، اما الآلات التى تتبقى بدون بيع لمدة ستة شهور من تاريخ التسليم الاولى فيجب ان تشتريها شركة سوسو بسعر المصنع فى تاريخ التسليم. ويمكن لشركة توتو أن تسترد الآلات فى أى وقت خلال مدة الستة أشهر إلا أن هذا الحق لم يمارس فعليا. كما لا يمكن لشركة سوسو إرجاع الآلات الغير مباعة خلال المدة المذكورة دون غرامات.</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ى </a:t>
            </a:r>
            <a:r>
              <a:rPr b="0" lang="ar-SA" sz="2400" spc="-1" strike="noStrike">
                <a:solidFill>
                  <a:srgbClr val="ffffff"/>
                </a:solidFill>
                <a:latin typeface="Times New Roman"/>
              </a:rPr>
              <a:t>31</a:t>
            </a:r>
            <a:r>
              <a:rPr b="0" lang="ar-SA" sz="2400" spc="-1" strike="noStrike">
                <a:solidFill>
                  <a:srgbClr val="ffffff"/>
                </a:solidFill>
                <a:latin typeface="Times New Roman"/>
              </a:rPr>
              <a:t> /</a:t>
            </a:r>
            <a:r>
              <a:rPr b="0" lang="ar-SA" sz="2400" spc="-1" strike="noStrike">
                <a:solidFill>
                  <a:srgbClr val="ffffff"/>
                </a:solidFill>
                <a:latin typeface="Times New Roman"/>
              </a:rPr>
              <a:t>12/2002</a:t>
            </a:r>
            <a:r>
              <a:rPr b="0" lang="ar-SA" sz="2400" spc="-1" strike="noStrike">
                <a:solidFill>
                  <a:srgbClr val="ffffff"/>
                </a:solidFill>
                <a:latin typeface="Times New Roman"/>
              </a:rPr>
              <a:t> كانت الاتفاقية لا تزال سارية وكان لدى شركة سوسو العديد من الآلات التى تم تسليمها خلال أقل من ستة اشه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152280" y="304920"/>
            <a:ext cx="8763120" cy="7469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حــل: تعتبر الآلات أصولا لشركة سوسو ويجب عرضها فى الميزانية للأسباب التالي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حصلت شركة سوسو على منافع حيازة الآلات وأصبحت معرضة للمخاطر المرتبطة بهذه المنافع.</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ستطيع شركة توتو أن تطلب رد الآلات ولا تستطيع شركة سوسو إرجاعها دون سداد غرامات.</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سدد شركة سوسو إيجار شهرى بصرف النظر عن شرائها فى النهاية وبالتالى يمكن النظر الى الأيجار بإعتباره فائدة على قرض لحين سداد القيم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حمل شركة سوسو كافة التكاليف المرتبطة بحيازة الأصل.</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سعر الشراء هو السعر فى التاريخ الذى تم فيه التسليم الأولى مما يفيد أن عملية البيع قد تمت فى ذلك التاريخ.</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ن شركة سوسو ملتزمة بشراء الأصناف التى فى حوزتها فى نهاية الستة أشهر.</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ن كافة الأطراف تحصل على المنافع والمخاطر المتعلقة بالأتفاقي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دم ممارسة شركة سوسو لحق الر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533520" y="228600"/>
            <a:ext cx="8153280" cy="6677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تفاقيات البيع مع التعهد بإعادة الشراء</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ترتيبات البيع مع إعادة الشراء هى ترتيبات يبيع بموجبها احد الاطراف أصولا لطرف آخر وتشترط الاتفاقية على البائع أن يعيد شراء الأصول إذا ما توافرت ظروف معين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د يتم البيع وفقا للقيمة السوقية او بنسبة من القيمة السوقية يتم الاتفاق عليها.</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د تأخد الاتفاقية أشكالا اخرى مثل الالتزام غير المشروط من الطرفين او الخيار الممنوح للبائع بإعادة الشراء (خيار الشراء) أو الخيار الممنوح للمشترى بأن يطلب إعادة الشراء (خيار البيع)</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ضمن الترتيبات شروط تمكين البائع من الأستفادة من الأصل خلال مدة تملك المشترى له.</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د يتغير سعر إعادة الشراء وقد يتم الاتفاق عليه وقت إعادة الشراء.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407880" y="914400"/>
            <a:ext cx="835524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ابع: إتفاقيات البيع مع التعهد بإعادة الشراء</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ل المعاملة هنا تمثل عملية بيع ام هى قرض بضمان أصل معين ؟</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صف المعاملات الخاصة بالقروض المضمونة بما يل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ضمن البائع حصوله على كل المنافع المستقبلية المرتبطة بالأصل عادة خلال خيارات الشراء.</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ضمن المشترى عائدا كافيا للشراء (فائدة القرض من خلال تعديل سعر إعادة الشراء) وتجنب الخسارة فى قيمة الاصل المشترى (من خلال خيارات البيع)</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228600" y="762120"/>
            <a:ext cx="8610480" cy="48790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ثـال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اعت شركة كوكو مبنى الى شركة لولو بمبلغ مليون جنيه عندما كانت القيمة السوقية للمبنى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ويمكن لشركة كوكو إعادة شراء المبنى فى أى وقت خلال السنوات الثلاثة التالية مقابل مليون جنيه مضافا اليها كل ربع سنة مبلغ محسوب على اساس سعر فائدة البنك + </a:t>
            </a:r>
            <a:r>
              <a:rPr b="0" lang="ar-SA" sz="2400" spc="-1" strike="noStrike">
                <a:solidFill>
                  <a:srgbClr val="ffffff"/>
                </a:solidFill>
                <a:latin typeface="Times New Roman"/>
              </a:rPr>
              <a:t>2</a:t>
            </a:r>
            <a:r>
              <a:rPr b="0" lang="ar-SA" sz="2400" spc="-1" strike="noStrike">
                <a:solidFill>
                  <a:srgbClr val="ffffff"/>
                </a:solidFill>
                <a:latin typeface="Times New Roman"/>
              </a:rPr>
              <a:t>% . حدد كيف تحسب شركة كوكو هذه المعامل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حــ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جوهر هذه المعاملة هى قرض مضمون من شركة لولو الى شركة كوكو حيث تمارس شركة كوكو حقها الاختيارى فى إعادة شراء الاصل ، وبالتالى لا تعتبر هذه المعاملة عملية بيع.</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1:50:36Z</dcterms:created>
  <dc:creator>Administrator</dc:creator>
  <dc:description/>
  <dc:language>en-US</dc:language>
  <cp:lastModifiedBy>Administrator</cp:lastModifiedBy>
  <dcterms:modified xsi:type="dcterms:W3CDTF">2003-10-25T12:32:35Z</dcterms:modified>
  <cp:revision>13</cp:revision>
  <dc:subject/>
  <dc:title>PowerPoint Presentation</dc:title>
</cp:coreProperties>
</file>