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609480" y="685800"/>
            <a:ext cx="7772400" cy="448308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Arial"/>
              </a:rPr>
              <a:t>الفصل الثانى: الأطار الرقابى للمعايير المحاسبية</a:t>
            </a:r>
            <a:endParaRPr b="0" lang="en-US" sz="2400" spc="-1" strike="noStrike">
              <a:solidFill>
                <a:srgbClr val="ffffff"/>
              </a:solidFill>
              <a:latin typeface="Times New Roman"/>
            </a:endParaRPr>
          </a:p>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النطـــــــــــــــــــــــــاق</a:t>
            </a:r>
            <a:endParaRPr b="0" lang="en-US" sz="2400" spc="-1" strike="noStrike">
              <a:solidFill>
                <a:srgbClr val="ffffff"/>
              </a:solidFill>
              <a:latin typeface="Times New Roman"/>
            </a:endParaRPr>
          </a:p>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يجب أن يغطى الدارس فى نهاية هذا الفصل مايلى:</a:t>
            </a:r>
            <a:endParaRPr b="0" lang="en-US" sz="2400" spc="-1" strike="noStrike">
              <a:solidFill>
                <a:srgbClr val="ffffff"/>
              </a:solidFill>
              <a:latin typeface="Times New Roman"/>
            </a:endParaRPr>
          </a:p>
          <a:p>
            <a:pPr marL="287280" indent="-287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هداف والإجراءات التنفيذية للجنة معايير المحاسبة الدولية.</a:t>
            </a:r>
            <a:endParaRPr b="0" lang="en-US" sz="2400" spc="-1" strike="noStrike">
              <a:solidFill>
                <a:srgbClr val="ffffff"/>
              </a:solidFill>
              <a:latin typeface="Times New Roman"/>
            </a:endParaRPr>
          </a:p>
          <a:p>
            <a:pPr marL="287280" indent="-28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صف دور وخصائص الإطار العام المتعلق بإعداد وعرض القوائم المالية الصادر عن لجنة معايير المحاسبة الدو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609480"/>
            <a:ext cx="8381880" cy="41173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 وضع معايير المحاسبة فى مصــــر</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صدرت معايير المحاسبة المصرية لأول مرة عام </a:t>
            </a:r>
            <a:r>
              <a:rPr b="0" lang="ar-SA" sz="2400" spc="-1" strike="noStrike">
                <a:solidFill>
                  <a:srgbClr val="ffffff"/>
                </a:solidFill>
                <a:latin typeface="Times New Roman"/>
              </a:rPr>
              <a:t>1997</a:t>
            </a:r>
            <a:r>
              <a:rPr b="0" lang="ar-SA" sz="2400" spc="-1" strike="noStrike">
                <a:solidFill>
                  <a:srgbClr val="ffffff"/>
                </a:solidFill>
                <a:latin typeface="Times New Roman"/>
              </a:rPr>
              <a:t> بقرارات من وزير الأقتصاد والتجارة الداخلية حتى وصل عددها الى </a:t>
            </a:r>
            <a:r>
              <a:rPr b="0" lang="ar-SA" sz="2400" spc="-1" strike="noStrike">
                <a:solidFill>
                  <a:srgbClr val="ffffff"/>
                </a:solidFill>
                <a:latin typeface="Times New Roman"/>
              </a:rPr>
              <a:t>23</a:t>
            </a:r>
            <a:r>
              <a:rPr b="0" lang="ar-SA" sz="2400" spc="-1" strike="noStrike">
                <a:solidFill>
                  <a:srgbClr val="ffffff"/>
                </a:solidFill>
                <a:latin typeface="Times New Roman"/>
              </a:rPr>
              <a:t> معيار محاسبى حتى يناير </a:t>
            </a:r>
            <a:r>
              <a:rPr b="0" lang="ar-SA" sz="2400" spc="-1" strike="noStrike">
                <a:solidFill>
                  <a:srgbClr val="ffffff"/>
                </a:solidFill>
                <a:latin typeface="Times New Roman"/>
              </a:rPr>
              <a:t>2003</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نص معيار المحاسبة المصرى رقم (</a:t>
            </a:r>
            <a:r>
              <a:rPr b="0" lang="ar-SA" sz="2400" spc="-1" strike="noStrike">
                <a:solidFill>
                  <a:srgbClr val="ffffff"/>
                </a:solidFill>
                <a:latin typeface="Times New Roman"/>
              </a:rPr>
              <a:t>1</a:t>
            </a:r>
            <a:r>
              <a:rPr b="0" lang="ar-SA" sz="2400" spc="-1" strike="noStrike">
                <a:solidFill>
                  <a:srgbClr val="ffffff"/>
                </a:solidFill>
                <a:latin typeface="Times New Roman"/>
              </a:rPr>
              <a:t>) على ان القوائم المالية لا يمكن وصفها بأنها ملتزمة بمعايير المحاسبة المصرية إلا إذا إلتزمت بكل معيار من معايير المحاسبة المصرية والدو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228600" y="228600"/>
            <a:ext cx="8915400" cy="89478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طار العام لإعداد وعرض القؤائم المالية الصادر عن لجنة معايير المحاسبة الدولية</a:t>
            </a:r>
            <a:endParaRPr b="0" lang="en-US" sz="2400" spc="-1" strike="noStrike">
              <a:solidFill>
                <a:srgbClr val="ffffff"/>
              </a:solidFill>
              <a:latin typeface="Times New Roman"/>
            </a:endParaRPr>
          </a:p>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ثيقة تحدد المفاهيم الخاصة بإعداد وعرض القوائم المالية للمستخدمين الخارجيين)</a:t>
            </a:r>
            <a:endParaRPr b="0" lang="en-US" sz="2400" spc="-1" strike="noStrike">
              <a:solidFill>
                <a:srgbClr val="ffffff"/>
              </a:solidFill>
              <a:latin typeface="Times New Roman"/>
            </a:endParaRPr>
          </a:p>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هدف من الإطار العام</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ساعدة مجلس لجنة المعايير فى تطوير المعايير وفحص ومراجعة المعايير المطبق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ساعدة فى تخفيض عدد بدائل المعالجات المحاسبية المسموح بها فى المعايير الدول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ساعدة الهيئات الوطنية فى تطوير معاييرها المحل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ساعدة معدى القوائم المالية على تطبيق المعايير والتعامل مع الأمور التى لم ترد بها.</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Arial"/>
              </a:rPr>
              <a:t>مساعدة المراجعين فى تكوين الرأى المهنى عن اتفاق القوائم المالية مع المعايير الدول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Arial"/>
              </a:rPr>
              <a:t>مساعدة مستخدمى القوائم المالية فى تفسير المعلومات الواردة فى القوائم المال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cs typeface="Arial"/>
              </a:rPr>
              <a:t>إمداد الجهات المهتمة بعمل لجنة معايير المحاسبة الدولية بمعلومات عن أسلوب إعداد معايير المحاسبة الدولية. </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5943600" y="372960"/>
            <a:ext cx="10447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914400" y="380880"/>
            <a:ext cx="702612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وضوعات التى يتناولها الإطار العام لإعداد وعرض القوائم المالية</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ـــــــــدف إعداد القوائم المالية</a:t>
            </a: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إفتراضات الأساسية للمحاسبة</a:t>
            </a: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خصائص النوعية للقوائم المالية</a:t>
            </a: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حتويات القوائم المالية</a:t>
            </a: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حقق عناصر القوائم المالية</a:t>
            </a: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ياس عناصر القوائم المالية</a:t>
            </a: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فهوم رأس المال والمحافضة على رأس الما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457200" y="193680"/>
            <a:ext cx="77119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طــــــــار المنهجــــــ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رف مجلس معايير المحاسبة الأمريكية مفهوم الأطار المنهجى بأنه دستور يتضمن نظام متكامل من الأهداف والمباديء المرتبطة والتى تؤدى الى مجموعة متجانسة من المعاييرتصف المحاسبة والقوائم المال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عتمدت لجنة معايير المحاسبة الدولية على ما سبق لتطوير وإعداد الإطار المنهجى الخاص ب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فهوم عبارة ”المباديء المحاسبية المتعارف عل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طار العام لأساليب المحاسبة المالية المستخدمة فى نظام معين“ ويجب أن يكون معلوما أن مفهوم المباديء المحاسبية المتعارف عليها يتضمن المفاهيم والتشريعات ذات العلاق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ثال: تتضمن المباديء المحاسبية المتعارف عليها فى مصر قانون الشركات والإطار الفكرى العام المستخدم فى إعداد معايير المحاسبة المصر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380880"/>
            <a:ext cx="845820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هداف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هدف القوائم المالية الى توفير المعلومات الخاصة بالمركز المالى وعن الآداء والتغيرات فى المركز المالى والتى تكون مفيدة للعديد من مستخدمى تلك القوائم عند إتخاذ القرارات الأقتصادي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قوائم المالية ذات الأغراض العامة تفى بالحتياجات العامة لمعظم مستخدمى تلك القوائم، إلا أنها لا تتيح كافة المعلومات التى يتطلبها مستخدمى القوائم المالية لإتخاذ القرارات الاقتصادية حيث انها تعطى صورة عامة عن أثار مالية لأحداث فى الماضى دون المستقبل وكذا لا توفر معلومات غير مالي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وضح القوائم المالية نتائج الأعمال وكيفية إدارة الموارد، وبالتالى فهى تفيد مستخدميها فى تقييم كفاءة الإدارة عند إتخاذ قرار إقتصادى مثل الأحتفاظ بالأستثمار أو التصرف فيه أو تعيين المديرين أو إستبدالهم.</a:t>
            </a: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80880" y="345960"/>
            <a:ext cx="8458200" cy="6311880"/>
          </a:xfrm>
          <a:prstGeom prst="rect">
            <a:avLst/>
          </a:prstGeom>
          <a:noFill/>
          <a:ln w="0">
            <a:noFill/>
          </a:ln>
        </p:spPr>
        <p:style>
          <a:lnRef idx="0"/>
          <a:fillRef idx="0"/>
          <a:effectRef idx="0"/>
          <a:fontRef idx="minor"/>
        </p:style>
        <p:txBody>
          <a:bodyPr lIns="90000" rIns="90000" tIns="46800" bIns="46800" anchor="t">
            <a:spAutoFit/>
          </a:bodyPr>
          <a:p>
            <a:pPr marL="23004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أهداف القوائم المالية</a:t>
            </a:r>
            <a:endParaRPr b="0" lang="en-US" sz="2400" spc="-1" strike="noStrike">
              <a:solidFill>
                <a:srgbClr val="ffffff"/>
              </a:solidFill>
              <a:latin typeface="Times New Roman"/>
            </a:endParaRPr>
          </a:p>
          <a:p>
            <a:pPr marL="23004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طلب القرارات الاقتصادية التى تتخذ ضرورة تقييم مقدرة المنشأة على تحقيق تدفق نقدى وكذا توقيت تحقيق هذا التدفق ودرجة التاكد الخاصة به. ويمكن تحقيق ذلك إذا تم إمداد مستخدمى القوائم المالية بالمعلومات عن المركـــــز المالى والآداء المالى والتدفقات النقدية للمنشأة.</a:t>
            </a:r>
            <a:endParaRPr b="0" lang="en-US" sz="2400" spc="-1" strike="noStrike">
              <a:solidFill>
                <a:srgbClr val="ffffff"/>
              </a:solidFill>
              <a:latin typeface="Times New Roman"/>
            </a:endParaRPr>
          </a:p>
          <a:p>
            <a:pPr marL="23004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أثر المركز المالى بالموارد الاقتصادية التى تسيطر عليها المنشأة والهيكل المالى لها ودرجة السيولة أو الاعسار لها وكذا قدرتها على الموائمة مع التغيرات فيما يحيط بها.</a:t>
            </a:r>
            <a:endParaRPr b="0" lang="en-US" sz="2400" spc="-1" strike="noStrike">
              <a:solidFill>
                <a:srgbClr val="ffffff"/>
              </a:solidFill>
              <a:latin typeface="Times New Roman"/>
            </a:endParaRPr>
          </a:p>
          <a:p>
            <a:pPr marL="23004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ضمن المعلومات المتعلقة بالآداء العائد المحقق بواسطة المنشاة من الموارد الموضوعة تحت تصرفها.</a:t>
            </a:r>
            <a:endParaRPr b="0" lang="en-US" sz="2400" spc="-1" strike="noStrike">
              <a:solidFill>
                <a:srgbClr val="ffffff"/>
              </a:solidFill>
              <a:latin typeface="Times New Roman"/>
            </a:endParaRPr>
          </a:p>
          <a:p>
            <a:pPr marL="23004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فيد المعلومات المتعلقة بالتدفق النقدى فى تحديد القيم والمصادر الرئيسية للتدفقات النقدية الداخلة والخارج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04920" y="193680"/>
            <a:ext cx="861048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أهداف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يزاني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توفر معلومات عن المركز المالى</a:t>
            </a: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ائمتى الدخل والتغير فى حقوق الملكية</a:t>
            </a:r>
            <a:r>
              <a:rPr b="0" lang="ar-SA" sz="2400" spc="-1" strike="noStrike">
                <a:solidFill>
                  <a:srgbClr val="ffffff"/>
                </a:solidFill>
                <a:latin typeface="Times New Roman"/>
              </a:rPr>
              <a:t>	</a:t>
            </a:r>
            <a:r>
              <a:rPr b="0" lang="ar-SA" sz="2400" spc="-1" strike="noStrike">
                <a:solidFill>
                  <a:srgbClr val="ffffff"/>
                </a:solidFill>
                <a:latin typeface="Times New Roman"/>
              </a:rPr>
              <a:t>توفر معلومات عن الآداء.</a:t>
            </a: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ائمة التدفقات النقدي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توفر معلومات عن التدفقات النقدية</a:t>
            </a: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حتوى القوائم المالية على معلومات مفيدة فى تقييم القدرة على الموائمة من الناحية المالي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لى الرغم من ان كل قائمة توفر معلومات مختلفة عن القوائم الاخرى ، إلا أنه لا توجد قائمة واحدة تخدم هدف وحيد محدد أو تحتوى على كافة المعلومات المطلوب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حتوى القوائم المالية أيضا على إيضاحات وبيانات تكميلية ومعلومات اخرى مفيدة.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685800" y="609480"/>
            <a:ext cx="784872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ستخدموا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سثمرين فى حقوق الملكية ( الحاليين والمرتقبين)</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رضين الحاليين والمرتقبين بما فى ذلك أصحاب القروض قصيرة الأجل.</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جهات المتعاملة مع المنشاة مثل العملاء والموردين والمنافسين.</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هيئات الحكومية ومنها مصلحة الضرائب.</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جمهور بصفة عام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04920" y="727200"/>
            <a:ext cx="8001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فتراضات الأساسية للمحاسب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ساس الإستحقاق</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فرض إستمرارية المنشا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533520" y="762120"/>
            <a:ext cx="7543800" cy="4117320"/>
          </a:xfrm>
          <a:prstGeom prst="rect">
            <a:avLst/>
          </a:prstGeom>
          <a:noFill/>
          <a:ln w="0">
            <a:noFill/>
          </a:ln>
        </p:spPr>
        <p:style>
          <a:lnRef idx="0"/>
          <a:fillRef idx="0"/>
          <a:effectRef idx="0"/>
          <a:fontRef idx="minor"/>
        </p:style>
        <p:txBody>
          <a:bodyPr lIns="90000" rIns="90000" tIns="46800" bIns="46800" anchor="t">
            <a:spAutoFit/>
          </a:bodyPr>
          <a:p>
            <a:pPr marL="568440" indent="-3384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خصائص النوعية للقوائم المالية</a:t>
            </a: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رف الخصائص النوعية للقوائم المالية بأنها المقومات التى من شأنها:</a:t>
            </a: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ن  تجعل </a:t>
            </a:r>
            <a:r>
              <a:rPr b="1" lang="ar-SA" sz="2400" spc="-1" strike="noStrike">
                <a:solidFill>
                  <a:srgbClr val="ffffff"/>
                </a:solidFill>
                <a:latin typeface="Times New Roman"/>
              </a:rPr>
              <a:t>المعلومات</a:t>
            </a:r>
            <a:r>
              <a:rPr b="0" lang="ar-SA" sz="2400" spc="-1" strike="noStrike">
                <a:solidFill>
                  <a:srgbClr val="ffffff"/>
                </a:solidFill>
                <a:latin typeface="Times New Roman"/>
              </a:rPr>
              <a:t> الواردة بالقوائم المالية ذو فائدة للآخرين.</a:t>
            </a:r>
            <a:endParaRPr b="0" lang="en-US" sz="2400" spc="-1" strike="noStrike">
              <a:solidFill>
                <a:srgbClr val="ffffff"/>
              </a:solidFill>
              <a:latin typeface="Times New Roman"/>
            </a:endParaRPr>
          </a:p>
          <a:p>
            <a:pPr lvl="1" marL="1270080" indent="-465120" algn="just" rtl="1">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ن تجعل </a:t>
            </a:r>
            <a:r>
              <a:rPr b="1" lang="ar-SA" sz="2400" spc="-1" strike="noStrike">
                <a:solidFill>
                  <a:srgbClr val="ffffff"/>
                </a:solidFill>
                <a:latin typeface="Times New Roman"/>
              </a:rPr>
              <a:t>أسلوب عرض المعلومات</a:t>
            </a:r>
            <a:r>
              <a:rPr b="0" lang="ar-SA" sz="2400" spc="-1" strike="noStrike">
                <a:solidFill>
                  <a:srgbClr val="ffffff"/>
                </a:solidFill>
                <a:latin typeface="Times New Roman"/>
              </a:rPr>
              <a:t> المالية بالقوائم المالية مفيدا للآخر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685800" y="498600"/>
            <a:ext cx="7772400" cy="521460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ايير المحاسبة الدول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م تكوين لجنة معايير المحاسبة الدولية عام </a:t>
            </a:r>
            <a:r>
              <a:rPr b="0" lang="ar-SA" sz="2400" spc="-1" strike="noStrike">
                <a:solidFill>
                  <a:srgbClr val="ffffff"/>
                </a:solidFill>
                <a:latin typeface="Times New Roman"/>
              </a:rPr>
              <a:t>1973</a:t>
            </a:r>
            <a:r>
              <a:rPr b="0" lang="ar-SA" sz="2400" spc="-1" strike="noStrike">
                <a:solidFill>
                  <a:srgbClr val="ffffff"/>
                </a:solidFill>
                <a:latin typeface="Times New Roman"/>
              </a:rPr>
              <a:t> وتتكون من ممثلى الهيئات المحاسبية فى العالم .</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ليس من الضرورى لكل الدول التى فيها هيئات محاسبية أعضاء فى لجنة معايير المحاسبة الدولية أن تطبق معايير المحاسبة الدولية الصادرة عن اللجنة المذكور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ولى إدارة نشاط لجنة معايير المحاسبة الدولية مجلس مكون من مندوبى ما يقرب من ثلاثة عشر دولة بالإضافة الى بعض المنظمات التى لديها إهتمامات فى إعداد التقارير المالية يصل عددها الى اربعة منظمات (مثل المنظمة الدولية لهيئات سوق الما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0" y="41400"/>
            <a:ext cx="8991720" cy="5488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خصائص المميزة للمعلومات المحاسب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الأهمية النسب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المعلومات الغير مهمة غير مفيد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ماذا يجعل المعلومات المالية مفيد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المـلائم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إمكانية الأعتماد عل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ماذا يجعل المعلومة ملائم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ماذا يجعل المعلومة يمكن الأعتماد عل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1800" spc="-1" strike="noStrike">
                <a:solidFill>
                  <a:srgbClr val="ffffff"/>
                </a:solidFill>
                <a:latin typeface="Times New Roman"/>
              </a:rPr>
              <a:t>( المعلومات التى تؤثر فى القرار)</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 المعلومات التى تخلو من الأخطاء والتحيز)</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قيمة يمكن </a:t>
            </a:r>
            <a:r>
              <a:rPr b="0" lang="ar-SA" sz="1800" spc="-1" strike="noStrike">
                <a:solidFill>
                  <a:srgbClr val="ffffff"/>
                </a:solidFill>
                <a:latin typeface="Times New Roman"/>
              </a:rPr>
              <a:t>	</a:t>
            </a:r>
            <a:r>
              <a:rPr b="0" lang="ar-SA" sz="1800" spc="-1" strike="noStrike">
                <a:solidFill>
                  <a:srgbClr val="ffffff"/>
                </a:solidFill>
                <a:latin typeface="Times New Roman"/>
              </a:rPr>
              <a:t>      مصداقية القيمة</a:t>
            </a:r>
            <a:r>
              <a:rPr b="0" lang="ar-SA" sz="1800" spc="-1" strike="noStrike">
                <a:solidFill>
                  <a:srgbClr val="ffffff"/>
                </a:solidFill>
                <a:latin typeface="Times New Roman"/>
              </a:rPr>
              <a:t>	</a:t>
            </a:r>
            <a:r>
              <a:rPr b="0" lang="ar-SA" sz="1800" spc="-1" strike="noStrike">
                <a:solidFill>
                  <a:srgbClr val="ffffff"/>
                </a:solidFill>
                <a:latin typeface="Times New Roman"/>
              </a:rPr>
              <a:t> إختيار بين المفردات</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مكتملـــ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التنبؤ بها</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  أو العناصر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متحفظ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محايد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علاقة متداخل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التعبير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الصادق</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تهتم بالمحتوى</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01" name=""/>
          <p:cNvSpPr/>
          <p:nvPr/>
        </p:nvSpPr>
        <p:spPr>
          <a:xfrm flipH="1">
            <a:off x="7467480" y="6858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H="1">
            <a:off x="380520" y="68580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3124080" y="91440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380520" y="106668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H="1">
            <a:off x="7467480" y="10666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H="1">
            <a:off x="3124080" y="1295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297180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8088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601992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312408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883908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46748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1600200" y="182880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7162920" y="21337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H="1">
            <a:off x="1600200" y="220968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7162920" y="17524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8077320" y="1752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60020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50532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162920" y="1828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H="1">
            <a:off x="762120" y="32767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H="1">
            <a:off x="1371240" y="38098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H="1">
            <a:off x="3352320" y="4343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H="1">
            <a:off x="3962160" y="5181480"/>
            <a:ext cx="1447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685800" y="35812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H="1">
            <a:off x="1371240" y="4114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H="1">
            <a:off x="3276720" y="50292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H="1">
            <a:off x="3962160" y="5562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H="1">
            <a:off x="79246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a:off x="64008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H="1">
            <a:off x="4495320" y="32767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H="1">
            <a:off x="80010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H="1">
            <a:off x="640080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H="1">
            <a:off x="4495320" y="39625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8610480" y="4038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6629400" y="38098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67652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H="1">
            <a:off x="685800" y="3276720"/>
            <a:ext cx="763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43828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371600" y="38098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H="1">
            <a:off x="3276360" y="4343400"/>
            <a:ext cx="7596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038480" y="43434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410080" y="5181480"/>
            <a:ext cx="763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962520" y="5181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H="1">
            <a:off x="259056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H="1">
            <a:off x="2514240" y="44956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H="1">
            <a:off x="2514600" y="411480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27672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891540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92468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69608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640080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617220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49568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662940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H="1">
            <a:off x="830592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6095880" y="838080"/>
            <a:ext cx="1371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495680" y="1371600"/>
            <a:ext cx="25146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3581280" y="13716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1752480" y="3124080"/>
            <a:ext cx="6098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1905120" y="35053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514600" y="38862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114800" y="4648320"/>
            <a:ext cx="609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352680" y="41148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a:off x="5638320" y="3048120"/>
            <a:ext cx="16765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7315200" y="3048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7315200" y="3048120"/>
            <a:ext cx="10666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8" name=""/>
          <p:cNvSpPr/>
          <p:nvPr/>
        </p:nvSpPr>
        <p:spPr>
          <a:xfrm>
            <a:off x="380880" y="270000"/>
            <a:ext cx="8458200" cy="7043400"/>
          </a:xfrm>
          <a:prstGeom prst="rect">
            <a:avLst/>
          </a:prstGeom>
          <a:noFill/>
          <a:ln w="0">
            <a:noFill/>
          </a:ln>
        </p:spPr>
        <p:style>
          <a:lnRef idx="0"/>
          <a:fillRef idx="0"/>
          <a:effectRef idx="0"/>
          <a:fontRef idx="minor"/>
        </p:style>
        <p:txBody>
          <a:bodyPr lIns="90000" rIns="90000" tIns="46800" bIns="46800" anchor="t">
            <a:spAutoFit/>
          </a:bodyPr>
          <a:p>
            <a:pPr marL="168120" indent="-106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همية النسبية</a:t>
            </a:r>
            <a:endParaRPr b="0" lang="en-US" sz="2400" spc="-1" strike="noStrike">
              <a:solidFill>
                <a:srgbClr val="ffffff"/>
              </a:solidFill>
              <a:latin typeface="Times New Roman"/>
            </a:endParaRPr>
          </a:p>
          <a:p>
            <a:pPr marL="168120" indent="-1062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لاخذ فى الإعتبار الخاصية الأساسية قبل النظر الى الخصائص الأخرى ، فإذا لم تجتاز المعلومة الأهمية النسبية فإنه لا يجب النظر اليها.</a:t>
            </a:r>
            <a:endParaRPr b="0" lang="en-US" sz="2400" spc="-1" strike="noStrike">
              <a:solidFill>
                <a:srgbClr val="ffffff"/>
              </a:solidFill>
              <a:latin typeface="Times New Roman"/>
            </a:endParaRPr>
          </a:p>
          <a:p>
            <a:pPr marL="168120" indent="-1062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عتبر المعلومة مهمة إذا كان حذفها أو الخطأ فى عرضها يمكن أن يؤثر على القرارات الإقتصادية التى يتخذها مستخدمى القوائم المالية.</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لائمـــــــة</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وفر خاصية الملائمة فى المعلومات حينما تؤثر فى القرارات الأقتصادية لمستخدمى القوائم المالية بمساعدتهم فى تقييم الأحداث الماضية والحاضرة والمستقبلية أو لتأكيد وتصحيح تقييمهم السابق. (أهمية عرض العناصر غير العادية بصورة منفصلة عن الأنشطة التشغيلية بقائمة الدخل).</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مكانية الإعتماد على المعلومة</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مكن الإعتماد على المعلومة عندما تكون خالية من الاخطاء الهامة وتكون غير منحازة وتم الأفصاح عنها بأمانة</a:t>
            </a:r>
            <a:r>
              <a:rPr b="0" lang="en-US" sz="2400" spc="-1" strike="noStrike">
                <a:solidFill>
                  <a:srgbClr val="ffffff"/>
                </a:solidFill>
                <a:latin typeface="Times New Roman"/>
              </a:rPr>
              <a:t> </a:t>
            </a:r>
            <a:r>
              <a:rPr b="0" lang="ar-SA" sz="2400" spc="-1" strike="noStrike">
                <a:solidFill>
                  <a:srgbClr val="ffffff"/>
                </a:solidFill>
                <a:latin typeface="Arial"/>
                <a:cs typeface="Arial"/>
              </a:rPr>
              <a:t>وبشكل</a:t>
            </a:r>
            <a:r>
              <a:rPr b="0" lang="ar-SA" sz="2400" spc="-1" strike="noStrike">
                <a:solidFill>
                  <a:srgbClr val="ffffff"/>
                </a:solidFill>
                <a:latin typeface="Times New Roman"/>
              </a:rPr>
              <a:t> صحيح وتوفر العرض الصادق المتوقع منها ، او الذى يكون متوقع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9" name=""/>
          <p:cNvSpPr/>
          <p:nvPr/>
        </p:nvSpPr>
        <p:spPr>
          <a:xfrm>
            <a:off x="152280" y="838080"/>
            <a:ext cx="8686800" cy="4545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خصائص النوعية المتعلقة بعرض القوائم المال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خصائص التى تجعل عرض المعلومات المالية مفيد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قابليتها للمقارن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قابليتها للف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تجانس</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أفصاح عن</a:t>
            </a:r>
            <a:r>
              <a:rPr b="0" lang="ar-SA" sz="2000" spc="-1" strike="noStrike">
                <a:solidFill>
                  <a:srgbClr val="ffffff"/>
                </a:solidFill>
                <a:latin typeface="Times New Roman"/>
              </a:rPr>
              <a:t>	</a:t>
            </a:r>
            <a:r>
              <a:rPr b="0" lang="ar-SA" sz="2000" spc="-1" strike="noStrike">
                <a:solidFill>
                  <a:srgbClr val="ffffff"/>
                </a:solidFill>
                <a:latin typeface="Times New Roman"/>
              </a:rPr>
              <a:t>           قدرة مستخدمى</a:t>
            </a:r>
            <a:r>
              <a:rPr b="0" lang="ar-SA" sz="2000" spc="-1" strike="noStrike">
                <a:solidFill>
                  <a:srgbClr val="ffffff"/>
                </a:solidFill>
                <a:latin typeface="Times New Roman"/>
              </a:rPr>
              <a:t>	</a:t>
            </a:r>
            <a:r>
              <a:rPr b="0" lang="ar-SA" sz="2000" spc="-1" strike="noStrike">
                <a:solidFill>
                  <a:srgbClr val="ffffff"/>
                </a:solidFill>
                <a:latin typeface="Times New Roman"/>
              </a:rPr>
              <a:t>       التبويب وتجميع</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السياسات المحاسبية          المعلومات على   </a:t>
            </a:r>
            <a:r>
              <a:rPr b="0" lang="ar-SA" sz="2000" spc="-1" strike="noStrike">
                <a:solidFill>
                  <a:srgbClr val="ffffff"/>
                </a:solidFill>
                <a:latin typeface="Times New Roman"/>
              </a:rPr>
              <a:t>	</a:t>
            </a:r>
            <a:r>
              <a:rPr b="0" lang="ar-SA" sz="2000" spc="-1" strike="noStrike">
                <a:solidFill>
                  <a:srgbClr val="ffffff"/>
                </a:solidFill>
                <a:latin typeface="Times New Roman"/>
              </a:rPr>
              <a:t>       البنود</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الأرقام المقارنة</a:t>
            </a:r>
            <a:r>
              <a:rPr b="0" lang="ar-SA" sz="2000" spc="-1" strike="noStrike">
                <a:solidFill>
                  <a:srgbClr val="ffffff"/>
                </a:solidFill>
                <a:latin typeface="Times New Roman"/>
              </a:rPr>
              <a:t>	</a:t>
            </a:r>
            <a:r>
              <a:rPr b="0" lang="ar-SA" sz="2000" spc="-1" strike="noStrike">
                <a:solidFill>
                  <a:srgbClr val="ffffff"/>
                </a:solidFill>
                <a:latin typeface="Times New Roman"/>
              </a:rPr>
              <a:t>          الف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0" name=""/>
          <p:cNvSpPr/>
          <p:nvPr/>
        </p:nvSpPr>
        <p:spPr>
          <a:xfrm flipH="1">
            <a:off x="2133360" y="19051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2133360" y="243828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6095880" y="28195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H="1">
            <a:off x="2057400" y="28195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6095880" y="32767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H="1">
            <a:off x="2057400" y="335268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a:off x="7924680" y="4038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a:off x="4800240" y="40384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297144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380880" y="40384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a:off x="380880" y="480060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a:off x="2971440" y="518148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4876560" y="518148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a:off x="7924680" y="47242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934320" y="19051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2133720" y="19051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505320" y="28195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2057400" y="28195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543800" y="2819520"/>
            <a:ext cx="763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6095880" y="2819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209680" y="40384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80880" y="40384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4572000" y="4038480"/>
            <a:ext cx="7632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971800" y="4038480"/>
            <a:ext cx="7632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00600" y="4038480"/>
            <a:ext cx="7632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93432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924680" y="40384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8915400" y="40384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H="1">
            <a:off x="3504960" y="2514600"/>
            <a:ext cx="9903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a:off x="1523520" y="3429000"/>
            <a:ext cx="1143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2743200" y="3429000"/>
            <a:ext cx="9144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a:off x="5943240" y="3352680"/>
            <a:ext cx="76212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781680" y="3352680"/>
            <a:ext cx="152424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572000" y="2514600"/>
            <a:ext cx="1523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4" name=""/>
          <p:cNvSpPr/>
          <p:nvPr/>
        </p:nvSpPr>
        <p:spPr>
          <a:xfrm>
            <a:off x="380880" y="304920"/>
            <a:ext cx="8458200" cy="6707880"/>
          </a:xfrm>
          <a:prstGeom prst="rect">
            <a:avLst/>
          </a:prstGeom>
          <a:noFill/>
          <a:ln w="0">
            <a:noFill/>
          </a:ln>
        </p:spPr>
        <p:style>
          <a:lnRef idx="0"/>
          <a:fillRef idx="0"/>
          <a:effectRef idx="0"/>
          <a:fontRef idx="minor"/>
        </p:style>
        <p:txBody>
          <a:bodyPr lIns="90000" rIns="90000" tIns="46800" bIns="46800" anchor="t">
            <a:spAutoFit/>
          </a:bodyPr>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ابلية للمقارن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أن يتمكن مستخدمى القوائم المالية من إجراء مقارنة لمحتويات القوائم المالية للمنشأة على مدار فترات زمنية لتحديد إتجاهات وتطورات عناصر المركز المالى ونتائج الأعمال. كما يجب إمكانية إجراء المقارنة للقوائم المالية للمنشآت المختلفة للوقوف على مراكزها المالية ونتائج اعمالها. لذا فإن الثبات فى إسلوب إعداد القوائم أمر ضرورى.</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خطار مستخدمى القوائم المالية بالسياسات المحاسبية المستخدمة وأى تغيير فى هذه السياسات واثره والإلتزام بالمعايير المحاسبية يساعد فى تحقيق القابلية للمقارن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ابلية للفهــم</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عرض المعلومات بطريقة واضحة يكون من السهل فهم مضمونها، وفى هذا الأطار ينبغى أن يتوافر لدى مستخدمى القوائم المالية القدرة والمعلومات المناسبة عن طبيعة نشاط المنشأة والمحاسبة بالأضافة الى الرغبة فى دراسة المعلومات بعناية مقبو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05" name=""/>
          <p:cNvSpPr/>
          <p:nvPr/>
        </p:nvSpPr>
        <p:spPr>
          <a:xfrm>
            <a:off x="533520" y="650880"/>
            <a:ext cx="7696080" cy="460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حددات الخاصة بالمعلومات الملائمة والتى يمكن الأعتماد عليها</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 هى محددات تطبيق الخصائص النوع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وازن بين الخصائص</a:t>
            </a:r>
            <a:r>
              <a:rPr b="1" lang="ar-SA" sz="2000" spc="-1" strike="noStrike">
                <a:solidFill>
                  <a:srgbClr val="ffffff"/>
                </a:solidFill>
                <a:latin typeface="Times New Roman"/>
              </a:rPr>
              <a:t>	</a:t>
            </a:r>
            <a:r>
              <a:rPr b="1" lang="ar-SA" sz="2000" spc="-1" strike="noStrike">
                <a:solidFill>
                  <a:srgbClr val="ffffff"/>
                </a:solidFill>
                <a:latin typeface="Times New Roman"/>
              </a:rPr>
              <a:t>تقديم المعلومات ف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مقارنة التكلفة بالعائد</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وقت المناسب</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6" name=""/>
          <p:cNvSpPr/>
          <p:nvPr/>
        </p:nvSpPr>
        <p:spPr>
          <a:xfrm flipH="1">
            <a:off x="6095520" y="35053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H="1">
            <a:off x="3580920" y="35053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685800" y="350532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a:off x="1981080" y="16765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H="1">
            <a:off x="6095520" y="42670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5715000" y="46483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H="1">
            <a:off x="3580920" y="42670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685800" y="4267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1981080" y="24382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7010280" y="1676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981080" y="1676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89548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68580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571500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58128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609588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822960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flipH="1">
            <a:off x="1905120" y="2590920"/>
            <a:ext cx="259056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495680" y="25909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4495680" y="2590920"/>
            <a:ext cx="25146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6" name=""/>
          <p:cNvSpPr/>
          <p:nvPr/>
        </p:nvSpPr>
        <p:spPr>
          <a:xfrm>
            <a:off x="6613560" y="49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457200" y="533520"/>
            <a:ext cx="83818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حددات الخاصة بالمعلومات الملائمة والتى يمكن الأعتماد عليها</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حسين جودة المعلومة لا يتحقق إلا بتكلفة أو بتخفيض مستوى جودة خاصية أخر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وازنة بين الخصائص النوع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الهدف هوتحقيق التوازن الملائم بين الخصائص النوعية نحو تحقيق أهداف القوائم الم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وفير المعلومات فى الوقت المناسب</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التأخر فى الإفصاح عن معلومة معينة قد يفقدها خاصية الملائم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ئد والتكلف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يتعين أن يفوق العائد المتوقع الحصول عليه من المعلومة تكلفة الحصول عل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8" name=""/>
          <p:cNvSpPr/>
          <p:nvPr/>
        </p:nvSpPr>
        <p:spPr>
          <a:xfrm>
            <a:off x="380880" y="727200"/>
            <a:ext cx="7925040" cy="41173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فهوم العرض الصادق والحقيقى للقوائم المال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وفر القوائم المالية فى الأحوال العادية العرض الصادق والحقيقى للمركز المالى للمنشاة ونتائج أعمالها وتدفقاتها النقد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أطار العام لا يتعامل مع هذا المفهوم مباشرة إلا أن تطبيق المباديء المتعلقة بالخصائص النوعية يجب أن ينتج عنه فى الظروف العادية قوائم مالية تحقق العرض الصادق والحقيقى للمعلومات ال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9" name=""/>
          <p:cNvSpPr/>
          <p:nvPr/>
        </p:nvSpPr>
        <p:spPr>
          <a:xfrm>
            <a:off x="1371600" y="990720"/>
            <a:ext cx="693432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عناصر القوائم المالية</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صـــــــــول</a:t>
            </a:r>
            <a:endParaRPr b="0" lang="en-US" sz="2400" spc="-1" strike="noStrike">
              <a:solidFill>
                <a:srgbClr val="ffffff"/>
              </a:solidFill>
              <a:latin typeface="Times New Roman"/>
            </a:endParaRPr>
          </a:p>
          <a:p>
            <a:pPr marL="457200" indent="-457200" algn="ct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إلتزامــــــــات</a:t>
            </a:r>
            <a:endParaRPr b="0" lang="en-US" sz="2400" spc="-1" strike="noStrike">
              <a:solidFill>
                <a:srgbClr val="ffffff"/>
              </a:solidFill>
              <a:latin typeface="Times New Roman"/>
            </a:endParaRPr>
          </a:p>
          <a:p>
            <a:pPr marL="457200" indent="-457200" algn="ct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حقـوق الملكيـــة</a:t>
            </a:r>
            <a:endParaRPr b="0" lang="en-US" sz="2400" spc="-1" strike="noStrike">
              <a:solidFill>
                <a:srgbClr val="ffffff"/>
              </a:solidFill>
              <a:latin typeface="Times New Roman"/>
            </a:endParaRPr>
          </a:p>
          <a:p>
            <a:pPr marL="457200" indent="-457200" algn="ct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إيــــــــرادات</a:t>
            </a:r>
            <a:endParaRPr b="0" lang="en-US" sz="2400" spc="-1" strike="noStrike">
              <a:solidFill>
                <a:srgbClr val="ffffff"/>
              </a:solidFill>
              <a:latin typeface="Times New Roman"/>
            </a:endParaRPr>
          </a:p>
          <a:p>
            <a:pPr marL="457200" indent="-457200" algn="ct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صـــــ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0" name=""/>
          <p:cNvSpPr/>
          <p:nvPr/>
        </p:nvSpPr>
        <p:spPr>
          <a:xfrm>
            <a:off x="457200" y="345960"/>
            <a:ext cx="777240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Arial"/>
              </a:rPr>
              <a:t>الأصـــــــــو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Arial"/>
              </a:rPr>
              <a:t>” يعرف الأصل بأنه أحد الموارد التى توضع </a:t>
            </a:r>
            <a:r>
              <a:rPr b="0" lang="ar-EG" sz="2400" spc="-1" strike="noStrike" u="sng">
                <a:solidFill>
                  <a:srgbClr val="ffffff"/>
                </a:solidFill>
                <a:uFillTx/>
                <a:latin typeface="Times New Roman"/>
                <a:cs typeface="Arial"/>
              </a:rPr>
              <a:t>تحت تصرف المنشأة</a:t>
            </a:r>
            <a:r>
              <a:rPr b="0" lang="ar-EG" sz="2400" spc="-1" strike="noStrike">
                <a:solidFill>
                  <a:srgbClr val="ffffff"/>
                </a:solidFill>
                <a:latin typeface="Times New Roman"/>
                <a:ea typeface="Arial"/>
              </a:rPr>
              <a:t> </a:t>
            </a:r>
            <a:r>
              <a:rPr b="0" lang="ar-EG" sz="2400" spc="-1" strike="noStrike" u="sng">
                <a:solidFill>
                  <a:srgbClr val="ffffff"/>
                </a:solidFill>
                <a:uFillTx/>
                <a:latin typeface="Times New Roman"/>
                <a:cs typeface="Arial"/>
              </a:rPr>
              <a:t>نتيجة معاملات تاريخية</a:t>
            </a:r>
            <a:r>
              <a:rPr b="0" lang="ar-EG" sz="2400" spc="-1" strike="noStrike">
                <a:solidFill>
                  <a:srgbClr val="ffffff"/>
                </a:solidFill>
                <a:latin typeface="Times New Roman"/>
                <a:ea typeface="Arial"/>
              </a:rPr>
              <a:t> ويتوقع الحصول منه على </a:t>
            </a:r>
            <a:r>
              <a:rPr b="0" lang="ar-EG" sz="2400" spc="-1" strike="noStrike" u="sng">
                <a:solidFill>
                  <a:srgbClr val="ffffff"/>
                </a:solidFill>
                <a:uFillTx/>
                <a:latin typeface="Times New Roman"/>
                <a:cs typeface="Arial"/>
              </a:rPr>
              <a:t>منافع إقتصادية</a:t>
            </a:r>
            <a:r>
              <a:rPr b="0" lang="ar-EG" sz="2400" spc="-1" strike="noStrike">
                <a:solidFill>
                  <a:srgbClr val="ffffff"/>
                </a:solidFill>
                <a:latin typeface="Times New Roman"/>
                <a:ea typeface="Arial"/>
              </a:rPr>
              <a:t> </a:t>
            </a:r>
            <a:r>
              <a:rPr b="0" lang="ar-EG" sz="2400" spc="-1" strike="noStrike" u="sng">
                <a:solidFill>
                  <a:srgbClr val="ffffff"/>
                </a:solidFill>
                <a:uFillTx/>
                <a:latin typeface="Times New Roman"/>
                <a:cs typeface="Arial"/>
              </a:rPr>
              <a:t>مستقبلية</a:t>
            </a:r>
            <a:r>
              <a:rPr b="0" lang="ar-EG" sz="2400" spc="-1" strike="noStrike">
                <a:solidFill>
                  <a:srgbClr val="ffffff"/>
                </a:solidFill>
                <a:latin typeface="Times New Roman"/>
                <a:ea typeface="Arial"/>
              </a:rPr>
              <a:t> تتدفق على المنشاة “.</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سيطرة أو تحكم المنشأة على الأصل</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ial"/>
              </a:rPr>
              <a:t>	</a:t>
            </a:r>
            <a:r>
              <a:rPr b="0" lang="ar-SA" sz="2400" spc="-1" strike="noStrike">
                <a:solidFill>
                  <a:srgbClr val="ffffff"/>
                </a:solidFill>
                <a:latin typeface="Times New Roman"/>
                <a:cs typeface="Arial"/>
              </a:rPr>
              <a:t>القدرة على الحصول على المنافع الأقتصادية مع منع الغير من الحصول عليها.</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الأحداث التاريخية المرتبطة بالأصل</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ial"/>
              </a:rPr>
              <a:t>	</a:t>
            </a:r>
            <a:r>
              <a:rPr b="0" lang="ar-SA" sz="2400" spc="-1" strike="noStrike">
                <a:solidFill>
                  <a:srgbClr val="ffffff"/>
                </a:solidFill>
                <a:latin typeface="Times New Roman"/>
                <a:cs typeface="Arial"/>
              </a:rPr>
              <a:t>يتعين ان يكون الاصل ناتجا عن أحداث ماضية (إنتقال حق ملكية أصل قبل بداية إستلامه أو إستخدامه).</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منافع الاصل الأقتصادية المستقبلية</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ial"/>
              </a:rPr>
              <a:t>	</a:t>
            </a:r>
            <a:r>
              <a:rPr b="0" lang="ar-SA" sz="2400" spc="-1" strike="noStrike">
                <a:solidFill>
                  <a:srgbClr val="ffffff"/>
                </a:solidFill>
                <a:latin typeface="Times New Roman"/>
                <a:cs typeface="Arial"/>
              </a:rPr>
              <a:t>تتحقق دلالة وجود المنافع عن طريق إستلام النقدية أو أى عنصر (عملاء) يمكن بيعه وتحويله الى نقد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1" name=""/>
          <p:cNvSpPr/>
          <p:nvPr/>
        </p:nvSpPr>
        <p:spPr>
          <a:xfrm>
            <a:off x="990720" y="1135080"/>
            <a:ext cx="61498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457200" y="650880"/>
            <a:ext cx="8305920" cy="4848840"/>
          </a:xfrm>
          <a:prstGeom prst="rect">
            <a:avLst/>
          </a:prstGeom>
          <a:noFill/>
          <a:ln w="0">
            <a:noFill/>
          </a:ln>
        </p:spPr>
        <p:style>
          <a:lnRef idx="0"/>
          <a:fillRef idx="0"/>
          <a:effectRef idx="0"/>
          <a:fontRef idx="minor"/>
        </p:style>
        <p:txBody>
          <a:bodyPr lIns="90000" rIns="90000" tIns="46800" bIns="46800" anchor="t">
            <a:spAutoFit/>
          </a:bodyPr>
          <a:p>
            <a:pPr marL="399960" indent="-399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لتزامـــــــــــــــــــــــــات</a:t>
            </a:r>
            <a:endParaRPr b="0" lang="en-US" sz="2400" spc="-1" strike="noStrike">
              <a:solidFill>
                <a:srgbClr val="ffffff"/>
              </a:solidFill>
              <a:latin typeface="Times New Roman"/>
            </a:endParaRPr>
          </a:p>
          <a:p>
            <a:pPr marL="399960" indent="-399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مثل الإلتزامات تعهدات على المنشأة لتحويل منافع إقتصادية نتيجة للمعاملات والأحداث السابقة “</a:t>
            </a: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عهدات</a:t>
            </a: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قد تكون إلتزامات قانونية أوغير قانونية ( مثال: الإلتزامات الضريبية ).</a:t>
            </a: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2</a:t>
            </a:r>
            <a:r>
              <a:rPr b="0" lang="ar-SA" sz="2400" spc="-1" strike="noStrike">
                <a:solidFill>
                  <a:srgbClr val="ffffff"/>
                </a:solidFill>
                <a:latin typeface="Times New Roman"/>
              </a:rPr>
              <a:t>.  </a:t>
            </a:r>
            <a:r>
              <a:rPr b="1" lang="ar-SA" sz="2400" spc="-1" strike="noStrike">
                <a:solidFill>
                  <a:srgbClr val="ffffff"/>
                </a:solidFill>
                <a:latin typeface="Times New Roman"/>
              </a:rPr>
              <a:t>تحويل المنافع الإقتصادية</a:t>
            </a:r>
            <a:endParaRPr b="0" lang="en-US" sz="2400" spc="-1" strike="noStrike">
              <a:solidFill>
                <a:srgbClr val="ffffff"/>
              </a:solidFill>
              <a:latin typeface="Times New Roman"/>
            </a:endParaRPr>
          </a:p>
          <a:p>
            <a:pPr marL="399960" indent="-399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قد يتمثل فى تحويل نقدية أوممتلكات أخرى أو آداء خدمات أو الأمتناع عن القيام بأنشطة معينة تؤدى الى تحقيق الربح أو قد يتمثل فى إنشاء التزام آخر لتسوية إلتزام قائ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838080" y="762120"/>
            <a:ext cx="7086600" cy="5946120"/>
          </a:xfrm>
          <a:prstGeom prst="rect">
            <a:avLst/>
          </a:prstGeom>
          <a:noFill/>
          <a:ln w="0">
            <a:noFill/>
          </a:ln>
        </p:spPr>
        <p:style>
          <a:lnRef idx="0"/>
          <a:fillRef idx="0"/>
          <a:effectRef idx="0"/>
          <a:fontRef idx="minor"/>
        </p:style>
        <p:txBody>
          <a:bodyPr lIns="90000" rIns="90000" tIns="46800" bIns="46800" anchor="t">
            <a:spAutoFit/>
          </a:bodyPr>
          <a:p>
            <a:pPr marL="230040" indent="-61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هداف لجنة معايير المحاسبة الدولية</a:t>
            </a:r>
            <a:endParaRPr b="0" lang="en-US" sz="2400" spc="-1" strike="noStrike">
              <a:solidFill>
                <a:srgbClr val="ffffff"/>
              </a:solidFill>
              <a:latin typeface="Times New Roman"/>
            </a:endParaRPr>
          </a:p>
          <a:p>
            <a:pPr marL="230040" indent="-61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619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شر المعايير المحاسبية التى يتم تطبيقها عند إعداد القوائم المالية وتشجيع قبولها على المستوى العالمى.</a:t>
            </a:r>
            <a:endParaRPr b="0" lang="en-US" sz="2400" spc="-1" strike="noStrike">
              <a:solidFill>
                <a:srgbClr val="ffffff"/>
              </a:solidFill>
              <a:latin typeface="Times New Roman"/>
            </a:endParaRPr>
          </a:p>
          <a:p>
            <a:pPr marL="230040" indent="-619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61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2</a:t>
            </a:r>
            <a:r>
              <a:rPr b="0" lang="ar-SA" sz="2400" spc="-1" strike="noStrike">
                <a:solidFill>
                  <a:srgbClr val="ffffff"/>
                </a:solidFill>
                <a:latin typeface="Times New Roman"/>
              </a:rPr>
              <a:t>. العمل على تحسين وتحديث التعليمات والمعايير والإجراءات المحاسبية المتعلقة بإعداد وعرض القوائم المالية.</a:t>
            </a:r>
            <a:endParaRPr b="0" lang="en-US" sz="2400" spc="-1" strike="noStrike">
              <a:solidFill>
                <a:srgbClr val="ffffff"/>
              </a:solidFill>
              <a:latin typeface="Times New Roman"/>
            </a:endParaRPr>
          </a:p>
          <a:p>
            <a:pPr marL="230040" indent="-61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61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لتزام بمعايير المحاسبة الدولية</a:t>
            </a:r>
            <a:endParaRPr b="0" lang="en-US" sz="2400" spc="-1" strike="noStrike">
              <a:solidFill>
                <a:srgbClr val="ffffff"/>
              </a:solidFill>
              <a:latin typeface="Times New Roman"/>
            </a:endParaRPr>
          </a:p>
          <a:p>
            <a:pPr marL="230040" indent="-61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61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تملك لجنة معايير المحاسبة الدولية ولا الهيئات المحاسبية سلطة فرض الإلتزام بتطبيق معايير المحاسبة الدولية. وإنما تتبنى بعض الدول تطبيقها بإعتبارها معايير محلية خاصة بها.</a:t>
            </a:r>
            <a:endParaRPr b="0" lang="en-US" sz="2400" spc="-1" strike="noStrike">
              <a:solidFill>
                <a:srgbClr val="ffffff"/>
              </a:solidFill>
              <a:latin typeface="Times New Roman"/>
            </a:endParaRPr>
          </a:p>
          <a:p>
            <a:pPr marL="230040" indent="-61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3" name=""/>
          <p:cNvSpPr/>
          <p:nvPr/>
        </p:nvSpPr>
        <p:spPr>
          <a:xfrm>
            <a:off x="533520" y="879480"/>
            <a:ext cx="8153280" cy="4483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قوق الملكيـــــــــــــــــ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عرف بأنها الرصيد المتبقى بعد طرح كافة الإلتزامات من جميع أصول المنشاة  “</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مجرد زيادة حقوق الملكية تزداد ثروة أصحاب المنشأة بصرف النظر عن إجراء توزيعات للربح أو عدم إجراءها حيث يؤثر ذلك على قيمة السهم.</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عرض حقوق الملكية بشكل يوضح الحقوق الناتجة عن مساهمات أصحاب المنشاة عن تلك التى تحققت من أحداث أخرى مثل الإحتياطيات والارباح المحتجزة وخلاف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4" name=""/>
          <p:cNvSpPr/>
          <p:nvPr/>
        </p:nvSpPr>
        <p:spPr>
          <a:xfrm>
            <a:off x="380880" y="304920"/>
            <a:ext cx="8458200" cy="6357240"/>
          </a:xfrm>
          <a:prstGeom prst="rect">
            <a:avLst/>
          </a:prstGeom>
          <a:noFill/>
          <a:ln w="0">
            <a:noFill/>
          </a:ln>
        </p:spPr>
        <p:style>
          <a:lnRef idx="0"/>
          <a:fillRef idx="0"/>
          <a:effectRef idx="0"/>
          <a:fontRef idx="minor"/>
        </p:style>
        <p:txBody>
          <a:bodyPr lIns="90000" rIns="90000" tIns="46800" bIns="46800" anchor="t">
            <a:spAutoFit/>
          </a:bodyPr>
          <a:p>
            <a:pPr marL="230040" indent="-230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يـــــــــــــــــــــرادات</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30040" indent="-23004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مثل الزيادة فى المنافع الإقتصادية التى تتحقق خلال الفترة المحاسبية عن طريق التدفقات الداخلة ، أو تعظيم قيمة الأصول أو النقص فى الإلتزامات ويترتب على ذلك زيادة حقوق الملكية بخلاف الزيادة من مساهمات أصحاب المنشأة“ </a:t>
            </a:r>
            <a:endParaRPr b="0" lang="en-US" sz="2400" spc="-1" strike="noStrike">
              <a:solidFill>
                <a:srgbClr val="ffffff"/>
              </a:solidFill>
              <a:latin typeface="Times New Roman"/>
            </a:endParaRPr>
          </a:p>
          <a:p>
            <a:pPr marL="230040" indent="-230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صروفــــــــــــــــــــــــــات</a:t>
            </a:r>
            <a:endParaRPr b="0" lang="en-US" sz="2400" spc="-1" strike="noStrike">
              <a:solidFill>
                <a:srgbClr val="ffffff"/>
              </a:solidFill>
              <a:latin typeface="Times New Roman"/>
            </a:endParaRPr>
          </a:p>
          <a:p>
            <a:pPr marL="230040" indent="-230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مثل النقص فى المنافع الإقتصادية التى تتحقق خلال الفترة المحاسبية عن طريق التدفقات الخارجة ، أو نقص فى قيمة الأصول أو زيادة فى قيمة الإلتزامات ويترتب على ذلك نقص حقوق الملكية بخلاف التدفقات الخارجة التى تتعلق بتوزيعات الأرباح أو تخفيض مساهمات أصحاب المنشأ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5" name=""/>
          <p:cNvSpPr/>
          <p:nvPr/>
        </p:nvSpPr>
        <p:spPr>
          <a:xfrm>
            <a:off x="304920" y="609480"/>
            <a:ext cx="82296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حقق من عناصر القوائم الم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مثل التحقق من عناصر القوائم المالية:</a:t>
            </a: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حديد وجود هذه العناصر. و</a:t>
            </a: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حديد قيمتها الدفترية. و</a:t>
            </a:r>
            <a:endParaRPr b="0" lang="en-US" sz="2400" spc="-1" strike="noStrike">
              <a:solidFill>
                <a:srgbClr val="ffffff"/>
              </a:solidFill>
              <a:latin typeface="Times New Roman"/>
            </a:endParaRPr>
          </a:p>
          <a:p>
            <a:pPr marL="457200" indent="-45720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إفصاح عنها ضمن عناصر القوائم المالية.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درج العناصر بالقوائم المالي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عند إستيفاء كافة شروط التحقق.</a:t>
            </a:r>
            <a:endParaRPr b="0" lang="en-US" sz="24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تدرج العناصر بالقوائم المالي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عند عدم إستيفاء كافة شروط التحقق.</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ويجب الإفصاح عن ذلك.</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6" name=""/>
          <p:cNvSpPr/>
          <p:nvPr/>
        </p:nvSpPr>
        <p:spPr>
          <a:xfrm>
            <a:off x="5013360" y="1260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
          <p:cNvSpPr/>
          <p:nvPr/>
        </p:nvSpPr>
        <p:spPr>
          <a:xfrm>
            <a:off x="762120" y="725400"/>
            <a:ext cx="8001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ديد وجود عناصر القوائم المال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م تحديد وجود عنصر القوائم المالية إذا توافرت أحد المعايير التالية: </a:t>
            </a:r>
            <a:endParaRPr b="0" lang="en-US" sz="2400" spc="-1" strike="noStrike">
              <a:solidFill>
                <a:srgbClr val="ffffff"/>
              </a:solidFill>
              <a:latin typeface="Times New Roman"/>
            </a:endParaRPr>
          </a:p>
          <a:p>
            <a:pPr marL="457200" indent="-457200" algn="r"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ن ينطبق عليه أحد خصائص التعريف لعناصر القوائم المالية.</a:t>
            </a:r>
            <a:endParaRPr b="0" lang="en-US" sz="2400" spc="-1" strike="noStrike">
              <a:solidFill>
                <a:srgbClr val="ffffff"/>
              </a:solidFill>
              <a:latin typeface="Times New Roman"/>
            </a:endParaRPr>
          </a:p>
          <a:p>
            <a:pPr marL="457200" indent="-457200" algn="r"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ن تتوافر أدلة كافية بأن التغير فى الاصول أو الإلتزامات المتعلقة بالعنصر قد حدث (التدفقات الداخلة أو الخارجة سوف تحدث)</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ــــــال:</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ar-SA" sz="2400" spc="-1" strike="noStrike">
                <a:solidFill>
                  <a:srgbClr val="ffffff"/>
                </a:solidFill>
                <a:latin typeface="Arial"/>
                <a:cs typeface="Arial"/>
              </a:rPr>
              <a:t>العقد يكون ملزما حتى لو لم يتم تنفيذه ، مثل الوعود التى أعطيت الى أطراف خارجية لتحويل أرصدة فى المستقبل.</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8" name=""/>
          <p:cNvSpPr/>
          <p:nvPr/>
        </p:nvSpPr>
        <p:spPr>
          <a:xfrm>
            <a:off x="304920" y="609480"/>
            <a:ext cx="861048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حديد القيمة الدفترية لعنصر القوائم المالية (إمكانية القياس النقدى بدرجة يمكن الإعتماد عل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طلب الامر فى بعض الأحوال تقدير بعض العناصر (الإهلاكات ، المستحقات )</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كون إستخدام التقديرات المحاسبية مقبولا بشرط أن تكون هذه التقديرات مناسبة ومتحفظ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ــــــل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عتراف بالأرباح فى العقود طويلة الأجل بشرط التقدير المناسب والمتحفظ لنسبة الإنجاز والربح.</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عتراف بالخسائر الناتجة عن الإلتزامات المحتملة بشرط التقدير المناسب والمتحفظ لقيمة تلك الخسائ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39" name=""/>
          <p:cNvSpPr/>
          <p:nvPr/>
        </p:nvSpPr>
        <p:spPr>
          <a:xfrm>
            <a:off x="228600" y="955800"/>
            <a:ext cx="830592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عتراف بالأصول والإلتزام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الأعتراف بالأصول والإلتزامات على ثلاثة مراح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الإعتراف المبدئى</a:t>
            </a:r>
            <a:r>
              <a:rPr b="0" lang="ar-SA" sz="2400" spc="-1" strike="noStrike">
                <a:solidFill>
                  <a:srgbClr val="ffffff"/>
                </a:solidFill>
                <a:latin typeface="Times New Roman"/>
              </a:rPr>
              <a:t>  (الإعتراف بأحد عناصر الأصول الثابتة عند الإقتناء).</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إعادة القياس اللاحق</a:t>
            </a:r>
            <a:r>
              <a:rPr b="0" lang="ar-SA" sz="2400" spc="-1" strike="noStrike">
                <a:solidFill>
                  <a:srgbClr val="ffffff"/>
                </a:solidFill>
                <a:latin typeface="Times New Roman"/>
              </a:rPr>
              <a:t>  (إعادة تقييم الأصل السابق إقتناء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الإستبعاد</a:t>
            </a:r>
            <a:r>
              <a:rPr b="0" lang="ar-SA" sz="2400" spc="-1" strike="noStrike">
                <a:solidFill>
                  <a:srgbClr val="ffffff"/>
                </a:solidFill>
                <a:latin typeface="Times New Roman"/>
              </a:rPr>
              <a:t>  (بيع الأصل أو إزالت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0" name=""/>
          <p:cNvSpPr/>
          <p:nvPr/>
        </p:nvSpPr>
        <p:spPr>
          <a:xfrm>
            <a:off x="457200" y="533520"/>
            <a:ext cx="8229600" cy="6311880"/>
          </a:xfrm>
          <a:prstGeom prst="rect">
            <a:avLst/>
          </a:prstGeom>
          <a:noFill/>
          <a:ln w="0">
            <a:noFill/>
          </a:ln>
        </p:spPr>
        <p:style>
          <a:lnRef idx="0"/>
          <a:fillRef idx="0"/>
          <a:effectRef idx="0"/>
          <a:fontRef idx="minor"/>
        </p:style>
        <p:txBody>
          <a:bodyPr lIns="90000" rIns="90000" tIns="46800" bIns="46800" anchor="t">
            <a:spAutoFit/>
          </a:bodyPr>
          <a:p>
            <a:pPr marL="338040" indent="-230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بالإيرادات</a:t>
            </a:r>
            <a:endParaRPr b="0" lang="en-US" sz="2400" spc="-1" strike="noStrike">
              <a:solidFill>
                <a:srgbClr val="ffffff"/>
              </a:solidFill>
              <a:latin typeface="Times New Roman"/>
            </a:endParaRPr>
          </a:p>
          <a:p>
            <a:pPr marL="338040" indent="-230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حقق الإيرادات والمكاسب عند وجود زيادة فى أصول المنشأة أو عند تخفيض إلتزاماتها قبل إنتهاء الفترة المحاسيبة. </a:t>
            </a:r>
            <a:endParaRPr b="0" lang="en-US" sz="2400" spc="-1" strike="noStrike">
              <a:solidFill>
                <a:srgbClr val="ffffff"/>
              </a:solidFill>
              <a:latin typeface="Times New Roman"/>
            </a:endParaRPr>
          </a:p>
          <a:p>
            <a:pPr marL="338040" indent="-23004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إيراد الذى يدرج فى قائمة الدخل لابد وأن يكون تحقق حيث تستخدم تلك القائمة فى قياس آداء المنشأة.</a:t>
            </a:r>
            <a:endParaRPr b="0" lang="en-US" sz="2400" spc="-1" strike="noStrike">
              <a:solidFill>
                <a:srgbClr val="ffffff"/>
              </a:solidFill>
              <a:latin typeface="Times New Roman"/>
            </a:endParaRPr>
          </a:p>
          <a:p>
            <a:pPr marL="338040" indent="-23004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مثل شروط تحقق الإيراد فيما يلى:</a:t>
            </a:r>
            <a:endParaRPr b="0" lang="en-US" sz="2400" spc="-1" strike="noStrike">
              <a:solidFill>
                <a:srgbClr val="ffffff"/>
              </a:solidFill>
              <a:latin typeface="Times New Roman"/>
            </a:endParaRPr>
          </a:p>
          <a:p>
            <a:pPr lvl="1" marL="1077840" indent="-457200" algn="just" rtl="1">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 توافر أدلة واضحة عن وجودها الفعلى. و</a:t>
            </a:r>
            <a:endParaRPr b="0" lang="en-US" sz="2400" spc="-1" strike="noStrike">
              <a:solidFill>
                <a:srgbClr val="ffffff"/>
              </a:solidFill>
              <a:latin typeface="Times New Roman"/>
            </a:endParaRPr>
          </a:p>
          <a:p>
            <a:pPr lvl="1" marL="1077840" indent="-457200" algn="just" rtl="1">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Pr>
              <a:t> توافر أدلة عن القيمة التى يجب أن تدرج بها (تحقيق المقابل النقدى أو يمكن تحولها الى نقدية وأن يكون ذلك مضمونا بدرجة معقولة).</a:t>
            </a:r>
            <a:endParaRPr b="0" lang="en-US" sz="2400" spc="-1" strike="noStrike">
              <a:solidFill>
                <a:srgbClr val="ffffff"/>
              </a:solidFill>
              <a:latin typeface="Times New Roman"/>
            </a:endParaRPr>
          </a:p>
          <a:p>
            <a:pPr lvl="1" marL="107784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1" name=""/>
          <p:cNvSpPr/>
          <p:nvPr/>
        </p:nvSpPr>
        <p:spPr>
          <a:xfrm>
            <a:off x="533520" y="1143000"/>
            <a:ext cx="7696080" cy="249408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بالمصروفـــــــــات</a:t>
            </a:r>
            <a:endParaRPr b="0" lang="en-US" sz="2400" spc="-1" strike="noStrike">
              <a:solidFill>
                <a:srgbClr val="ffffff"/>
              </a:solidFill>
              <a:latin typeface="Times New Roman"/>
            </a:endParaRPr>
          </a:p>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حقق المصروفات والخسائر عند وجود نقص فى أصول المنشأة أو عند زيادة إلتزاماتها قبل إنتهاء الفترة المحاسبية.</a:t>
            </a:r>
            <a:endParaRPr b="0" lang="en-US" sz="2400" spc="-1" strike="noStrike">
              <a:solidFill>
                <a:srgbClr val="ffffff"/>
              </a:solidFill>
              <a:latin typeface="Times New Roman"/>
            </a:endParaRPr>
          </a:p>
          <a:p>
            <a:pPr marL="168120" indent="-168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2" name=""/>
          <p:cNvSpPr/>
          <p:nvPr/>
        </p:nvSpPr>
        <p:spPr>
          <a:xfrm>
            <a:off x="609480" y="762120"/>
            <a:ext cx="8077320" cy="599148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بنت لجنة معايير المحاسبة الدولية مدخل الميزانية فيما يتعلق بتحقق الإيرادات والمصروفات والمكاسب والخسائر وهو يختلف عن مدخل المعاملات الذى يتناوله معيار المحسبة المصرى رقم (</a:t>
            </a:r>
            <a:r>
              <a:rPr b="0" lang="ar-SA" sz="2400" spc="-1" strike="noStrike">
                <a:solidFill>
                  <a:srgbClr val="ffffff"/>
                </a:solidFill>
                <a:latin typeface="Times New Roman"/>
              </a:rPr>
              <a:t>11</a:t>
            </a:r>
            <a:r>
              <a:rPr b="0" lang="ar-SA" sz="2400" spc="-1" strike="noStrike">
                <a:solidFill>
                  <a:srgbClr val="ffffff"/>
                </a:solidFill>
                <a:latin typeface="Times New Roman"/>
              </a:rPr>
              <a:t>) الخاص بتحقق الإيراد حيث ينص على الإعتراف بهذه العناصر عند توافر شروط محددة أخرى.</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إستبعاد (إلغاء تحقق الإيراد)</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يكون إستبعاد الإيراد مطلوبا عند إلغاء حدث سبق الإعتراف به كأصل أو كإلتزام أو عندما تصبح الأدلة التى تم الحصول عليها غير كافية أو غير ملائمة للأستمرار فى عملية الإعتراف.</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3" name=""/>
          <p:cNvSpPr/>
          <p:nvPr/>
        </p:nvSpPr>
        <p:spPr>
          <a:xfrm>
            <a:off x="609480" y="838080"/>
            <a:ext cx="7696440" cy="49093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طرق قياس عناصر القوائم المالية</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التكلفة التاريخ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التكلفة الجار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القيمة التى يمكن تحقيقها. (القيمة السوقية)</a:t>
            </a: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القيمة الح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574560"/>
            <a:ext cx="81532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جراءات إعداد معيار محاسبة دولى</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موجب موافقة ثلاثة أرباع أعضاء المجلس على المسودة، يتم نشرها ودعوة الجهات المهتمة إلى تقديم آرائها ومقترحاتها.</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المراجعة النهائية لمسودة المناقشة يتم نشر هذه المسودة كمعيار وذلك بعد موافقة ثلاثة أرباع أعضاء المجلس على الاق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4" name=""/>
          <p:cNvSpPr/>
          <p:nvPr/>
        </p:nvSpPr>
        <p:spPr>
          <a:xfrm>
            <a:off x="533520" y="228600"/>
            <a:ext cx="7696080" cy="6181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طريقة التكلفة التاريخ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سجل الأصول بقيمة النقدية او المقابل النقدى المحدد أو بالقيمة العادلة للمقابل الذى قدم عند إقتناء الاصول ، فى حين تسجل الإلتزامات بقيمة المتحصلات المستلمة مقابل تحمل هذا الإلتزام.</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طريقة التكلفة الجار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يم الأصول بقيمة النقدية أو ما يعادلها المطلوبة لأقتنائها الآن. كما يتم تقييم الإلتزامات بالقيمة غير المخصومة المطلوبة حاليا للوفاء بهذه الإلتزامات.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5" name=""/>
          <p:cNvSpPr/>
          <p:nvPr/>
        </p:nvSpPr>
        <p:spPr>
          <a:xfrm>
            <a:off x="380880" y="1184400"/>
            <a:ext cx="8382240" cy="44982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طريقة القيمة السوق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يم الأصول بالقيمة التى يمكن الحصول عليها عند بيع الأصول ، كما تقيم الإلتزامات بالقيمة المطلوبة لتسويتها التى تمثل المبلغ المطلوب لسدادها فى الظروف العاد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طريقة القيمة الحال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تقييم الاصول بالقيمة الحالية المخصومة للتدفقات النقدية المستقبلية التى من المتوقع أن تحققها تلك الأصول فى ظل الظروف العادية. كما يتم تقييم الإلتزامات بالقيمة الحالية للتدفقات النقدية المستقبلية المطلوبة للوفاء بهذه الإلتزام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6" name=""/>
          <p:cNvSpPr/>
          <p:nvPr/>
        </p:nvSpPr>
        <p:spPr>
          <a:xfrm>
            <a:off x="609480" y="380880"/>
            <a:ext cx="7925040" cy="7409160"/>
          </a:xfrm>
          <a:prstGeom prst="rect">
            <a:avLst/>
          </a:prstGeom>
          <a:noFill/>
          <a:ln w="0">
            <a:noFill/>
          </a:ln>
        </p:spPr>
        <p:style>
          <a:lnRef idx="0"/>
          <a:fillRef idx="0"/>
          <a:effectRef idx="0"/>
          <a:fontRef idx="minor"/>
        </p:style>
        <p:txBody>
          <a:bodyPr lIns="90000" rIns="90000" tIns="46800" bIns="46800" anchor="t">
            <a:spAutoFit/>
          </a:bodyPr>
          <a:p>
            <a:pPr marL="338040" indent="-338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فهوم رأس المال والمحافظة عليه</a:t>
            </a: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ناك مفهومان للمحافظة على رأس المال:</a:t>
            </a: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حافظة على رأس المال المالى.</a:t>
            </a:r>
            <a:endParaRPr b="0" lang="en-US" sz="2400" spc="-1" strike="noStrike">
              <a:solidFill>
                <a:srgbClr val="ffffff"/>
              </a:solidFill>
              <a:latin typeface="Times New Roman"/>
            </a:endParaRPr>
          </a:p>
          <a:p>
            <a:pPr lvl="1" marL="452520" indent="61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إن الأرباح يتم إكتسابها عندما يكون صافى الأصول فى نهاية الفترة المحاسبية يزيد على قيمة صافى الاصول فى بداية الفترة المحاسبية.</a:t>
            </a:r>
            <a:endParaRPr b="0" lang="en-US" sz="2400" spc="-1" strike="noStrike">
              <a:solidFill>
                <a:srgbClr val="ffffff"/>
              </a:solidFill>
              <a:latin typeface="Times New Roman"/>
            </a:endParaRPr>
          </a:p>
          <a:p>
            <a:pPr marL="338040" indent="-33804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حافظة على رأس المال المادى.</a:t>
            </a:r>
            <a:endParaRPr b="0" lang="en-US" sz="2400" spc="-1" strike="noStrike">
              <a:solidFill>
                <a:srgbClr val="ffffff"/>
              </a:solidFill>
              <a:latin typeface="Times New Roman"/>
            </a:endParaRPr>
          </a:p>
          <a:p>
            <a:pPr marL="338040" indent="-338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إن الأرباح يتم إكتسابها عندما تزيد القدرة الأنتاجية الفعلية للنشاط فى نهاية الفترة المحاسبية عنها فى بداية الفترة المحاسبية. ويتطلب هذا المفهوم إستخدام طريقة التكلفة الجارية كأساس لقياس عناصر القوائم المالية.</a:t>
            </a:r>
            <a:endParaRPr b="0" lang="en-US" sz="2400" spc="-1" strike="noStrike">
              <a:solidFill>
                <a:srgbClr val="ffffff"/>
              </a:solidFill>
              <a:latin typeface="Times New Roman"/>
            </a:endParaRPr>
          </a:p>
          <a:p>
            <a:pPr marL="338040" indent="-338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حدد كل من أساس القياس وكذا مفهوم المحافظة على رأس المال المعالجة المحاسبية التى تستخدم عند إعداد القوائم المالية.</a:t>
            </a:r>
            <a:endParaRPr b="0" lang="en-US" sz="2400" spc="-1" strike="noStrike">
              <a:solidFill>
                <a:srgbClr val="ffffff"/>
              </a:solidFill>
              <a:latin typeface="Times New Roman"/>
            </a:endParaRPr>
          </a:p>
          <a:p>
            <a:pPr marL="338040" indent="-338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7" name=""/>
          <p:cNvSpPr/>
          <p:nvPr/>
        </p:nvSpPr>
        <p:spPr>
          <a:xfrm>
            <a:off x="457200" y="380880"/>
            <a:ext cx="8229600" cy="6738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سئلة على الفصل الثانى: الإطار الرقابى لمعايير المحاسب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أهداف لجنة معايير المحاسبة الدولي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مراحل إعداد معيار محاسبى دولى؟</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هداف الإطار العام للجنة معايير المحاسبة الدولي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رف عناصر القوائم المالية الخمس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سس القياس الأربعة التى يمكن إستخدامها عند إعداد القوائم المالي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ارن بين مفهوم المحافظة على رأس المال المالى ومفهوم المحافظة على رأس المال المادى؟</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لمحتويات الرئيسية للإطار العام للجنة معايير المحاسبة الدولية لإعداد وعرض القوائم المالي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ذكر مع الشرح المزايا الخاصة بتطوير الإطار العام للمفاهيم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533520" y="990720"/>
            <a:ext cx="7696080" cy="41173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لجنة الدائمة لتفسير معايير المحاسبة الدول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امت لجنة معايير المحاسبة الدولية عام</a:t>
            </a:r>
            <a:r>
              <a:rPr b="0" lang="ar-SA" sz="2400" spc="-1" strike="noStrike">
                <a:solidFill>
                  <a:srgbClr val="ffffff"/>
                </a:solidFill>
                <a:latin typeface="Times New Roman"/>
              </a:rPr>
              <a:t>1977</a:t>
            </a:r>
            <a:r>
              <a:rPr b="0" lang="ar-SA" sz="2400" spc="-1" strike="noStrike">
                <a:solidFill>
                  <a:srgbClr val="ffffff"/>
                </a:solidFill>
                <a:latin typeface="Times New Roman"/>
              </a:rPr>
              <a:t> بتشكيل لجنة التفسير الدائمة يكون الهدف منها التأكد من الإلتزام الصحيح بمعايير المحاسبة الدول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قوم هذه اللجنة بعملها عن طريق بحث نقاط الخلاف الناتجة عن التفسيرات المخالفة وإصدار تفسير معتمد (تم إصدار حوالى </a:t>
            </a:r>
            <a:r>
              <a:rPr b="0" lang="ar-SA" sz="2400" spc="-1" strike="noStrike">
                <a:solidFill>
                  <a:srgbClr val="ffffff"/>
                </a:solidFill>
                <a:latin typeface="Times New Roman"/>
              </a:rPr>
              <a:t>33</a:t>
            </a:r>
            <a:r>
              <a:rPr b="0" lang="ar-SA" sz="2400" spc="-1" strike="noStrike">
                <a:solidFill>
                  <a:srgbClr val="ffffff"/>
                </a:solidFill>
                <a:latin typeface="Times New Roman"/>
              </a:rPr>
              <a:t> تفسيرا حتى الآ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457200" y="574560"/>
            <a:ext cx="8458200" cy="7409160"/>
          </a:xfrm>
          <a:prstGeom prst="rect">
            <a:avLst/>
          </a:prstGeom>
          <a:noFill/>
          <a:ln w="0">
            <a:noFill/>
          </a:ln>
        </p:spPr>
        <p:style>
          <a:lnRef idx="0"/>
          <a:fillRef idx="0"/>
          <a:effectRef idx="0"/>
          <a:fontRef idx="minor"/>
        </p:style>
        <p:txBody>
          <a:bodyPr lIns="90000" rIns="90000" tIns="46800" bIns="46800" anchor="t">
            <a:spAutoFit/>
          </a:bodyPr>
          <a:p>
            <a:pPr marL="798480" indent="-60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دستور الجديد للجنة معايير المحاسبة الدولية</a:t>
            </a:r>
            <a:endParaRPr b="0" lang="en-US" sz="2400" spc="-1" strike="noStrike">
              <a:solidFill>
                <a:srgbClr val="ffffff"/>
              </a:solidFill>
              <a:latin typeface="Times New Roman"/>
            </a:endParaRPr>
          </a:p>
          <a:p>
            <a:pPr marL="798480" indent="-60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ام مجلس لجنة معايير المحاسبة الدولية بإعتماد دستور جديد يتم تطبيقه إعتبارا من عام </a:t>
            </a:r>
            <a:r>
              <a:rPr b="0" lang="ar-SA" sz="2400" spc="-1" strike="noStrike">
                <a:solidFill>
                  <a:srgbClr val="ffffff"/>
                </a:solidFill>
                <a:latin typeface="Times New Roman"/>
              </a:rPr>
              <a:t>2001</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798480" indent="-60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صبحت لجنة معايير المحاسبة الدولية منذ ذلك التاريخ منظمة مستقلة تتكون من الهيئتين التاليتين:</a:t>
            </a:r>
            <a:endParaRPr b="0" lang="en-US" sz="2400" spc="-1" strike="noStrike">
              <a:solidFill>
                <a:srgbClr val="ffffff"/>
              </a:solidFill>
              <a:latin typeface="Times New Roman"/>
            </a:endParaRPr>
          </a:p>
          <a:p>
            <a:pPr marL="798480" indent="-60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مجلس الأمناء</a:t>
            </a:r>
            <a:r>
              <a:rPr b="0" lang="ar-SA" sz="2400" spc="-1" strike="noStrike">
                <a:solidFill>
                  <a:srgbClr val="ffffff"/>
                </a:solidFill>
                <a:latin typeface="Times New Roman"/>
              </a:rPr>
              <a:t>: الذى يقوم بتعيين أعضاء مجلس الإدارة ويتابع مدى فاعلية مجلس معايير المحاسبة الدولية وكذا مراقبة الموازنة.</a:t>
            </a:r>
            <a:endParaRPr b="0" lang="en-US" sz="2400" spc="-1" strike="noStrike">
              <a:solidFill>
                <a:srgbClr val="ffffff"/>
              </a:solidFill>
              <a:latin typeface="Times New Roman"/>
            </a:endParaRPr>
          </a:p>
          <a:p>
            <a:pPr marL="798480" indent="-601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لجنة معايير المحاسبة الدولية</a:t>
            </a:r>
            <a:r>
              <a:rPr b="0" lang="ar-SA" sz="2400" spc="-1" strike="noStrike">
                <a:solidFill>
                  <a:srgbClr val="ffffff"/>
                </a:solidFill>
                <a:latin typeface="Times New Roman"/>
              </a:rPr>
              <a:t> (التى تقوم بإصدار معايير المحاسبة الدولية)</a:t>
            </a:r>
            <a:endParaRPr b="0" lang="en-US" sz="2400" spc="-1" strike="noStrike">
              <a:solidFill>
                <a:srgbClr val="ffffff"/>
              </a:solidFill>
              <a:latin typeface="Times New Roman"/>
            </a:endParaRPr>
          </a:p>
          <a:p>
            <a:pPr marL="798480" indent="-60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ستمر الجنة الدائمة لتفسير المعايير فى عملها الخاص بإصدار التفسيرات.</a:t>
            </a:r>
            <a:endParaRPr b="0" lang="en-US" sz="2400" spc="-1" strike="noStrike">
              <a:solidFill>
                <a:srgbClr val="ffffff"/>
              </a:solidFill>
              <a:latin typeface="Times New Roman"/>
            </a:endParaRPr>
          </a:p>
          <a:p>
            <a:pPr marL="798480" indent="-60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جلس الإستشارى للمعايير (يتكون من اعضاء من مناطق جغرافية مختلفة ويقوم بتقديم الإستشارات لمجلس معايير المحاسبة الدولية)</a:t>
            </a:r>
            <a:endParaRPr b="0" lang="en-US" sz="2400" spc="-1" strike="noStrike">
              <a:solidFill>
                <a:srgbClr val="ffffff"/>
              </a:solidFill>
              <a:latin typeface="Times New Roman"/>
            </a:endParaRPr>
          </a:p>
          <a:p>
            <a:pPr marL="798480" indent="-60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152280" y="270000"/>
            <a:ext cx="8839440" cy="8140680"/>
          </a:xfrm>
          <a:prstGeom prst="rect">
            <a:avLst/>
          </a:prstGeom>
          <a:noFill/>
          <a:ln w="0">
            <a:noFill/>
          </a:ln>
        </p:spPr>
        <p:style>
          <a:lnRef idx="0"/>
          <a:fillRef idx="0"/>
          <a:effectRef idx="0"/>
          <a:fontRef idx="minor"/>
        </p:style>
        <p:txBody>
          <a:bodyPr lIns="90000" rIns="90000" tIns="46800" bIns="46800" anchor="t">
            <a:spAutoFit/>
          </a:bodyPr>
          <a:p>
            <a:pPr marL="457200" indent="-349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لاقة بين لجنة معايير المحاسبة الدولية والمنظمة الدولية لهيئات أسوق المال</a:t>
            </a:r>
            <a:endParaRPr b="0" lang="en-US" sz="2400" spc="-1" strike="noStrike">
              <a:solidFill>
                <a:srgbClr val="ffffff"/>
              </a:solidFill>
              <a:latin typeface="Times New Roman"/>
            </a:endParaRPr>
          </a:p>
          <a:p>
            <a:pPr marL="457200" indent="-349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3492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م إبرام إتفاق عام </a:t>
            </a:r>
            <a:r>
              <a:rPr b="0" lang="ar-SA" sz="2400" spc="-1" strike="noStrike">
                <a:solidFill>
                  <a:srgbClr val="ffffff"/>
                </a:solidFill>
                <a:latin typeface="Times New Roman"/>
              </a:rPr>
              <a:t>1995</a:t>
            </a:r>
            <a:r>
              <a:rPr b="0" lang="ar-SA" sz="2400" spc="-1" strike="noStrike">
                <a:solidFill>
                  <a:srgbClr val="ffffff"/>
                </a:solidFill>
                <a:latin typeface="Times New Roman"/>
              </a:rPr>
              <a:t> بين لجنة معايير المحاسبة الدولية والمنظمة الدولية لهيئات أسواق المال ينص على  قيام لجنة معايير المحاسبة الدولية بتطوير مجموعة من المعايير الأساسية على أن تقوم المنظمة الدولية لهيئات أسواق المال بالتوصية بتطبيق هذه المعايير وأنها تمثل أسس محاسبية مقبولة عند إصدار رؤوس الأموال عبر الحدود وكذا عند قيد الاوراق المالية فى البورصات العالمية ومنها بورصات الولايات المتحدة.</a:t>
            </a:r>
            <a:endParaRPr b="0" lang="en-US" sz="2400" spc="-1" strike="noStrike">
              <a:solidFill>
                <a:srgbClr val="ffffff"/>
              </a:solidFill>
              <a:latin typeface="Times New Roman"/>
            </a:endParaRPr>
          </a:p>
          <a:p>
            <a:pPr marL="457200" indent="-349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3492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ناء عليه، قامت لجنة معايير المحاسبة الدولية بإستكمال المعايير الاساسية وكذا إصدار معيار المحاسبة الدولى رقم </a:t>
            </a:r>
            <a:r>
              <a:rPr b="0" lang="ar-SA" sz="2400" spc="-1" strike="noStrike">
                <a:solidFill>
                  <a:srgbClr val="ffffff"/>
                </a:solidFill>
                <a:latin typeface="Times New Roman"/>
              </a:rPr>
              <a:t>39</a:t>
            </a:r>
            <a:r>
              <a:rPr b="0" lang="ar-SA" sz="2400" spc="-1" strike="noStrike">
                <a:solidFill>
                  <a:srgbClr val="ffffff"/>
                </a:solidFill>
                <a:latin typeface="Times New Roman"/>
              </a:rPr>
              <a:t> وتم تقديمه للمنظمة الدولية لهيئات أسواق المال لإعتماده.</a:t>
            </a:r>
            <a:endParaRPr b="0" lang="en-US" sz="2400" spc="-1" strike="noStrike">
              <a:solidFill>
                <a:srgbClr val="ffffff"/>
              </a:solidFill>
              <a:latin typeface="Times New Roman"/>
            </a:endParaRPr>
          </a:p>
          <a:p>
            <a:pPr marL="457200" indent="-3492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3492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قامت المنظمة الدولية لهيئات أسواق المال فى مايو </a:t>
            </a:r>
            <a:r>
              <a:rPr b="0" lang="ar-SA" sz="2400" spc="-1" strike="noStrike">
                <a:solidFill>
                  <a:srgbClr val="ffffff"/>
                </a:solidFill>
                <a:latin typeface="Times New Roman"/>
              </a:rPr>
              <a:t>2000</a:t>
            </a:r>
            <a:r>
              <a:rPr b="0" lang="ar-SA" sz="2400" spc="-1" strike="noStrike">
                <a:solidFill>
                  <a:srgbClr val="ffffff"/>
                </a:solidFill>
                <a:latin typeface="Times New Roman"/>
              </a:rPr>
              <a:t> بإعتماد المعايير المحاسبية والتوصية لأعضائها أن يقرروا السماح للشركات التى ترغب فى التعامل مع البورصات العالمية الأعضاء فى المنظمة بإستخدام معايير المحاسبة الدولية عند إعداد القوائم المالية التى تقدم لهذه الأسواق أو التى ترفق مع نشرات الأكتتاب لدى هذه الاسواق.</a:t>
            </a:r>
            <a:endParaRPr b="0" lang="en-US" sz="2400" spc="-1" strike="noStrike">
              <a:solidFill>
                <a:srgbClr val="ffffff"/>
              </a:solidFill>
              <a:latin typeface="Times New Roman"/>
            </a:endParaRPr>
          </a:p>
          <a:p>
            <a:pPr marL="457200" indent="-349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04920" y="304920"/>
            <a:ext cx="838188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ضع معايير المحاسبة فى مصـــــر</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إعداد معايير المحاسبة فى مصر بواسطة لجنة المعايير المهنية الدائمة بجمعية المحاسبين والمراجعين المصرية إستنادا الى معايير المحاسبة الدولية ومع مراعاة القوانين والتشريعات المحل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كون الجنة من عدد من كبار مزاولى المهنة فى مصر ومن أساتذة الجامعات المتخصصين.</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تخصص اللجنة عدة جلسات لإعداد ومناقشة كل معيارقبل عرضه على مجلس إدارة الجمعية لإعتماده والتوصية بعرضه على اللجنة الدائمة المشكلة بوزارة التجارة الخارجية لهذا الغرض.</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228600" y="677880"/>
            <a:ext cx="8610480" cy="5420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 وضع معايير المحاسبة فى مصر</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وم اللجنة الدائمة لمعايير المحاسبة والمراجعة وقواعد وآداب السلوك المهنى والمشكلة بقرارات من وزير الأقتصاد والتجارة الخارجية عام </a:t>
            </a:r>
            <a:r>
              <a:rPr b="0" lang="ar-SA" sz="2400" spc="-1" strike="noStrike">
                <a:solidFill>
                  <a:srgbClr val="ffffff"/>
                </a:solidFill>
                <a:latin typeface="Times New Roman"/>
              </a:rPr>
              <a:t>1997</a:t>
            </a:r>
            <a:r>
              <a:rPr b="0" lang="ar-SA" sz="2400" spc="-1" strike="noStrike">
                <a:solidFill>
                  <a:srgbClr val="ffffff"/>
                </a:solidFill>
                <a:latin typeface="Times New Roman"/>
              </a:rPr>
              <a:t> بمراجعة ما يرد إليها من الجمعية من مشروعات لمعايير محاسبية وذلك فى ضوء معايير المحاسبة الدولية ومتطلبات القوانين والتشريعات المحلية وإعتبارات التطبيق العملى.</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اساتذة الجامعات. ولديها مقرر للتنسيق مع جمعية المحاسبين والمراجعين.</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رفع اللجنة الدائمة لمعايير المحاسبة والمراجعة وقواعد وآداب السلوك المهنى توصياتها الى السيد وزير التجارة الخارجية تمهيدا لإصدار المعايي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11:49:02Z</dcterms:created>
  <dc:creator>Administrator</dc:creator>
  <dc:description/>
  <dc:language>en-US</dc:language>
  <cp:lastModifiedBy>Administrator</cp:lastModifiedBy>
  <dcterms:modified xsi:type="dcterms:W3CDTF">2004-04-05T19:40:28Z</dcterms:modified>
  <cp:revision>45</cp:revision>
  <dc:subject/>
  <dc:title>PowerPoint Presentation</dc:title>
</cp:coreProperties>
</file>