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32600"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1"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2"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0"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1"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2"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3"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0" name=""/>
          <p:cNvSpPr/>
          <p:nvPr/>
        </p:nvSpPr>
        <p:spPr>
          <a:xfrm>
            <a:off x="533520" y="838080"/>
            <a:ext cx="777240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فصل الرابع: إعداد وعرض القوائم المالية</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جب أن يغطى الدارس فى نهاية هذا الفصل ما يلى: </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عيار المحاسبة المصرى رقم (</a:t>
            </a:r>
            <a:r>
              <a:rPr b="0" lang="ar-SA" sz="2400" spc="-1" strike="noStrike">
                <a:solidFill>
                  <a:srgbClr val="ffffff"/>
                </a:solidFill>
                <a:latin typeface="Arial"/>
                <a:ea typeface="Arial"/>
              </a:rPr>
              <a:t>1</a:t>
            </a:r>
            <a:r>
              <a:rPr b="0" lang="ar-SA" sz="2400" spc="-1" strike="noStrike">
                <a:solidFill>
                  <a:srgbClr val="ffffff"/>
                </a:solidFill>
                <a:latin typeface="Arial"/>
                <a:ea typeface="Arial"/>
              </a:rPr>
              <a:t>) – إعداد وعرض القوائم المالية.</a:t>
            </a:r>
            <a:endParaRPr b="0" lang="en-US" sz="2400" spc="-1" strike="noStrike">
              <a:solidFill>
                <a:srgbClr val="ffffff"/>
              </a:solidFill>
              <a:latin typeface="Times New Roman"/>
            </a:endParaRPr>
          </a:p>
          <a:p>
            <a:pPr marL="457200" indent="-457200" algn="r" rtl="1">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عيلر المحاسبة المصرى رقم (</a:t>
            </a:r>
            <a:r>
              <a:rPr b="0" lang="ar-SA" sz="2400" spc="-1" strike="noStrike">
                <a:solidFill>
                  <a:srgbClr val="ffffff"/>
                </a:solidFill>
                <a:latin typeface="Arial"/>
                <a:ea typeface="Arial"/>
              </a:rPr>
              <a:t>5</a:t>
            </a:r>
            <a:r>
              <a:rPr b="0" lang="ar-SA" sz="2400" spc="-1" strike="noStrike">
                <a:solidFill>
                  <a:srgbClr val="ffffff"/>
                </a:solidFill>
                <a:latin typeface="Arial"/>
                <a:ea typeface="Arial"/>
              </a:rPr>
              <a:t>) – صافى أرباح وخسائر الفترة ، الأخطاء الجوهرية ، والتغير فى السياسات المحاسبية.</a:t>
            </a:r>
            <a:endParaRPr b="0" lang="en-US" sz="2400" spc="-1" strike="noStrike">
              <a:solidFill>
                <a:srgbClr val="ffffff"/>
              </a:solidFill>
              <a:latin typeface="Times New Roman"/>
            </a:endParaRPr>
          </a:p>
          <a:p>
            <a:pPr marL="457200" indent="-457200" algn="r" rtl="1">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عيار المحاسبة الدولى رقم (</a:t>
            </a:r>
            <a:r>
              <a:rPr b="0" lang="ar-SA" sz="2400" spc="-1" strike="noStrike">
                <a:solidFill>
                  <a:srgbClr val="ffffff"/>
                </a:solidFill>
                <a:latin typeface="Arial"/>
                <a:ea typeface="Arial"/>
              </a:rPr>
              <a:t>35</a:t>
            </a:r>
            <a:r>
              <a:rPr b="0" lang="ar-SA" sz="2400" spc="-1" strike="noStrike">
                <a:solidFill>
                  <a:srgbClr val="ffffff"/>
                </a:solidFill>
                <a:latin typeface="Arial"/>
                <a:ea typeface="Arial"/>
              </a:rPr>
              <a:t>) – المحاسبة عن توقف العمليات.</a:t>
            </a:r>
            <a:endParaRPr b="0" lang="en-US" sz="2400" spc="-1" strike="noStrike">
              <a:solidFill>
                <a:srgbClr val="ffffff"/>
              </a:solidFill>
              <a:latin typeface="Times New Roman"/>
            </a:endParaRPr>
          </a:p>
          <a:p>
            <a:pPr marL="457200" indent="-457200" algn="r" rtl="1">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عيار المحاسبة الدولى رقم (</a:t>
            </a:r>
            <a:r>
              <a:rPr b="0" lang="ar-SA" sz="2400" spc="-1" strike="noStrike">
                <a:solidFill>
                  <a:srgbClr val="ffffff"/>
                </a:solidFill>
                <a:latin typeface="Arial"/>
                <a:ea typeface="Arial"/>
              </a:rPr>
              <a:t>34</a:t>
            </a:r>
            <a:r>
              <a:rPr b="0" lang="ar-SA" sz="2400" spc="-1" strike="noStrike">
                <a:solidFill>
                  <a:srgbClr val="ffffff"/>
                </a:solidFill>
                <a:latin typeface="Arial"/>
                <a:ea typeface="Arial"/>
              </a:rPr>
              <a:t>) – القوائم المالية المرحلية.</a:t>
            </a:r>
            <a:endParaRPr b="0" lang="en-US" sz="2400" spc="-1" strike="noStrike">
              <a:solidFill>
                <a:srgbClr val="ffffff"/>
              </a:solidFill>
              <a:latin typeface="Times New Roman"/>
            </a:endParaRPr>
          </a:p>
          <a:p>
            <a:pPr marL="457200" indent="-457200" algn="r" rtl="1">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762120" y="228600"/>
            <a:ext cx="7848360" cy="63118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عيار المحاسبة المصرى رقم (</a:t>
            </a:r>
            <a:r>
              <a:rPr b="1" lang="ar-SA" sz="2400" spc="-1" strike="noStrike">
                <a:solidFill>
                  <a:srgbClr val="ffffff"/>
                </a:solidFill>
                <a:latin typeface="Times New Roman"/>
              </a:rPr>
              <a:t>5</a:t>
            </a:r>
            <a:r>
              <a:rPr b="1" lang="ar-SA" sz="2400" spc="-1" strike="noStrike">
                <a:solidFill>
                  <a:srgbClr val="ffffff"/>
                </a:solidFill>
                <a:latin typeface="Times New Roman"/>
              </a:rPr>
              <a:t>)</a:t>
            </a: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صافى ربح أو خسارة الفترة والأخطاء الجوهرية وتغير السياسات المحاسبي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بنود غير العادي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ن البنود غير العادية هي الإيرادات والمصروفات الناتجة عن أحداث أو معاملات تختلف بوضوح عن الأنشطة العادية للمنشاة كما أنه ليس من المتوقع تكرار حدوثها أو القيام بها بطريقة معتادة.</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أمثلة : نزع ملكية الأصول أو الخسائر الناتجة عن حدوث زلزال أو كوارث كونية أخرى.</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أفصاح: يجب عرض البنود غير العادية بصورة مستقلة بقائمة الدخل مع الإفصاح عن طبيعتها وتظهر فى قائمة الدخل بقيمتها الصافية اى بعد خصم الضرائب المتعلقة ب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609480" y="685800"/>
            <a:ext cx="7848720" cy="56106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فصاح عن السياسات المحاسبية والإيضاحات المتممة للقوائم المالية</a:t>
            </a: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ان يصف القسم الخاص بالسياسات المحاسبية أسس القياس المستخدمة فى إعداد القوائم المالية وكذا كل سياسة مستخدمة يكون الإفصاح عنها ضروريا لفهم القوائم المالية بصورة سليمة.</a:t>
            </a: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الإفصاح عن معلومات اخرى مثل الشكل القانونى وموطن المنشاة والدولة التى تم تأسيس المنشأة بها وعنوان المنشاة الرئيسى ، كما يجب الإفصاح عن اسم المنشاة وطبيعة انشطتها الرئيسية وبيان عدد العاملين بها فى بداية ونهاية الفتر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533520" y="304920"/>
            <a:ext cx="8076960" cy="59461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معيار المحاسبة المصرى رقم (</a:t>
            </a:r>
            <a:r>
              <a:rPr b="1" lang="ar-SA" sz="2400" spc="-1" strike="noStrike">
                <a:solidFill>
                  <a:srgbClr val="ffffff"/>
                </a:solidFill>
                <a:latin typeface="Times New Roman"/>
              </a:rPr>
              <a:t>5</a:t>
            </a:r>
            <a:r>
              <a:rPr b="1" lang="ar-SA" sz="2400" spc="-1" strike="noStrike">
                <a:solidFill>
                  <a:srgbClr val="ffffff"/>
                </a:solidFill>
                <a:latin typeface="Times New Roman"/>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صافى ربح أو خسارة الفترة والأخطاء الجوهرية وتغير السياسات المحاسبي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بنود الهامة أو غير الإعتيادية من خلال الأنشطة العاد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خفيض قيمة المخزون الى صافى القيمة البيعية او تخفيض الأصول الثابتة الى القيمة الممكن إستردادها.</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SA" sz="2400" spc="-1" strike="noStrike">
                <a:solidFill>
                  <a:srgbClr val="ffffff"/>
                </a:solidFill>
                <a:latin typeface="Times New Roman"/>
              </a:rPr>
              <a:t>إعادة هيكلة أنشطة المشروع.</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أرباح اوخسائر بيع الاصول الثابتة او الأستثمارات طويلة الأج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SA" sz="2400" spc="-1" strike="noStrike">
                <a:solidFill>
                  <a:srgbClr val="ffffff"/>
                </a:solidFill>
                <a:latin typeface="Times New Roman"/>
              </a:rPr>
              <a:t>العمليات التى توقفت.</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تسويات القضائية والإلغاء الكلى او الجزئى للمخصص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380880" y="152280"/>
            <a:ext cx="8305920" cy="777492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عيار المحاسبة المصرى رقم (</a:t>
            </a:r>
            <a:r>
              <a:rPr b="1" lang="ar-SA" sz="2400" spc="-1" strike="noStrike">
                <a:solidFill>
                  <a:srgbClr val="ffffff"/>
                </a:solidFill>
                <a:latin typeface="Times New Roman"/>
              </a:rPr>
              <a:t>5</a:t>
            </a:r>
            <a:r>
              <a:rPr b="1" lang="ar-SA" sz="2400" spc="-1" strike="noStrike">
                <a:solidFill>
                  <a:srgbClr val="ffffff"/>
                </a:solidFill>
                <a:latin typeface="Times New Roman"/>
              </a:rPr>
              <a:t>)</a:t>
            </a: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صافى ربح أو خسارة الفترة والأخطاء الجوهرية وتغير السياسات المحاسبي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عمليات التى توقفت</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ن الأنشطة او العمليات التى توقفت هى التى تنشأ عن بيع أو إستبعاد جزء منفصلا وجوهريا من انشطة المنشاة والتى يمكن فصل أصولها وصافى ربحها او خسارتها عن باقى أعمال المنشاة ماديا وتشغيليا وذلك لأغراض إعداد التقارير المالية ، ومن ثم يجب الإقصاح بصورة مستقلة فى قائمة الدخل عن اية ارباح أو خسائر خاصة بالعمليات التى توقفت. </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عرف تاريخ التوقف بأنه ذلك التاريخ الذى توقفت فيه المنشاة عن رقابة التشغيل على العملية أو القطاع او النشاط.</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شمل نتائج العمليات التى توقفت والتى يجب الأفصاح عنها بصورة مستقلة مايلى:</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a:t>
            </a:r>
            <a:r>
              <a:rPr b="0" lang="ar-SA" sz="2400" spc="-1" strike="noStrike">
                <a:solidFill>
                  <a:srgbClr val="ffffff"/>
                </a:solidFill>
                <a:latin typeface="Times New Roman"/>
              </a:rPr>
              <a:t>. أرباح أوخسائر العملية منذ بداية الفترة المالية وحتى تاريخ التوقف. و</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2</a:t>
            </a:r>
            <a:r>
              <a:rPr b="0" lang="ar-SA" sz="2400" spc="-1" strike="noStrike">
                <a:solidFill>
                  <a:srgbClr val="ffffff"/>
                </a:solidFill>
                <a:latin typeface="Times New Roman"/>
              </a:rPr>
              <a:t>. الأرباح والخسائر الناتجة من عملية بيع العملية التى توقف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457200" y="152280"/>
            <a:ext cx="8077320" cy="81406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عيار المحاسبة المصرى رقم (</a:t>
            </a:r>
            <a:r>
              <a:rPr b="1" lang="ar-SA" sz="2400" spc="-1" strike="noStrike">
                <a:solidFill>
                  <a:srgbClr val="ffffff"/>
                </a:solidFill>
                <a:latin typeface="Times New Roman"/>
              </a:rPr>
              <a:t>5</a:t>
            </a:r>
            <a:r>
              <a:rPr b="1" lang="ar-SA" sz="2400" spc="-1" strike="noStrike">
                <a:solidFill>
                  <a:srgbClr val="ffffff"/>
                </a:solidFill>
                <a:latin typeface="Times New Roman"/>
              </a:rPr>
              <a:t>)</a:t>
            </a: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صافى ربح أو خسارة الفترة والأخطاء الجوهرية وتغير السياسات المحاسبية</a:t>
            </a: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تغيرات فى التقديرات المحاسبية</a:t>
            </a: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ظرا لوجود العديد من عوامل عدم التاكد مرتبطة بأنشطة الأعمال فإن العديد من عناصر القوائم المالية يتم تقديرها بطرق مناسبة ومعقولة ، وبالتالى يتعين على المنشأة مراجعة تلك التقديرات كل فترة مالية لتعديلها إن لزم الامر.</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هناك تغيرات فى التقديرات المحاسبية تؤثر </a:t>
            </a:r>
            <a:r>
              <a:rPr b="0" lang="ar-SA" sz="2400" spc="-1" strike="noStrike" u="sng">
                <a:solidFill>
                  <a:srgbClr val="ffffff"/>
                </a:solidFill>
                <a:uFillTx/>
                <a:latin typeface="Times New Roman"/>
              </a:rPr>
              <a:t>فقط</a:t>
            </a:r>
            <a:r>
              <a:rPr b="0" lang="ar-SA" sz="2400" spc="-1" strike="noStrike">
                <a:solidFill>
                  <a:srgbClr val="ffffff"/>
                </a:solidFill>
                <a:latin typeface="Times New Roman"/>
              </a:rPr>
              <a:t> فى الفترة المالية التى حدث فيها التغيير (حساب مخصص الديون المشكوك فيها).</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هناك تغيرات فى التقديرات المحاسبية تؤثر فى الفترة التى حدث فيها التغيير والفترات اللاحقة ( الأعمار الإفتراضية للأصول الثابتة أو القيمة التخريدية لها) وبالتالى </a:t>
            </a:r>
            <a:r>
              <a:rPr b="0" lang="ar-SA" sz="2400" spc="-1" strike="noStrike" u="sng">
                <a:solidFill>
                  <a:srgbClr val="ffffff"/>
                </a:solidFill>
                <a:uFillTx/>
                <a:latin typeface="Times New Roman"/>
              </a:rPr>
              <a:t>لا يجب</a:t>
            </a:r>
            <a:r>
              <a:rPr b="0" lang="ar-SA" sz="2400" spc="-1" strike="noStrike">
                <a:solidFill>
                  <a:srgbClr val="ffffff"/>
                </a:solidFill>
                <a:latin typeface="Times New Roman"/>
              </a:rPr>
              <a:t> معالجة أثر التغييرات فى التقديرات المحاسبية بأثر رجعى وإنما يتم تاثير قائمة الدخل للفترة التى حدث فيها التغيير  وكذا قوائم الدخل للفترات التالية.</a:t>
            </a:r>
            <a:endParaRPr b="0" lang="en-US" sz="2400" spc="-1" strike="noStrike">
              <a:solidFill>
                <a:srgbClr val="ffffff"/>
              </a:solidFill>
              <a:latin typeface="Times New Roman"/>
            </a:endParaRPr>
          </a:p>
          <a:p>
            <a:pPr marL="108000" indent="-1080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685800" y="228600"/>
            <a:ext cx="8001000" cy="6311880"/>
          </a:xfrm>
          <a:prstGeom prst="rect">
            <a:avLst/>
          </a:prstGeom>
          <a:noFill/>
          <a:ln w="0">
            <a:noFill/>
          </a:ln>
        </p:spPr>
        <p:style>
          <a:lnRef idx="0"/>
          <a:fillRef idx="0"/>
          <a:effectRef idx="0"/>
          <a:fontRef idx="minor"/>
        </p:style>
        <p:txBody>
          <a:bodyPr lIns="90000" rIns="90000" tIns="46800" bIns="46800" anchor="t">
            <a:spAutoFit/>
          </a:bodyPr>
          <a:p>
            <a:pPr marL="168120" indent="-16812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عيار المحاسبة المصرى رقم (</a:t>
            </a:r>
            <a:r>
              <a:rPr b="1" lang="ar-SA" sz="2400" spc="-1" strike="noStrike">
                <a:solidFill>
                  <a:srgbClr val="ffffff"/>
                </a:solidFill>
                <a:latin typeface="Times New Roman"/>
              </a:rPr>
              <a:t>5</a:t>
            </a:r>
            <a:r>
              <a:rPr b="1" lang="ar-SA" sz="2400" spc="-1" strike="noStrike">
                <a:solidFill>
                  <a:srgbClr val="ffffff"/>
                </a:solidFill>
                <a:latin typeface="Times New Roman"/>
              </a:rPr>
              <a:t>)</a:t>
            </a:r>
            <a:endParaRPr b="0" lang="en-US" sz="2400" spc="-1" strike="noStrike">
              <a:solidFill>
                <a:srgbClr val="ffffff"/>
              </a:solidFill>
              <a:latin typeface="Times New Roman"/>
            </a:endParaRPr>
          </a:p>
          <a:p>
            <a:pPr marL="16812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صافى ربح أو خسارة الفترة والأخطاء الجوهرية وتغير السياسات المحاسبية</a:t>
            </a:r>
            <a:endParaRPr b="0" lang="en-US" sz="2400" spc="-1" strike="noStrike">
              <a:solidFill>
                <a:srgbClr val="ffffff"/>
              </a:solidFill>
              <a:latin typeface="Times New Roman"/>
            </a:endParaRPr>
          </a:p>
          <a:p>
            <a:pPr marL="16812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تغيير فى السياسات المحاسبية</a:t>
            </a:r>
            <a:endParaRPr b="0" lang="en-US" sz="2400" spc="-1" strike="noStrike">
              <a:solidFill>
                <a:srgbClr val="ffffff"/>
              </a:solidFill>
              <a:latin typeface="Times New Roman"/>
            </a:endParaRPr>
          </a:p>
          <a:p>
            <a:pPr marL="16812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لا يتم إعتبار الامور التالية تغييرا فى السياسات المحاسبية</a:t>
            </a:r>
            <a:endParaRPr b="0" lang="en-US" sz="2400" spc="-1" strike="noStrike">
              <a:solidFill>
                <a:srgbClr val="ffffff"/>
              </a:solidFill>
              <a:latin typeface="Times New Roman"/>
            </a:endParaRPr>
          </a:p>
          <a:p>
            <a:pPr marL="168120" indent="-168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a:t>
            </a:r>
            <a:r>
              <a:rPr b="0" lang="ar-SA" sz="2400" spc="-1" strike="noStrike">
                <a:solidFill>
                  <a:srgbClr val="ffffff"/>
                </a:solidFill>
                <a:latin typeface="Times New Roman"/>
              </a:rPr>
              <a:t>. تطبيق سياسات محاسبية على أحداث أو معاملات تختلف جوهريا عن الأحداث و</a:t>
            </a:r>
            <a:r>
              <a:rPr b="0" lang="ar-SA" sz="2400" spc="-1" strike="noStrike">
                <a:solidFill>
                  <a:srgbClr val="ffffff"/>
                </a:solidFill>
                <a:latin typeface="Times New Roman"/>
                <a:cs typeface="Times New Roman (Arabic)"/>
              </a:rPr>
              <a:t>المعاملات</a:t>
            </a:r>
            <a:r>
              <a:rPr b="0" lang="ar-SA" sz="2400" spc="-1" strike="noStrike">
                <a:solidFill>
                  <a:srgbClr val="ffffff"/>
                </a:solidFill>
                <a:latin typeface="Times New Roman"/>
              </a:rPr>
              <a:t> السابقة.</a:t>
            </a:r>
            <a:endParaRPr b="0" lang="en-US" sz="2400" spc="-1" strike="noStrike">
              <a:solidFill>
                <a:srgbClr val="ffffff"/>
              </a:solidFill>
              <a:latin typeface="Times New Roman"/>
            </a:endParaRPr>
          </a:p>
          <a:p>
            <a:pPr marL="168120" indent="-168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2</a:t>
            </a:r>
            <a:r>
              <a:rPr b="0" lang="ar-SA" sz="2400" spc="-1" strike="noStrike">
                <a:solidFill>
                  <a:srgbClr val="ffffff"/>
                </a:solidFill>
                <a:latin typeface="Times New Roman"/>
              </a:rPr>
              <a:t>. تطبيق سياسة محاسبية جديدة على أحداث أو معاملات لم تحدث مسبقا أو لم تكن هامة.</a:t>
            </a:r>
            <a:endParaRPr b="0" lang="en-US" sz="2400" spc="-1" strike="noStrike">
              <a:solidFill>
                <a:srgbClr val="ffffff"/>
              </a:solidFill>
              <a:latin typeface="Times New Roman"/>
            </a:endParaRPr>
          </a:p>
          <a:p>
            <a:pPr marL="168120" indent="-168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أمثلة لأمور لا تعتبر تغييرا فى السياسات المحاسبية:</a:t>
            </a:r>
            <a:endParaRPr b="0" lang="en-US" sz="2400" spc="-1" strike="noStrike">
              <a:solidFill>
                <a:srgbClr val="ffffff"/>
              </a:solidFill>
              <a:latin typeface="Times New Roman"/>
            </a:endParaRPr>
          </a:p>
          <a:p>
            <a:pPr marL="168120" indent="-168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a:t>
            </a:r>
            <a:r>
              <a:rPr b="0" lang="ar-SA" sz="2400" spc="-1" strike="noStrike">
                <a:solidFill>
                  <a:srgbClr val="ffffff"/>
                </a:solidFill>
                <a:latin typeface="Times New Roman"/>
              </a:rPr>
              <a:t>. التغيير فى الأعمار الإفتراضية للأصول الثابتة أو فى قيمتها التخريدية.</a:t>
            </a:r>
            <a:endParaRPr b="0" lang="en-US" sz="2400" spc="-1" strike="noStrike">
              <a:solidFill>
                <a:srgbClr val="ffffff"/>
              </a:solidFill>
              <a:latin typeface="Times New Roman"/>
            </a:endParaRPr>
          </a:p>
          <a:p>
            <a:pPr marL="168120" indent="-168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a:solidFill>
                  <a:srgbClr val="ffffff"/>
                </a:solidFill>
                <a:latin typeface="Times New Roman"/>
              </a:rPr>
              <a:t>  </a:t>
            </a:r>
            <a:r>
              <a:rPr b="0" lang="ar-SA" sz="2400" spc="-1" strike="noStrike">
                <a:solidFill>
                  <a:srgbClr val="ffffff"/>
                </a:solidFill>
                <a:latin typeface="Times New Roman"/>
              </a:rPr>
              <a:t>. تغيير فى القيمة الأستردادية للمخزو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1066680" y="457200"/>
            <a:ext cx="7162920" cy="689832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التغيير فى السياسات المحاسبية</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الجة القياسية</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تطبيق التغيير فى السياسة المحاسبية بأثر رجعى إذا تم التمكن من تحديد قيمة التسوية المتعلقة بالفترات المالية السابقة بدرجة معقولة. أى تطبق السياسة الجديدة كما لوكانت مطبقة منذ بداية نشأة البنود المتعلقة بها.</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إظهار أية تسوية ناتجة عن التغير فى السياسة المحاسبية بعد تأثيرها بما يخصها من ضرائب كتسوية لرصيد اول الفترة للأرباح المحتجزة لأقدم فترة مالية سابقة معروضة بالقوائم المالي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إعادة عرض المعلومات المقارنة كما لو أن السياسة المحاسبية الجديدة مطبقة من قبل.</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عين الأفصاح عن سبب التغيير وقيمة التسوية الخاصة بالفترة الجارية والفترات السابقة المعروضة بالقوائم المالية وان المعلومات المقارنة تم تعديلها.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380880" y="380880"/>
            <a:ext cx="8229600" cy="71038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التغيير فى السياسات المحاسبية</a:t>
            </a:r>
            <a:endParaRPr b="0" lang="en-US" sz="2400" spc="-1" strike="noStrike">
              <a:solidFill>
                <a:srgbClr val="ffffff"/>
              </a:solidFill>
              <a:latin typeface="Times New Roman"/>
            </a:endParaRPr>
          </a:p>
          <a:p>
            <a:pPr marL="108000" indent="-1080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الجة البديلة المسموح بها</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0" lang="ar-SA" sz="2400" spc="-1" strike="noStrike">
                <a:solidFill>
                  <a:srgbClr val="ffffff"/>
                </a:solidFill>
                <a:latin typeface="Times New Roman"/>
              </a:rPr>
              <a:t>يتضمن صافى الربح او الخسارة للفترة الجارية بند مستقل لاية تسويات تنتج عن تغيير السياسة المحاسبي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ظل المعلومات المقارنة كما هى ظاهرة فى القوائم المالية السابقة بدون تعديل ، ويتم إظهار معلومات إضافية للمقارنة لتوضيح صافى الربح أو الخسارة والمركز المالى للفترة الجارية وأى فترات مالية سابقة معروضة كما لو ان السياسة المحاسبية الجديدة كانت مطبقة من قبل.</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م الأفصاح عن نفس المعلومات كماهو متبع فى المعالجة القياسية.</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304920" y="0"/>
            <a:ext cx="8229600" cy="8506440"/>
          </a:xfrm>
          <a:prstGeom prst="rect">
            <a:avLst/>
          </a:prstGeom>
          <a:noFill/>
          <a:ln w="0">
            <a:noFill/>
          </a:ln>
        </p:spPr>
        <p:style>
          <a:lnRef idx="0"/>
          <a:fillRef idx="0"/>
          <a:effectRef idx="0"/>
          <a:fontRef idx="minor"/>
        </p:style>
        <p:txBody>
          <a:bodyPr lIns="90000" rIns="90000" tIns="46800" bIns="46800" anchor="t">
            <a:spAutoFit/>
          </a:bodyPr>
          <a:p>
            <a:pPr marL="291960" indent="-183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معيار المحاسبة المصرى رقم (</a:t>
            </a:r>
            <a:r>
              <a:rPr b="1" lang="ar-SA" sz="2400" spc="-1" strike="noStrike">
                <a:solidFill>
                  <a:srgbClr val="ffffff"/>
                </a:solidFill>
                <a:latin typeface="Times New Roman"/>
              </a:rPr>
              <a:t>5</a:t>
            </a:r>
            <a:r>
              <a:rPr b="1" lang="ar-SA" sz="2400" spc="-1" strike="noStrike">
                <a:solidFill>
                  <a:srgbClr val="ffffff"/>
                </a:solidFill>
                <a:latin typeface="Times New Roman"/>
              </a:rPr>
              <a:t>)</a:t>
            </a:r>
            <a:endParaRPr b="0" lang="en-US" sz="2400" spc="-1" strike="noStrike">
              <a:solidFill>
                <a:srgbClr val="ffffff"/>
              </a:solidFill>
              <a:latin typeface="Times New Roman"/>
            </a:endParaRPr>
          </a:p>
          <a:p>
            <a:pPr marL="291960" indent="-18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صافى ربح أو خسارة الفترة والأخطاء الجوهرية وتغير السياسات المحاسبية</a:t>
            </a:r>
            <a:endParaRPr b="0" lang="en-US" sz="2400" spc="-1" strike="noStrike">
              <a:solidFill>
                <a:srgbClr val="ffffff"/>
              </a:solidFill>
              <a:latin typeface="Times New Roman"/>
            </a:endParaRPr>
          </a:p>
          <a:p>
            <a:pPr marL="291960" indent="-18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1960" indent="-183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خطاء الجوهرية</a:t>
            </a:r>
            <a:endParaRPr b="0" lang="en-US" sz="2400" spc="-1" strike="noStrike">
              <a:solidFill>
                <a:srgbClr val="ffffff"/>
              </a:solidFill>
              <a:latin typeface="Times New Roman"/>
            </a:endParaRPr>
          </a:p>
          <a:p>
            <a:pPr marL="291960" indent="-18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1960" indent="-18396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ن الاخطاء الجوهرية هى الأخطاء الى يتم إكتشافها خلال الفترة المالية الجارية وتخص أخطاء تمت عند إعداد القوائم المالية الخاصة بفترة او فترات مالية سابقة نتيجة أخطاء حسابية أو أخطاء فى تطبيق سياسات محاسبية أو فى تفسير حقائق او نتيجة سهو مما يكون له أثر جوهرى على تلك القوائم بحيث لا يمكن الاعتماد عليها فى تاريخ صدورها. (مثال: عقود وهمية لا يمكن تنفيذها)</a:t>
            </a:r>
            <a:endParaRPr b="0" lang="en-US" sz="2400" spc="-1" strike="noStrike">
              <a:solidFill>
                <a:srgbClr val="ffffff"/>
              </a:solidFill>
              <a:latin typeface="Times New Roman"/>
            </a:endParaRPr>
          </a:p>
          <a:p>
            <a:pPr marL="291960" indent="-18396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1960" indent="-18396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المعالجة القياسية</a:t>
            </a:r>
            <a:endParaRPr b="0" lang="en-US" sz="2400" spc="-1" strike="noStrike">
              <a:solidFill>
                <a:srgbClr val="ffffff"/>
              </a:solidFill>
              <a:latin typeface="Times New Roman"/>
            </a:endParaRPr>
          </a:p>
          <a:p>
            <a:pPr marL="291960" indent="-18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م تعديل رصيد اول الفترة للأرباح المحتجزة بالمبلغ اللازم لتصويب الخطأ الجوهرى الخاص بفترات سابقة وذلك بعد تاثيره بما يخصه من ضرائب.</a:t>
            </a:r>
            <a:endParaRPr b="0" lang="en-US" sz="2400" spc="-1" strike="noStrike">
              <a:solidFill>
                <a:srgbClr val="ffffff"/>
              </a:solidFill>
              <a:latin typeface="Times New Roman"/>
            </a:endParaRPr>
          </a:p>
          <a:p>
            <a:pPr marL="291960" indent="-18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يتم تعديل المعلومات المقارنة الظاهرة بالقوائم المالية.</a:t>
            </a:r>
            <a:endParaRPr b="0" lang="en-US" sz="2400" spc="-1" strike="noStrike">
              <a:solidFill>
                <a:srgbClr val="ffffff"/>
              </a:solidFill>
              <a:latin typeface="Times New Roman"/>
            </a:endParaRPr>
          </a:p>
          <a:p>
            <a:pPr marL="291960" indent="-18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يتم الإفصاح عن طبيعة الخطا وقيمة التصويب عن الفترة الجارية والفترات السابقة الظاهرة فى القوائم المالية وانه قد تم تعديل المعلومات المقارنة.</a:t>
            </a:r>
            <a:endParaRPr b="0" lang="en-US" sz="2400" spc="-1" strike="noStrike">
              <a:solidFill>
                <a:srgbClr val="ffffff"/>
              </a:solidFill>
              <a:latin typeface="Times New Roman"/>
            </a:endParaRPr>
          </a:p>
          <a:p>
            <a:pPr marL="291960" indent="-18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228600" y="457200"/>
            <a:ext cx="8381880" cy="635724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الاخطاء الجوهرية</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الجة البديلة المسموح بها</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ظهر قيمة تصويب الخطأ الجوهرى عند تحديد صافى أرباح او خسائر الفترة الجارية فى بند مستقل بقائمة الدخل بعد تاثيرها بالضرائب المتعلقة بها مع عرض معلومات إضافية لأثر تصويب الخطأ الجوهرى على الفترات المالية السابقة كما لو كان تم تصحيح الخطأ الجوهرى فى الفترة التى حدث فيها.</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راعى فى جميع الأحوال عدم إستخدام مسمى إيرادات سنوات سابقة او مصروفات سنوات سابقة حيث يتم التحميل على الحساب النوعى للإيراد او المصروف.</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م الإفصاح عن نفس المعلومات كماهو متبع فى المعالجة القياسية.</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457200" y="304920"/>
            <a:ext cx="8534520" cy="63118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فسير رقم (</a:t>
            </a:r>
            <a:r>
              <a:rPr b="1" lang="ar-SA" sz="2400" spc="-1" strike="noStrike">
                <a:solidFill>
                  <a:srgbClr val="ffffff"/>
                </a:solidFill>
                <a:latin typeface="Times New Roman"/>
              </a:rPr>
              <a:t>8</a:t>
            </a:r>
            <a:r>
              <a:rPr b="1" lang="ar-SA" sz="2400" spc="-1" strike="noStrike">
                <a:solidFill>
                  <a:srgbClr val="ffffff"/>
                </a:solidFill>
                <a:latin typeface="Times New Roman"/>
              </a:rPr>
              <a:t>) الصادر عن لجنة التفسيرات الدائمة</a:t>
            </a: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إعداد القوائم المالية طبقا لمعايير المحاسبة الدولية لأول مر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تطبيق معايير المحاسبة الدولية بأثر رجعى إلا إذا كانت التعديلات المطلوبة للفترات السابقة لا يمكن تحديدها أو أن هناك معيار آخر يسمح بغير ذلك.</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م إعداد ارقام المقارنة طبقا لمعايير المحاسبة الدولية.</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درج أية تعديلات ناتجة عن التطبيق كتسوية للرصيد الإفتتاحى للأرباح المحتجزة مع الأفصاح عن طبيعة تلك التسويات.</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أن تفصح القوائم المالية عن السياسات المحاسبية التى تم إختيارها فى حالة وجود سياسات محاسبية بديلة.</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أفصاح عن التعديلات التى لم يتم إجرائها بسبب عدم القدرة على تحديدها بصورة مناسبة.</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أفصاح عن حقيقة عدم القدرة على عرض أرقام المقارنة – إن حدث ذلك – والأسباب.</a:t>
            </a:r>
            <a:endParaRPr b="0" lang="en-US" sz="2400" spc="-1" strike="noStrike">
              <a:solidFill>
                <a:srgbClr val="ffffff"/>
              </a:solidFill>
              <a:latin typeface="Times New Roman"/>
            </a:endParaRPr>
          </a:p>
          <a:p>
            <a:pPr marL="108000" indent="-1080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304920" y="228600"/>
            <a:ext cx="8153280" cy="7279200"/>
          </a:xfrm>
          <a:prstGeom prst="rect">
            <a:avLst/>
          </a:prstGeom>
          <a:noFill/>
          <a:ln w="0">
            <a:noFill/>
          </a:ln>
        </p:spPr>
        <p:style>
          <a:lnRef idx="0"/>
          <a:fillRef idx="0"/>
          <a:effectRef idx="0"/>
          <a:fontRef idx="minor"/>
        </p:style>
        <p:txBody>
          <a:bodyPr lIns="90000" rIns="90000" tIns="46800" bIns="46800" anchor="t">
            <a:spAutoFit/>
          </a:bodyPr>
          <a:p>
            <a:pPr marL="338040" indent="-33804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يار المحاسبى الدولى رقم (</a:t>
            </a:r>
            <a:r>
              <a:rPr b="1" lang="ar-SA" sz="2400" spc="-1" strike="noStrike">
                <a:solidFill>
                  <a:srgbClr val="ffffff"/>
                </a:solidFill>
                <a:latin typeface="Times New Roman"/>
              </a:rPr>
              <a:t>34</a:t>
            </a:r>
            <a:r>
              <a:rPr b="1" lang="ar-SA" sz="2400" spc="-1" strike="noStrike">
                <a:solidFill>
                  <a:srgbClr val="ffffff"/>
                </a:solidFill>
                <a:latin typeface="Times New Roman"/>
              </a:rPr>
              <a:t>) القوائم المالية المرحلية</a:t>
            </a:r>
            <a:endParaRPr b="0" lang="en-US" sz="2400" spc="-1" strike="noStrike">
              <a:solidFill>
                <a:srgbClr val="ffffff"/>
              </a:solidFill>
              <a:latin typeface="Times New Roman"/>
            </a:endParaRPr>
          </a:p>
          <a:p>
            <a:pPr marL="338040" indent="-33804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33804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الحد الادنى لمحتويات القوائم المالية المرحلية</a:t>
            </a:r>
            <a:endParaRPr b="0" lang="en-US" sz="2400" spc="-1" strike="noStrike">
              <a:solidFill>
                <a:srgbClr val="ffffff"/>
              </a:solidFill>
              <a:latin typeface="Times New Roman"/>
            </a:endParaRPr>
          </a:p>
          <a:p>
            <a:pPr marL="338040" indent="-338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a:t>
            </a:r>
            <a:r>
              <a:rPr b="0" lang="ar-SA" sz="2400" spc="-1" strike="noStrike">
                <a:solidFill>
                  <a:srgbClr val="ffffff"/>
                </a:solidFill>
                <a:latin typeface="Times New Roman"/>
              </a:rPr>
              <a:t>. ميزانية مختصرة مع المعلومات المقارنة فى نهاية السنة المالية السابقة.</a:t>
            </a:r>
            <a:endParaRPr b="0" lang="en-US" sz="2400" spc="-1" strike="noStrike">
              <a:solidFill>
                <a:srgbClr val="ffffff"/>
              </a:solidFill>
              <a:latin typeface="Times New Roman"/>
            </a:endParaRPr>
          </a:p>
          <a:p>
            <a:pPr marL="338040" indent="-338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2</a:t>
            </a:r>
            <a:r>
              <a:rPr b="0" lang="ar-SA" sz="2400" spc="-1" strike="noStrike">
                <a:solidFill>
                  <a:srgbClr val="ffffff"/>
                </a:solidFill>
                <a:latin typeface="Times New Roman"/>
              </a:rPr>
              <a:t>. قائمة دخل مختصرة للفترة المرحلية بصورة متراكمة حتى تاريخ الميزانية مع المعلومات المقارنة.</a:t>
            </a:r>
            <a:endParaRPr b="0" lang="en-US" sz="2400" spc="-1" strike="noStrike">
              <a:solidFill>
                <a:srgbClr val="ffffff"/>
              </a:solidFill>
              <a:latin typeface="Times New Roman"/>
            </a:endParaRPr>
          </a:p>
          <a:p>
            <a:pPr marL="338040" indent="-338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3</a:t>
            </a:r>
            <a:r>
              <a:rPr b="0" lang="ar-SA" sz="2400" spc="-1" strike="noStrike">
                <a:solidFill>
                  <a:srgbClr val="ffffff"/>
                </a:solidFill>
                <a:latin typeface="Times New Roman"/>
              </a:rPr>
              <a:t>. قائمة مختصرة للتغير فى حقوق الملكية خلال الفترة المرحلية بصورة متراكمة أو للتغيرات فى حقوق الملكية بخلاف المتعلقة بمعاملات رأس المال وتوزيع الارباح بصورة متراكمة.</a:t>
            </a:r>
            <a:endParaRPr b="0" lang="en-US" sz="2400" spc="-1" strike="noStrike">
              <a:solidFill>
                <a:srgbClr val="ffffff"/>
              </a:solidFill>
              <a:latin typeface="Times New Roman"/>
            </a:endParaRPr>
          </a:p>
          <a:p>
            <a:pPr marL="338040" indent="-338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4</a:t>
            </a:r>
            <a:r>
              <a:rPr b="0" lang="ar-SA" sz="2400" spc="-1" strike="noStrike">
                <a:solidFill>
                  <a:srgbClr val="ffffff"/>
                </a:solidFill>
                <a:latin typeface="Times New Roman"/>
              </a:rPr>
              <a:t>. قائمة مختصرة للتدفقات النقدية خلال الفترة المرحلية بصورة متراكمة حتى تاريخ القوائم المالية مع المعلومات المقارنة. </a:t>
            </a:r>
            <a:endParaRPr b="0" lang="en-US" sz="2400" spc="-1" strike="noStrike">
              <a:solidFill>
                <a:srgbClr val="ffffff"/>
              </a:solidFill>
              <a:latin typeface="Times New Roman"/>
            </a:endParaRPr>
          </a:p>
          <a:p>
            <a:pPr marL="338040" indent="-338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يجب ان يلتزم شكل ومحتويات القوائم المالية المرحلية مع معايير المحاسبة الدولية المتعلقة بإصدار مجموعة متكاملة من القوائم الم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152280" y="457200"/>
            <a:ext cx="8763120" cy="76600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يار المحاسبى الدولى رقم (</a:t>
            </a:r>
            <a:r>
              <a:rPr b="1" lang="ar-SA" sz="2400" spc="-1" strike="noStrike">
                <a:solidFill>
                  <a:srgbClr val="ffffff"/>
                </a:solidFill>
                <a:latin typeface="Times New Roman"/>
              </a:rPr>
              <a:t>34</a:t>
            </a:r>
            <a:r>
              <a:rPr b="1" lang="ar-SA" sz="2400" spc="-1" strike="noStrike">
                <a:solidFill>
                  <a:srgbClr val="ffffff"/>
                </a:solidFill>
                <a:latin typeface="Times New Roman"/>
              </a:rPr>
              <a:t>) القوائم المالية المرحلية</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لومات التى تتضمنها الإيضاحات الخاصة بالقوائم المالية المرحلي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أن السياسات المستخدمة هى نفسها التى تستخدم فى القوائم المالية السنوية. مع الإفصاح عن أى تغيير فى السياسات المحاسبية إن وجدت.</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يضاح تفسيرى عن موسمية أو دورية عمليات التشغيل. </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طبيعة وقيمة البنود غير العادية التى أثرت فى القوائم المالي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طبيعة وقيمة التغييرات فى التقديرات المحاسبي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صدار أو شراء أو إعادة سداد الديون او حقوق الملكية وكذا توزيعات الأرباح.</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إيرادات ونتائج أعمال القطاعات إذا إنطبق المعيار الخاص بعرض معلومات القطاعات.</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الأحداث الهامة اللاحقة لتاريخ القوائم المالية المرحلية والتغيرات فى الإلتزامات العرض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1" name=""/>
          <p:cNvSpPr/>
          <p:nvPr/>
        </p:nvSpPr>
        <p:spPr>
          <a:xfrm>
            <a:off x="685800" y="914400"/>
            <a:ext cx="7620120" cy="65476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يار المحاسبى الدولى رقم (</a:t>
            </a:r>
            <a:r>
              <a:rPr b="1" lang="ar-SA" sz="2400" spc="-1" strike="noStrike">
                <a:solidFill>
                  <a:srgbClr val="ffffff"/>
                </a:solidFill>
                <a:latin typeface="Times New Roman"/>
              </a:rPr>
              <a:t>34</a:t>
            </a:r>
            <a:r>
              <a:rPr b="1" lang="ar-SA" sz="2400" spc="-1" strike="noStrike">
                <a:solidFill>
                  <a:srgbClr val="ffffff"/>
                </a:solidFill>
                <a:latin typeface="Times New Roman"/>
              </a:rPr>
              <a:t>) القوائم المالية المرحلي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يرادات المستلمة أو التكاليف المحملة موسميا أو بطريقة سنو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ا يجب تأجيل أو تقدير هذه العناصر وإدراجها بالقوائم المالية المرحل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تغييرات فى السياسات المحاسب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ذا حدث تغيير فى السياسة المحاسبية فإن المعلومات المقارنة للفترة المرحلية السابقة والمعروضة مع الفترة المرحلية الجارية يجب تعديلها كما لوكانت السياسة المحاسبية مطبقة من قب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304920" y="457200"/>
            <a:ext cx="8610480" cy="740916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تطلبات معيار المحاسبة المصرى رقم (</a:t>
            </a:r>
            <a:r>
              <a:rPr b="1" lang="ar-SA" sz="2400" spc="-1" strike="noStrike">
                <a:solidFill>
                  <a:srgbClr val="ffffff"/>
                </a:solidFill>
                <a:latin typeface="Times New Roman"/>
              </a:rPr>
              <a:t>1</a:t>
            </a:r>
            <a:r>
              <a:rPr b="1" lang="ar-SA" sz="2400" spc="-1" strike="noStrike">
                <a:solidFill>
                  <a:srgbClr val="ffffff"/>
                </a:solidFill>
                <a:latin typeface="Times New Roman"/>
              </a:rPr>
              <a:t>)</a:t>
            </a: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تحديد القوائم المالية بوضوح وتمييزها عن المعلومات المالية الأخرى المنشورة ،</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ومن ثم فهى تتضمن الميزانية ، قائمة الدخل ، قائمة التدفقات النقدية ، قائمة التغيرات فى حقوق الملكية والسياسات المحاسبية المتبعة والإيضاحات.</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الأفصاح عن العناصر التالية:</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أسم المنشاة وطبيعة نشاطها.</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تحديد ما إذا كانت تلك القوائم تغطى المنشاة بمفردها أو مجموعة من المنشآت.</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تاريخ الميزانية والفترة التى تغطيها القوائم المالية.</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العملة المستخدمة ومستوى التقريب الذى روعى عند إعداد القوائم المالي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إعداد القوائم المالية مرة فى السنة على الأقل ، وفى الحالات التى تغطى القوائم المالية فترة تزيد أو تقل عن سنة يتعين الأفصاح عن سبب ذلك بالأضافة الى الإفصاح بأن قوائم الدخل والتدفقات النقدية والتغير فى حقوق الملكية لا يمكن مقارنت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457200" y="457200"/>
            <a:ext cx="8305920" cy="7043400"/>
          </a:xfrm>
          <a:prstGeom prst="rect">
            <a:avLst/>
          </a:prstGeom>
          <a:noFill/>
          <a:ln w="0">
            <a:noFill/>
          </a:ln>
        </p:spPr>
        <p:style>
          <a:lnRef idx="0"/>
          <a:fillRef idx="0"/>
          <a:effectRef idx="0"/>
          <a:fontRef idx="minor"/>
        </p:style>
        <p:txBody>
          <a:bodyPr lIns="90000" rIns="90000" tIns="46800" bIns="46800" anchor="t">
            <a:spAutoFit/>
          </a:bodyPr>
          <a:p>
            <a:pPr marL="291960" indent="-291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يزانية</a:t>
            </a:r>
            <a:endParaRPr b="0" lang="en-US" sz="2400" spc="-1" strike="noStrike">
              <a:solidFill>
                <a:srgbClr val="ffffff"/>
              </a:solidFill>
              <a:latin typeface="Times New Roman"/>
            </a:endParaRPr>
          </a:p>
          <a:p>
            <a:pPr marL="291960" indent="-291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1960" indent="-29196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يجب التفرقة بين الأصول المتداولة والأصول غير المتداولة وكذا بين الإلتزامات المتداولة و الإلتزامات غبر المتداولة عند عرض الميزانية.</a:t>
            </a:r>
            <a:endParaRPr b="0" lang="en-US" sz="2400" spc="-1" strike="noStrike">
              <a:solidFill>
                <a:srgbClr val="ffffff"/>
              </a:solidFill>
              <a:latin typeface="Times New Roman"/>
            </a:endParaRPr>
          </a:p>
          <a:p>
            <a:pPr marL="291960" indent="-291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1960" indent="-29196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يصنف الأصل من الأصول المتداولة عندما:</a:t>
            </a:r>
            <a:endParaRPr b="0" lang="en-US" sz="2400" spc="-1" strike="noStrike">
              <a:solidFill>
                <a:srgbClr val="ffffff"/>
              </a:solidFill>
              <a:latin typeface="Times New Roman"/>
            </a:endParaRPr>
          </a:p>
          <a:p>
            <a:pPr marL="291960" indent="-291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  يكون فى صورة نقدية أو من المتوقع أن يتم تحويله الى نقدية أو الأحتفاظ به لغرض البيع فى ظل دورة النشاط العادية للمنشأة. (المخزون – النقدية – العملاء)</a:t>
            </a:r>
            <a:endParaRPr b="0" lang="en-US" sz="2400" spc="-1" strike="noStrike">
              <a:solidFill>
                <a:srgbClr val="ffffff"/>
              </a:solidFill>
              <a:latin typeface="Times New Roman"/>
            </a:endParaRPr>
          </a:p>
          <a:p>
            <a:pPr marL="291960" indent="-291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 يحتفظ به لأغراض المتاجرة فى الاجل القصير ويتوقع تحويله الى نقدية خلال </a:t>
            </a:r>
            <a:r>
              <a:rPr b="0" lang="ar-SA" sz="2400" spc="-1" strike="noStrike">
                <a:solidFill>
                  <a:srgbClr val="ffffff"/>
                </a:solidFill>
                <a:latin typeface="Arial"/>
                <a:ea typeface="Arial"/>
              </a:rPr>
              <a:t>12</a:t>
            </a:r>
            <a:r>
              <a:rPr b="0" lang="ar-SA" sz="2400" spc="-1" strike="noStrike">
                <a:solidFill>
                  <a:srgbClr val="ffffff"/>
                </a:solidFill>
                <a:latin typeface="Arial"/>
                <a:ea typeface="Arial"/>
              </a:rPr>
              <a:t> شهرا من تاريخ الميزانية (الأستثمارات قصيرة الأجل).</a:t>
            </a:r>
            <a:endParaRPr b="0" lang="en-US" sz="2400" spc="-1" strike="noStrike">
              <a:solidFill>
                <a:srgbClr val="ffffff"/>
              </a:solidFill>
              <a:latin typeface="Times New Roman"/>
            </a:endParaRPr>
          </a:p>
          <a:p>
            <a:pPr marL="291960" indent="-291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1960" indent="-29196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صنف الإلتزام من الإلتزامات المتداولة عندما:</a:t>
            </a:r>
            <a:endParaRPr b="0" lang="en-US" sz="2400" spc="-1" strike="noStrike">
              <a:solidFill>
                <a:srgbClr val="ffffff"/>
              </a:solidFill>
              <a:latin typeface="Times New Roman"/>
            </a:endParaRPr>
          </a:p>
          <a:p>
            <a:pPr marL="291960" indent="-291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 يكون من المتوقع سدادها او تسويتها خلال دورة التشغيل العادية للمنشاة. و</a:t>
            </a:r>
            <a:endParaRPr b="0" lang="en-US" sz="2400" spc="-1" strike="noStrike">
              <a:solidFill>
                <a:srgbClr val="ffffff"/>
              </a:solidFill>
              <a:latin typeface="Times New Roman"/>
            </a:endParaRPr>
          </a:p>
          <a:p>
            <a:pPr marL="291960" indent="-291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 يكون مستحق السداد خلال </a:t>
            </a:r>
            <a:r>
              <a:rPr b="0" lang="ar-SA" sz="2400" spc="-1" strike="noStrike">
                <a:solidFill>
                  <a:srgbClr val="ffffff"/>
                </a:solidFill>
                <a:latin typeface="Arial"/>
                <a:ea typeface="Arial"/>
              </a:rPr>
              <a:t>12</a:t>
            </a:r>
            <a:r>
              <a:rPr b="0" lang="ar-SA" sz="2400" spc="-1" strike="noStrike">
                <a:solidFill>
                  <a:srgbClr val="ffffff"/>
                </a:solidFill>
                <a:latin typeface="Arial"/>
                <a:ea typeface="Arial"/>
              </a:rPr>
              <a:t> شهرا من تاريخ الميزانية.</a:t>
            </a:r>
            <a:endParaRPr b="0" lang="en-US" sz="2400" spc="-1" strike="noStrike">
              <a:solidFill>
                <a:srgbClr val="ffffff"/>
              </a:solidFill>
              <a:latin typeface="Times New Roman"/>
            </a:endParaRPr>
          </a:p>
          <a:p>
            <a:pPr marL="291960" indent="-291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228600" y="533520"/>
            <a:ext cx="8686800" cy="7043400"/>
          </a:xfrm>
          <a:prstGeom prst="rect">
            <a:avLst/>
          </a:prstGeom>
          <a:noFill/>
          <a:ln w="0">
            <a:noFill/>
          </a:ln>
        </p:spPr>
        <p:style>
          <a:lnRef idx="0"/>
          <a:fillRef idx="0"/>
          <a:effectRef idx="0"/>
          <a:fontRef idx="minor"/>
        </p:style>
        <p:txBody>
          <a:bodyPr lIns="90000" rIns="90000" tIns="46800" bIns="46800" anchor="t">
            <a:spAutoFit/>
          </a:bodyPr>
          <a:p>
            <a:pPr marL="460440" indent="-2923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الميزانية</a:t>
            </a:r>
            <a:endParaRPr b="0" lang="en-US" sz="2400" spc="-1" strike="noStrike">
              <a:solidFill>
                <a:srgbClr val="ffffff"/>
              </a:solidFill>
              <a:latin typeface="Times New Roman"/>
            </a:endParaRPr>
          </a:p>
          <a:p>
            <a:pPr marL="460440" indent="-2923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0440" indent="-2923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م تبويب كافة الأصول الأخرى التى لاينطبق عليها شروط الأصول المتداولة كأصول غير متداولة (طويلة الاجل).</a:t>
            </a:r>
            <a:endParaRPr b="0" lang="en-US" sz="2400" spc="-1" strike="noStrike">
              <a:solidFill>
                <a:srgbClr val="ffffff"/>
              </a:solidFill>
              <a:latin typeface="Times New Roman"/>
            </a:endParaRPr>
          </a:p>
          <a:p>
            <a:pPr marL="460440" indent="-2923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0440" indent="-2923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مكن  إستمرارتصنيف الألتزامات غير المتداولة ضمن نفس تلك المجموعة على الرغم من حلول إستحقاقها خلال </a:t>
            </a:r>
            <a:r>
              <a:rPr b="0" lang="ar-SA" sz="2400" spc="-1" strike="noStrike">
                <a:solidFill>
                  <a:srgbClr val="ffffff"/>
                </a:solidFill>
                <a:latin typeface="Times New Roman"/>
              </a:rPr>
              <a:t>12</a:t>
            </a:r>
            <a:r>
              <a:rPr b="0" lang="ar-SA" sz="2400" spc="-1" strike="noStrike">
                <a:solidFill>
                  <a:srgbClr val="ffffff"/>
                </a:solidFill>
                <a:latin typeface="Times New Roman"/>
              </a:rPr>
              <a:t> شهرا من تاريخ الميزانية وذلك فى حالة أن المنشأة تعتزم إعادة تمويل الإلتزام من خلال إلتزام آخر طويل الاجل و ان يكون ذلك مدعوما بإتفاق أو عقد إعادة تمويل او جدولة </a:t>
            </a:r>
            <a:r>
              <a:rPr b="0" lang="ar-SA" sz="2400" spc="-1" strike="noStrike">
                <a:solidFill>
                  <a:srgbClr val="ffffff"/>
                </a:solidFill>
                <a:latin typeface="Times New Roman"/>
                <a:cs typeface="Times New Roman (Arabic)"/>
              </a:rPr>
              <a:t>مكتملة</a:t>
            </a:r>
            <a:r>
              <a:rPr b="0" lang="ar-SA" sz="2400" spc="-1" strike="noStrike">
                <a:solidFill>
                  <a:srgbClr val="ffffff"/>
                </a:solidFill>
                <a:latin typeface="Times New Roman"/>
              </a:rPr>
              <a:t> قبل إعتماد القوائم المالية.</a:t>
            </a:r>
            <a:endParaRPr b="0" lang="en-US" sz="2400" spc="-1" strike="noStrike">
              <a:solidFill>
                <a:srgbClr val="ffffff"/>
              </a:solidFill>
              <a:latin typeface="Times New Roman"/>
            </a:endParaRPr>
          </a:p>
          <a:p>
            <a:pPr marL="460440" indent="-2923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0440" indent="-2923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تفصح المنشاة فى صلب القوائم المالية أو فى الإيضاحات عن تصنيفات او معلومات تفصيلية أخرى مثل الحسابات المدينة ، الأصول الملموسة ، المخزون ، الإحتياطيات ، توزيعات الاسهم الممتازة وكذا تفاصيل وبيانات راس المال (عدد الأسهم ، القيمة الاسمية للسهم ، رأس المال </a:t>
            </a:r>
            <a:r>
              <a:rPr b="0" lang="ar-SA" sz="2400" spc="-1" strike="noStrike">
                <a:solidFill>
                  <a:srgbClr val="ffffff"/>
                </a:solidFill>
                <a:latin typeface="Times New Roman"/>
                <a:cs typeface="Times New Roman (Arabic)"/>
              </a:rPr>
              <a:t>المصرح</a:t>
            </a:r>
            <a:r>
              <a:rPr b="0" lang="ar-SA" sz="2400" spc="-1" strike="noStrike">
                <a:solidFill>
                  <a:srgbClr val="ffffff"/>
                </a:solidFill>
                <a:latin typeface="Times New Roman"/>
              </a:rPr>
              <a:t> به والمصدر والمدفوع).</a:t>
            </a:r>
            <a:endParaRPr b="0" lang="en-US" sz="2400" spc="-1" strike="noStrike">
              <a:solidFill>
                <a:srgbClr val="ffffff"/>
              </a:solidFill>
              <a:latin typeface="Times New Roman"/>
            </a:endParaRPr>
          </a:p>
          <a:p>
            <a:pPr marL="460440" indent="-2923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0440" indent="-2923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304920" y="304920"/>
            <a:ext cx="8534160" cy="708876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قائمة الدخل</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ان تظهر قائمة الدخل بندا مستقلا (كحد ادنى) لكل من  الإيرادات من نتائج أنشطة التشغيل ، تكلفة التمويل، نصيب الشركة القابضة فى أرباح شركاتها التابعة ، مصروف الضريبة ، البنود غير العادية ، حقوق الأقلية فى حالة القوائم المالية المجمعة وكذا صافى ارباح وخسائر الفترة. </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عرض قائمة الدخل طبقا لطبيعة المصروف.</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م تجميع المصروفات وفقا لطبيعتها ولا يتم تخصيصها على الوظائف المختلفة داخل المنشا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عرض قائمة الدخل وفقا لطريقة وظيفة المصروف أو تكلفة المبيعات</a:t>
            </a:r>
            <a:r>
              <a:rPr b="0" lang="ar-SA" sz="2400" spc="-1" strike="noStrike">
                <a:solidFill>
                  <a:srgbClr val="ffffff"/>
                </a:solidFill>
                <a:latin typeface="Times New Roman"/>
              </a:rPr>
              <a:t> </a:t>
            </a:r>
            <a:r>
              <a:rPr b="1" lang="ar-SA" sz="2400" spc="-1" strike="noStrike">
                <a:solidFill>
                  <a:srgbClr val="ffffff"/>
                </a:solidFill>
                <a:latin typeface="Times New Roman"/>
              </a:rPr>
              <a:t>( طريقة مفضلة)</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م تبويب المصروفات وفقا لوظائفها كجزء من انشطة تكلفة البضاعة المباعة ومصروفات كل من البيع والتوزيع ومصروفات الادارة. وهنا يجب الإفصاح عن الإهلاك وتكلفة العمالة ومبالغ الأرباح المقترح توزيعها. </a:t>
            </a:r>
            <a:endParaRPr b="0" lang="en-US" sz="2400" spc="-1" strike="noStrike">
              <a:solidFill>
                <a:srgbClr val="ffffff"/>
              </a:solidFill>
              <a:latin typeface="Times New Roman"/>
            </a:endParaRPr>
          </a:p>
          <a:p>
            <a:pPr marL="108000" indent="-10800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685800" y="380880"/>
            <a:ext cx="7848720" cy="5560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عرض قائمة الدخل طبقا لطريقة طبيعة المصروف</a:t>
            </a:r>
            <a:endParaRPr b="0" lang="en-US" sz="24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إيـــــراد</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يرادات تشغيل أخرى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غيرات فى قيمة المخزون التام وتحت التشغيل</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واد خام مستخدمة</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رتبات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هلاك وإستهلاك</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صروفات تشغيلية اخرى</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جمالى مصروفات التشغيل</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______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أرباح من الأنشطة العادية</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380880" y="228600"/>
            <a:ext cx="8458200" cy="64821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عرض قائمة الدخل طبقا لطريقة وظيفة المصروف أو طريقة تكلفة المبيعات</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أيرادات</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كلفة المبيعات</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_______</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جمل الربح</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يرادات تشغيلية أخرى</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صروفات بيع وتوزيع</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صروفات إدارية</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صروفات تشغيلية أخرى</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________</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أرباح من الأنشطة العادية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457200" y="457200"/>
            <a:ext cx="8077320" cy="6677640"/>
          </a:xfrm>
          <a:prstGeom prst="rect">
            <a:avLst/>
          </a:prstGeom>
          <a:noFill/>
          <a:ln w="0">
            <a:noFill/>
          </a:ln>
        </p:spPr>
        <p:style>
          <a:lnRef idx="0"/>
          <a:fillRef idx="0"/>
          <a:effectRef idx="0"/>
          <a:fontRef idx="minor"/>
        </p:style>
        <p:txBody>
          <a:bodyPr lIns="90000" rIns="90000" tIns="46800" bIns="46800" anchor="t">
            <a:spAutoFit/>
          </a:bodyPr>
          <a:p>
            <a:pPr marL="16812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قائمة التغيرات فى حقوق الملكية</a:t>
            </a:r>
            <a:endParaRPr b="0" lang="en-US" sz="2400" spc="-1" strike="noStrike">
              <a:solidFill>
                <a:srgbClr val="ffffff"/>
              </a:solidFill>
              <a:latin typeface="Times New Roman"/>
            </a:endParaRPr>
          </a:p>
          <a:p>
            <a:pPr marL="16812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صافى أرباح أوخسائر الفترة.</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كافة بنود الإيرادات والمصروفات والأرباح والخسائر التى يتطلب الأمر إدراجها مباشرة ضمن حقوق الملكية. </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أثير التراكمى للتغيرات فى السياسات المحاسبية وتصحيح الأخطاء الجوهرية التى تم معالجتها طبقا للمعالجة القياسية الواردة بالمعيار المتعلق بذلك.</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عاملات الخاصة برأس المال وتوزيعات الأرباح.</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رصيد الارباح أو الخسائر التراكمى فى بداية ونهاية الفترة (الأرباح المحتجزة).</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سوية بين رصيد بداية ونهاية الفترة لكل رصيد من ارصدة حقوق الملك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6T20:56:46Z</dcterms:created>
  <dc:creator>Administrator</dc:creator>
  <dc:description/>
  <dc:language>en-US</dc:language>
  <cp:lastModifiedBy>Administrator</cp:lastModifiedBy>
  <dcterms:modified xsi:type="dcterms:W3CDTF">2004-04-09T08:13:18Z</dcterms:modified>
  <cp:revision>21</cp:revision>
  <dc:subject/>
  <dc:title>PowerPoint Presentation</dc:title>
</cp:coreProperties>
</file>