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98560" y="1498320"/>
            <a:ext cx="740736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98560" y="3693960"/>
            <a:ext cx="740736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98560" y="1498320"/>
            <a:ext cx="361476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4400" y="1498320"/>
            <a:ext cx="361476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98560" y="3693960"/>
            <a:ext cx="361476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4400" y="3693960"/>
            <a:ext cx="361476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98560" y="1498320"/>
            <a:ext cx="238500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3080" y="1498320"/>
            <a:ext cx="238500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07960" y="1498320"/>
            <a:ext cx="238500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98560" y="3693960"/>
            <a:ext cx="238500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3080" y="3693960"/>
            <a:ext cx="238500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07960" y="3693960"/>
            <a:ext cx="238500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98560" y="1498320"/>
            <a:ext cx="740736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spcBef>
                <a:spcPts val="1125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3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98560" y="1498320"/>
            <a:ext cx="740736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98560" y="1498320"/>
            <a:ext cx="361476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4400" y="1498320"/>
            <a:ext cx="361476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52560" y="456840"/>
            <a:ext cx="723888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3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98560" y="1498320"/>
            <a:ext cx="361476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4400" y="1498320"/>
            <a:ext cx="361476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98560" y="3693960"/>
            <a:ext cx="361476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98560" y="1498320"/>
            <a:ext cx="740736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spcBef>
                <a:spcPts val="1125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3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98560" y="1498320"/>
            <a:ext cx="361476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4400" y="1498320"/>
            <a:ext cx="361476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94400" y="3693960"/>
            <a:ext cx="361476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98560" y="1498320"/>
            <a:ext cx="361476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4400" y="1498320"/>
            <a:ext cx="361476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98560" y="3693960"/>
            <a:ext cx="740736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98560" y="1498320"/>
            <a:ext cx="740736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898560" y="3693960"/>
            <a:ext cx="740736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98560" y="1498320"/>
            <a:ext cx="361476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4400" y="1498320"/>
            <a:ext cx="361476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98560" y="3693960"/>
            <a:ext cx="361476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94400" y="3693960"/>
            <a:ext cx="361476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98560" y="1498320"/>
            <a:ext cx="238500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03080" y="1498320"/>
            <a:ext cx="238500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07960" y="1498320"/>
            <a:ext cx="238500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898560" y="3693960"/>
            <a:ext cx="238500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03080" y="3693960"/>
            <a:ext cx="238500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07960" y="3693960"/>
            <a:ext cx="238500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98560" y="1498320"/>
            <a:ext cx="740736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98560" y="1498320"/>
            <a:ext cx="361476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4400" y="1498320"/>
            <a:ext cx="361476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52560" y="456840"/>
            <a:ext cx="723888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3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98560" y="1498320"/>
            <a:ext cx="361476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4400" y="1498320"/>
            <a:ext cx="361476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98560" y="3693960"/>
            <a:ext cx="361476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98560" y="1498320"/>
            <a:ext cx="361476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4400" y="1498320"/>
            <a:ext cx="361476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4400" y="3693960"/>
            <a:ext cx="361476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98560" y="1498320"/>
            <a:ext cx="361476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4400" y="1498320"/>
            <a:ext cx="361476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98560" y="3693960"/>
            <a:ext cx="740736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9960" y="6118200"/>
            <a:ext cx="104796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520" rIns="7452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Univers 45 Light"/>
              </a:rPr>
              <a:t>Click to edit the title text format</a:t>
            </a: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98560" y="1498320"/>
            <a:ext cx="740736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marL="380880" indent="-380880">
              <a:lnSpc>
                <a:spcPct val="105000"/>
              </a:lnSpc>
              <a:spcBef>
                <a:spcPts val="825"/>
              </a:spcBef>
              <a:buClr>
                <a:srgbClr val="fafd00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Univers 45 Light"/>
              </a:rPr>
              <a:t>Click to edit the outline text format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lvl="1" marL="857160" indent="-285480">
              <a:lnSpc>
                <a:spcPct val="105000"/>
              </a:lnSpc>
              <a:spcBef>
                <a:spcPts val="825"/>
              </a:spcBef>
              <a:buClr>
                <a:srgbClr val="ffffff"/>
              </a:buClr>
              <a:buFont typeface="Univers 55"/>
              <a:buChar char="-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Univers 45 Light"/>
              </a:rPr>
              <a:t>Second Outline Level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lvl="2" marL="1333440" indent="-285840">
              <a:lnSpc>
                <a:spcPct val="105000"/>
              </a:lnSpc>
              <a:spcBef>
                <a:spcPts val="825"/>
              </a:spcBef>
              <a:buClr>
                <a:srgbClr val="ffffff"/>
              </a:buClr>
              <a:buFont typeface="Univers 55"/>
              <a:buChar char="-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Univers 45 Light"/>
              </a:rPr>
              <a:t>Third Outline Level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lvl="3" marL="1905120" indent="-281160">
              <a:lnSpc>
                <a:spcPct val="105000"/>
              </a:lnSpc>
              <a:spcBef>
                <a:spcPts val="825"/>
              </a:spcBef>
              <a:buClr>
                <a:srgbClr val="ffffff"/>
              </a:buClr>
              <a:buFont typeface="Univers 55"/>
              <a:buChar char="-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Univers 45 Light"/>
              </a:rPr>
              <a:t>Fourth Outline Level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lvl="4" marL="2243160" indent="-147600">
              <a:lnSpc>
                <a:spcPct val="105000"/>
              </a:lnSpc>
              <a:spcBef>
                <a:spcPts val="825"/>
              </a:spcBef>
              <a:buClr>
                <a:srgbClr val="ffffff"/>
              </a:buClr>
              <a:buFont typeface="Times New Roman"/>
              <a:buChar char="»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Univers 45 Light"/>
              </a:rPr>
              <a:t>Fifth Outline Level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lvl="5" marL="2243160" indent="-147600">
              <a:lnSpc>
                <a:spcPct val="105000"/>
              </a:lnSpc>
              <a:spcBef>
                <a:spcPts val="825"/>
              </a:spcBef>
              <a:buClr>
                <a:srgbClr val="ffffff"/>
              </a:buClr>
              <a:buFont typeface="Times New Roman"/>
              <a:buChar char="»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Univers 45 Light"/>
              </a:rPr>
              <a:t>Sixth Outline Level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lvl="6" marL="2243160" indent="-147600">
              <a:lnSpc>
                <a:spcPct val="105000"/>
              </a:lnSpc>
              <a:spcBef>
                <a:spcPts val="825"/>
              </a:spcBef>
              <a:buClr>
                <a:srgbClr val="ffffff"/>
              </a:buClr>
              <a:buFont typeface="Times New Roman"/>
              <a:buChar char="»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Univers 45 Light"/>
              </a:rPr>
              <a:t>Seventh Outline Level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591240" y="228240"/>
            <a:ext cx="1981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700" spc="-1" strike="noStrike">
                <a:solidFill>
                  <a:srgbClr val="fafd00"/>
                </a:solidFill>
                <a:latin typeface="Univers 45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afd00"/>
                </a:solidFill>
                <a:latin typeface="Univers 45 Light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3368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fafd00"/>
                </a:solidFill>
                <a:latin typeface="Univers 55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afd00"/>
                </a:solidFill>
                <a:latin typeface="Univers 55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9960" y="6118200"/>
            <a:ext cx="1047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520" rIns="7452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KPMG Logo"/>
              </a:rPr>
              <a:t>kpmg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Univers 45 Light"/>
              </a:rPr>
              <a:t>Click to edit the title text format</a:t>
            </a:r>
            <a:endParaRPr b="1" lang="en-US" sz="3600" spc="-1" strike="noStrike">
              <a:solidFill>
                <a:srgbClr val="fafd00"/>
              </a:solidFill>
              <a:latin typeface="Univers 45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666756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700" spc="-1" strike="noStrike">
                <a:solidFill>
                  <a:srgbClr val="fafd00"/>
                </a:solidFill>
                <a:latin typeface="Univers 45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afd00"/>
                </a:solidFill>
                <a:latin typeface="Univers 45 Light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130800"/>
            <a:ext cx="2895840" cy="2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fafd00"/>
                </a:solidFill>
                <a:latin typeface="Univers 55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afd00"/>
                </a:solidFill>
                <a:latin typeface="Univers 55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49200" y="2631960"/>
            <a:ext cx="82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لمحاسبة عن عقود التأجير – المراجعة النهائي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33520" y="533520"/>
            <a:ext cx="838188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طريقة إجمالى الارقا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السنة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الفوائد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      عدد القيم الايجارية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عبء التموي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        غير المستحقة بعد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2003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6000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. (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/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2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2004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6000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18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2005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6000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.                                        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1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2006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6000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.                                        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2007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6000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الأجمالى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6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905120" y="228600"/>
            <a:ext cx="5311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الطريقة الاكتواري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838080" y="1143000"/>
          <a:ext cx="7543800" cy="5446800"/>
        </p:xfrm>
        <a:graphic>
          <a:graphicData uri="http://schemas.openxmlformats.org/drawingml/2006/table">
            <a:tbl>
              <a:tblPr/>
              <a:tblGrid>
                <a:gridCol w="914400"/>
                <a:gridCol w="838440"/>
                <a:gridCol w="990360"/>
                <a:gridCol w="990720"/>
                <a:gridCol w="1219320"/>
                <a:gridCol w="1295280"/>
                <a:gridCol w="1295280"/>
              </a:tblGrid>
              <a:tr h="15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  <a:cs typeface="Arial"/>
                        </a:rPr>
                        <a:t>الالتزام القائم فى نهاية المدة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  <a:cs typeface="Arial"/>
                        </a:rPr>
                        <a:t>عبء التمويل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  <a:cs typeface="Arial"/>
                        </a:rPr>
                        <a:t>سعر الفائدة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  <a:cs typeface="Arial"/>
                        </a:rPr>
                        <a:t>الالتزام القائ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  <a:cs typeface="Arial"/>
                        </a:rPr>
                        <a:t>المسدد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  <a:cs typeface="Arial"/>
                        </a:rPr>
                        <a:t>الالتزا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  <a:cs typeface="Arial"/>
                        </a:rPr>
                        <a:t>السنة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70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2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5.1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48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52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0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0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36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9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5.1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18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52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70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00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97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27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5.1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84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52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36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00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52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68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5.1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45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52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97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0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52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52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0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04920" y="228600"/>
            <a:ext cx="8381880" cy="17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صفقات البيع مع إعادة التاجير (تأجير تشغيلى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صافى القيمة الحالية لأصل </a:t>
            </a:r>
            <a:r>
              <a:rPr b="0" lang="ar-EG" sz="2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70000</a:t>
            </a:r>
            <a:r>
              <a:rPr b="0" lang="ar-EG" sz="2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جنيها ، القيمة العادلة </a:t>
            </a:r>
            <a:r>
              <a:rPr b="0" lang="ar-EG" sz="2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100000</a:t>
            </a:r>
            <a:r>
              <a:rPr b="0" lang="ar-EG" sz="2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جنيها والايجار لمدة خمس سنوات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80880" y="1397160"/>
          <a:ext cx="8534520" cy="4262400"/>
        </p:xfrm>
        <a:graphic>
          <a:graphicData uri="http://schemas.openxmlformats.org/drawingml/2006/table">
            <a:tbl>
              <a:tblPr/>
              <a:tblGrid>
                <a:gridCol w="1408320"/>
                <a:gridCol w="1407960"/>
                <a:gridCol w="1406520"/>
                <a:gridCol w="1408320"/>
                <a:gridCol w="2903400"/>
              </a:tblGrid>
              <a:tr h="60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  <a:cs typeface="Arial"/>
                        </a:rPr>
                        <a:t>الحالة الرابعة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  <a:cs typeface="Arial"/>
                        </a:rPr>
                        <a:t>الحالة الثالثة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  <a:cs typeface="Arial"/>
                        </a:rPr>
                        <a:t>الحالة الثانية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  <a:cs typeface="Arial"/>
                        </a:rPr>
                        <a:t>الحالة الأولى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  <a:cs typeface="Arial"/>
                        </a:rPr>
                        <a:t>البيا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0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0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0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0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  <a:cs typeface="Arial"/>
                        </a:rPr>
                        <a:t>سعر البي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3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8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  <a:cs typeface="Arial"/>
                        </a:rPr>
                        <a:t>الـتأجير الدورى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1000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  <a:cs typeface="Arial"/>
                        </a:rPr>
                        <a:t>ربح مقيد على البيع (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0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–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0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  <a:cs typeface="Arial"/>
                        </a:rPr>
                        <a:t>الزيادة عن القيمة العادلة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400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  <a:cs typeface="Arial"/>
                        </a:rPr>
                        <a:t>إستهلاك الزيادة عن القيمة العادلة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3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8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  <a:cs typeface="Arial"/>
                        </a:rPr>
                        <a:t>الأيجار الدورى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3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  <a:cs typeface="Arial"/>
                        </a:rPr>
                        <a:t>صافى القيمة الأيجارية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  <a:cs typeface="Arial"/>
                        </a:rPr>
                        <a:t>أرباح بقائمة الدخل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0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  <a:cs typeface="Arial"/>
                        </a:rPr>
                        <a:t>أرباح (خسائر) بقائمة الدخل على مدار خمس سنوات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533520"/>
            <a:ext cx="7597800" cy="59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لتأجير التمويلى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هو عقد إيجار تنتقل بمقتضاه كل المخاطر والمنافع التابعة لأصل محدد الى المستاجر وقد تنتقل أو لا تنتقل ملكية هذا الأصل فى نهاية عمر عقد التاجير الى المستأج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لشروط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spcBef>
                <a:spcPts val="150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أن تمثل فترة التاجير الجزء الرئيسى للعمر الاقتصادى للأصل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spcBef>
                <a:spcPts val="150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أن تكون القيمة الحالية لإجمالى مبالغ الأيجار مساوية تقريبا للقيمة العادلة للاصل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spcBef>
                <a:spcPts val="150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أن يكون للمستاجر حق إختيار شراء الاصل فى نهاية عمر عقد التأجير بقيمة أقل من القيمة العادلة فى ذلك الوقت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spcBef>
                <a:spcPts val="150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يتحمل المستأجر المكاسب أو الخسائر الناتجة عن التقلبات فى القيمة العادلة للأصل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066680" y="1744560"/>
            <a:ext cx="739152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لتاجير التشغيل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هو عقد إيجار يسرى لمدة أقل كثيرا من العمر الاقتصادى للأصل ولا تنتقل فى نهايته ملكية الاصل للمستاجر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تقيد أعباء التأجير التشغيلى بمقتضى عقد الايجار بحساب مصروفات التأجير بدفاتر المستأجر كلما حدثت فى قائمة الدخل ، كما تثبت كإيرادات بدفاتر المؤجر عند إستحقاقها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33520" y="609480"/>
            <a:ext cx="79246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لمحاسبة عن التأجير التمويلى بدفاتر المؤج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مثال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قامت شركة أ بتأجير أحد اصولها الى شركة ب لمدة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4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سنوات بتكلفة سنوية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2000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جنيه تسدد فى نهاية كل سنة ويبلغ السعر النقدى للاصل فى حالة رغبة شركة ب فى شراءه مبلغ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5710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جنيها. علما بأن سعر الفائدة الضمنى السائد بالسوق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15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% وكانت معاملات الخصم خلال الاربع سنوات لدفعات اموال متساوية فى نهاية كل فترة على النحو التالى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لسنة الأولى :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87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لسنة الثانية :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756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لسنة الثالثة :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657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لسنة الرابعة: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573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لمطلوب : إجراء قيود اليومية بدفاتر المستأجر علما بان الأصل يتم إهلاكه بطريقة القسط الثابت على مدار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8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سنوات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308240" y="803160"/>
            <a:ext cx="791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أ) حساب القيمة الحالية لأجمالى مدفوعات عقد التاجير التمويل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609480" y="1523880"/>
          <a:ext cx="7925040" cy="419580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3353040"/>
              </a:tblGrid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  <a:cs typeface="Times New Roman (Arabic)"/>
                        </a:rPr>
                        <a:t>القيمة الحالي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  <a:cs typeface="Times New Roman (Arabic)"/>
                        </a:rPr>
                        <a:t>معمل الخص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  <a:cs typeface="Times New Roman (Arabic)"/>
                        </a:rPr>
                        <a:t>المدفوعات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  <a:cs typeface="Times New Roman (Arabic)"/>
                        </a:rPr>
                        <a:t>بيان السنوات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  <a:ea typeface="Times New Roman (Arabic)"/>
                        </a:rPr>
                        <a:t>17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  <a:ea typeface="Times New Roman (Arabic)"/>
                        </a:rPr>
                        <a:t>87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  <a:ea typeface="Times New Roman (Arabic)"/>
                        </a:rPr>
                        <a:t>2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  <a:cs typeface="Times New Roman (Arabic)"/>
                        </a:rPr>
                        <a:t>السنة الاولى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  <a:ea typeface="Times New Roman (Arabic)"/>
                        </a:rPr>
                        <a:t>15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  <a:ea typeface="Times New Roman (Arabic)"/>
                        </a:rPr>
                        <a:t>756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  <a:ea typeface="Times New Roman (Arabic)"/>
                        </a:rPr>
                        <a:t>2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  <a:cs typeface="Times New Roman (Arabic)"/>
                        </a:rPr>
                        <a:t>السنة الثاني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  <a:ea typeface="Times New Roman (Arabic)"/>
                        </a:rPr>
                        <a:t>13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  <a:ea typeface="Times New Roman (Arabic)"/>
                        </a:rPr>
                        <a:t>657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  <a:ea typeface="Times New Roman (Arabic)"/>
                        </a:rPr>
                        <a:t>2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  <a:cs typeface="Times New Roman (Arabic)"/>
                        </a:rPr>
                        <a:t>السنة الثالث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  <a:ea typeface="Times New Roman (Arabic)"/>
                        </a:rPr>
                        <a:t>114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  <a:ea typeface="Times New Roman (Arabic)"/>
                        </a:rPr>
                        <a:t>572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  <a:ea typeface="Times New Roman (Arabic)"/>
                        </a:rPr>
                        <a:t>2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Univers 45 Light"/>
                          <a:cs typeface="Times New Roman (Arabic)"/>
                        </a:rPr>
                        <a:t>السنة الرابع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156360" y="1717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838080" y="1397160"/>
          <a:ext cx="7620120" cy="4063680"/>
        </p:xfrm>
        <a:graphic>
          <a:graphicData uri="http://schemas.openxmlformats.org/drawingml/2006/table">
            <a:tbl>
              <a:tblPr/>
              <a:tblGrid>
                <a:gridCol w="1143000"/>
                <a:gridCol w="762120"/>
                <a:gridCol w="1143000"/>
                <a:gridCol w="1120680"/>
                <a:gridCol w="871560"/>
                <a:gridCol w="870120"/>
                <a:gridCol w="1709640"/>
              </a:tblGrid>
              <a:tr h="85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  <a:cs typeface="Arial"/>
                        </a:rPr>
                        <a:t>رصيد الالتزا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  <a:cs typeface="Arial"/>
                        </a:rPr>
                        <a:t>سعر الفائدة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  <a:cs typeface="Arial"/>
                        </a:rPr>
                        <a:t>المدفوعات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  <a:cs typeface="Arial"/>
                        </a:rPr>
                        <a:t>مجموع الالتزامات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  <a:cs typeface="Arial"/>
                        </a:rPr>
                        <a:t>عبء التمويل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  <a:cs typeface="Arial"/>
                        </a:rPr>
                        <a:t>رصيد الألتزا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  <a:cs typeface="Arial"/>
                        </a:rPr>
                        <a:t>الفترة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56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56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5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7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5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25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5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56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73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73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8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5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73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5880"/>
                          <a:tab algn="l" pos="1571760"/>
                          <a:tab algn="l" pos="2357280"/>
                          <a:tab algn="l" pos="3143160"/>
                          <a:tab algn="l" pos="3929040"/>
                          <a:tab algn="l" pos="4714920"/>
                          <a:tab algn="l" pos="5500800"/>
                          <a:tab algn="l" pos="6286680"/>
                          <a:tab algn="l" pos="7072200"/>
                          <a:tab algn="l" pos="7858080"/>
                          <a:tab algn="l" pos="8643960"/>
                          <a:tab algn="l" pos="9429840"/>
                          <a:tab algn="l" pos="1021572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  <a:cs typeface="Arial"/>
                        </a:rPr>
                        <a:t>الأجمالى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380880"/>
            <a:ext cx="84582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السنة الأولى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5710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من حـ/ أصول مؤجر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5710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الى حـ/ إلتزامات عن عمليات تاجير تمويل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من مذكوري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856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حـ/ فوائد تمويلي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1144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حـ/ إلتزامات عن عمليات تأجير تمويل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2000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إلى حـ/ النقدي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714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من حـ/ الاهلاك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714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الى حـ/ مجمع الاهلاك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191120" y="1897200"/>
            <a:ext cx="1654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457200"/>
            <a:ext cx="8381880" cy="65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طريقة إجمالى إجمالى الارقام فى حساب تخصيص الفوائد على سنوات عقد التاجي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تستخدم هذه الطريقة فى حالة عدم وجود معلومات عن سعر الفائدة الضمنى ومعاملات الخصم حيث تتوافر فقط معلومات عن القيمة الحالية للاصل او سعره النقدى بالاضافة الى إجمالى مدفوعات التاجير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فى المثال السابق فإن الفوائد تمثل الفرق بين السعر النقدى (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5710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جنيها) وإجمالى مدفوعات التاجير التمويلى البالغة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8000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جنيها =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2290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جنيها تخصص على السنوات كما يلى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السنة الاولى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.  *  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2290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91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السنة الثانية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.  *  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2290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68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السنة الثالثة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.  *  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2290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45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السنة الرابعة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.  *  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2290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22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33520" y="982800"/>
            <a:ext cx="79023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مثال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تعاقدت شركة أ فى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1/1/2003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ولمة خمس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سنوات لتأجير ماكينة قيمتها العادلة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20000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جنيها وتسدد القيمة الايجارية مقدما بواقع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5200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جنيها فى بداية كل سنة وتبلغ القيمة المتبقية فى نهاية عقد التأجير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4200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جنيها تعاد الى الشركة. علما بأن سعر الفائدة الضمنى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15.15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إجمالى مدفوعات التأجير =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5200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*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26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القيمة العادلة للأصل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20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عبء التمويل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6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5T04:54:43Z</dcterms:created>
  <dc:creator>Administrator</dc:creator>
  <dc:description/>
  <dc:language>en-US</dc:language>
  <cp:lastModifiedBy>Administrator</cp:lastModifiedBy>
  <dcterms:modified xsi:type="dcterms:W3CDTF">2003-06-05T15:41:36Z</dcterms:modified>
  <cp:revision>8</cp:revision>
  <dc:subject/>
  <dc:title>PowerPoint Presentation</dc:title>
</cp:coreProperties>
</file>