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000066"/>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000066"/>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000066"/>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000066"/>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51516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200" spc="-1" strike="noStrike">
              <a:solidFill>
                <a:srgbClr val="0000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901"/>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000000"/>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200" spc="-1" strike="noStrike">
                <a:solidFill>
                  <a:srgbClr val="000000"/>
                </a:solidFill>
                <a:latin typeface="Univers 45 Light"/>
              </a:rPr>
              <a:t>Click to edit the title text format</a:t>
            </a:r>
            <a:endParaRPr b="1" lang="en-US" sz="3200" spc="-1" strike="noStrike">
              <a:solidFill>
                <a:srgbClr val="0000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901"/>
              </a:spcBef>
              <a:buClr>
                <a:srgbClr val="000066"/>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Univers 45 Light"/>
              </a:rPr>
              <a:t>Click to edit the outline text format</a:t>
            </a:r>
            <a:endParaRPr b="1" lang="en-US" sz="2400" spc="-1" strike="noStrike">
              <a:solidFill>
                <a:srgbClr val="000000"/>
              </a:solidFill>
              <a:latin typeface="Univers 45 Light"/>
            </a:endParaRPr>
          </a:p>
          <a:p>
            <a:pPr lvl="1" marL="857160" indent="-285480">
              <a:lnSpc>
                <a:spcPct val="105000"/>
              </a:lnSpc>
              <a:spcBef>
                <a:spcPts val="901"/>
              </a:spcBef>
              <a:buClr>
                <a:srgbClr val="000000"/>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Univers 45 Light"/>
              </a:rPr>
              <a:t>Second Outline Level</a:t>
            </a:r>
            <a:endParaRPr b="1" lang="en-US" sz="2400" spc="-1" strike="noStrike">
              <a:solidFill>
                <a:srgbClr val="000000"/>
              </a:solidFill>
              <a:latin typeface="Univers 45 Light"/>
            </a:endParaRPr>
          </a:p>
          <a:p>
            <a:pPr lvl="2" marL="1333440" indent="-285840">
              <a:lnSpc>
                <a:spcPct val="105000"/>
              </a:lnSpc>
              <a:spcBef>
                <a:spcPts val="901"/>
              </a:spcBef>
              <a:buClr>
                <a:srgbClr val="000000"/>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Univers 45 Light"/>
              </a:rPr>
              <a:t>Third Outline Level</a:t>
            </a:r>
            <a:endParaRPr b="1" lang="en-US" sz="2400" spc="-1" strike="noStrike">
              <a:solidFill>
                <a:srgbClr val="000000"/>
              </a:solidFill>
              <a:latin typeface="Univers 45 Light"/>
            </a:endParaRPr>
          </a:p>
          <a:p>
            <a:pPr lvl="3" marL="1905120" indent="-281160">
              <a:lnSpc>
                <a:spcPct val="105000"/>
              </a:lnSpc>
              <a:spcBef>
                <a:spcPts val="901"/>
              </a:spcBef>
              <a:buClr>
                <a:srgbClr val="000000"/>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Univers 45 Light"/>
              </a:rPr>
              <a:t>Fourth Outline Level</a:t>
            </a:r>
            <a:endParaRPr b="1" lang="en-US" sz="2400" spc="-1" strike="noStrike">
              <a:solidFill>
                <a:srgbClr val="000000"/>
              </a:solidFill>
              <a:latin typeface="Univers 45 Light"/>
            </a:endParaRPr>
          </a:p>
          <a:p>
            <a:pPr lvl="4" marL="2243160" indent="-147600">
              <a:lnSpc>
                <a:spcPct val="105000"/>
              </a:lnSpc>
              <a:spcBef>
                <a:spcPts val="901"/>
              </a:spcBef>
              <a:buClr>
                <a:srgbClr val="000000"/>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Univers 45 Light"/>
              </a:rPr>
              <a:t>Fifth Outline Level</a:t>
            </a:r>
            <a:endParaRPr b="1" lang="en-US" sz="2400" spc="-1" strike="noStrike">
              <a:solidFill>
                <a:srgbClr val="000000"/>
              </a:solidFill>
              <a:latin typeface="Univers 45 Light"/>
            </a:endParaRPr>
          </a:p>
          <a:p>
            <a:pPr lvl="5" marL="2243160" indent="-147600">
              <a:lnSpc>
                <a:spcPct val="105000"/>
              </a:lnSpc>
              <a:spcBef>
                <a:spcPts val="901"/>
              </a:spcBef>
              <a:buClr>
                <a:srgbClr val="000000"/>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Univers 45 Light"/>
              </a:rPr>
              <a:t>Sixth Outline Level</a:t>
            </a:r>
            <a:endParaRPr b="1" lang="en-US" sz="2400" spc="-1" strike="noStrike">
              <a:solidFill>
                <a:srgbClr val="000000"/>
              </a:solidFill>
              <a:latin typeface="Univers 45 Light"/>
            </a:endParaRPr>
          </a:p>
          <a:p>
            <a:pPr lvl="6" marL="2243160" indent="-147600">
              <a:lnSpc>
                <a:spcPct val="105000"/>
              </a:lnSpc>
              <a:spcBef>
                <a:spcPts val="901"/>
              </a:spcBef>
              <a:buClr>
                <a:srgbClr val="000000"/>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400" spc="-1" strike="noStrike">
                <a:solidFill>
                  <a:srgbClr val="000000"/>
                </a:solidFill>
                <a:latin typeface="Univers 45 Light"/>
              </a:rPr>
              <a:t>Seventh Outline Level</a:t>
            </a:r>
            <a:endParaRPr b="1" lang="en-US" sz="2400" spc="-1" strike="noStrike">
              <a:solidFill>
                <a:srgbClr val="000000"/>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0000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044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000066"/>
                </a:solidFill>
                <a:latin typeface="KPMG Logo"/>
              </a:rPr>
              <a:t>ABCD</a:t>
            </a:r>
            <a:endParaRPr b="0" lang="en-US" sz="1700" spc="-1" strike="noStrike">
              <a:solidFill>
                <a:srgbClr val="000000"/>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000066"/>
                </a:solidFill>
                <a:latin typeface="Univers 45 Light"/>
              </a:rPr>
              <a:t>Click to edit the title text format</a:t>
            </a:r>
            <a:endParaRPr b="1" lang="en-US" sz="3600" spc="-1" strike="noStrike">
              <a:solidFill>
                <a:srgbClr val="000066"/>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0000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1143000"/>
            <a:ext cx="8001000" cy="4362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خصصات والإفصاح عن الظروف والاحداث الطارئ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مثل الإلتزام أو التمويل غير المدرج بالميزانية أحد الاشكال المحاسبية فى التدليس حيث تسمح بالتحريف فى بنود القوائم المالية نتيجة عدم إثباتها أو تغيير قيمتها بهدف إظهار صورة أفضل للمركز المالى ونتائج الاع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هدف مبدأ إثبات المعاملات طبقا لجوهرها الى الحد من أو إبطال مفعول هذا النوع من الممارسات كما يهدف معيار المحاسبة الخاص بالتعامل مع الظروف والاحداث الطارئة والمخصصات الى تلافى تلك الممارسات كطرق للمحاسبة المضللة.</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04920" y="304920"/>
            <a:ext cx="8458200" cy="74498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ثبات (التحقق)</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إثبات المخصص فقط عندما يكون (أو من المفترض ان يكون) لدى المنشاة إلتزام حالى بتحويل منافع إقتصادية كنتيجة لحدث فى الماضى وعندما لا يكون لدى المنشاة البديل الفعلى لعملية تحويل المنافع الإقتصادية وبالتالى يجب إثبات المخصص ما لم يكن ممكنا تقدير المبلغ اللازم لسداد الإلتزام بدرجة معقولة. فإن لم يكن ممكنا تقدير المبلغ المذكور فإن الامر يستوجب الإفصاح عن طبيعة الإلتزام والعوامل المرتبطة بتحديد مبلغ وتوقيت السداد المستقبلى.</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 يجب تكوين مخصصات لخسائر التشغيل المستقبلية على الرغم من انه يجب إثبات صافى عقد ما قائم عندما يصبح العقد خاسرا (مرهقا) والذى يعرف بانه العقد الذى تبرمه المنشأة مع طرف آخر وتزيد بموجبه تكاليف تنفيذ بنوده على أية إيرادات يتوقع إستلامها وبشرط ان تكون المنشأة مضطرة لسداد تعويضات للطرف الآخر لو لم تفى بإلتزاماتها بموجب العقد.</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تطلب لجنة معايير المحاسبة الدولية وجوب إثبات مخصصات لإعادة التنظيم وإعادة الهيكلة فقط عندما يتأكد إرتباط المنشاة بعملية إعادة التنظيم كان يتم إتخاذ خطوات معينة من المتوقع ان يتحرك بعدها الآخرون على اساس أن عملية إعادة التنظيم سوف تبدا.</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تعرف إعادة الهيكلة بانها برنامج يتم التخطيط له ومراقبته من قبل الغدارة ويكون له تاثير جوهرى على نشاط المنشاة فيما يتعلق بمنتجاتها او خدماتها او الطريقة التى تتم بها ممارسة النشاط.</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57200" y="533520"/>
            <a:ext cx="830592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يــــاس</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قياس المبلغ المعترف به كمخصص وفقا لأفضل تقدير للإنفاق المطلوب سدادا للإلتزام القائم فى تاريخ الميزانية. ويجب الوصول الى أفضل تقدير فى ضوء الأخطار المرتبطة بالتدفقات النقدية والاحداث المستقبلية المتوقعة وفى ضوء القيمة الحالية للملبغ المستحق إذا ما كان للخصم تاثير جوهر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حتسب الخصم على المبلغ المستحق إما من خلال خصم التدفقات النقدية التى يتم قياسها وفقا للأسعار الحالية بإستخدام سعر الخصم الحقيقى، او بخصم التدفقات النقدية التى يتم قياسها وفقا للاسعار المستقبلية المقدرة بإستخدام سعر الخصم الإسم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كة (أ) تعتقد أن هناك إحتمال </a:t>
            </a:r>
            <a:r>
              <a:rPr b="0" lang="ar-SA" sz="2000" spc="-1" strike="noStrike">
                <a:solidFill>
                  <a:srgbClr val="000000"/>
                </a:solidFill>
                <a:latin typeface="Times New Roman"/>
              </a:rPr>
              <a:t>75</a:t>
            </a:r>
            <a:r>
              <a:rPr b="0" lang="ar-SA" sz="2000" spc="-1" strike="noStrike">
                <a:solidFill>
                  <a:srgbClr val="000000"/>
                </a:solidFill>
                <a:latin typeface="Times New Roman"/>
              </a:rPr>
              <a:t>% أن الضنانات ستكلفها </a:t>
            </a:r>
            <a:r>
              <a:rPr b="0" lang="ar-SA" sz="2000" spc="-1" strike="noStrike">
                <a:solidFill>
                  <a:srgbClr val="000000"/>
                </a:solidFill>
                <a:latin typeface="Times New Roman"/>
              </a:rPr>
              <a:t>30000</a:t>
            </a:r>
            <a:r>
              <a:rPr b="0" lang="ar-SA" sz="2000" spc="-1" strike="noStrike">
                <a:solidFill>
                  <a:srgbClr val="000000"/>
                </a:solidFill>
                <a:latin typeface="Times New Roman"/>
              </a:rPr>
              <a:t> جنيها وإحتمال </a:t>
            </a:r>
            <a:r>
              <a:rPr b="0" lang="ar-SA" sz="2000" spc="-1" strike="noStrike">
                <a:solidFill>
                  <a:srgbClr val="000000"/>
                </a:solidFill>
                <a:latin typeface="Times New Roman"/>
              </a:rPr>
              <a:t>25</a:t>
            </a:r>
            <a:r>
              <a:rPr b="0" lang="ar-SA" sz="2000" spc="-1" strike="noStrike">
                <a:solidFill>
                  <a:srgbClr val="000000"/>
                </a:solidFill>
                <a:latin typeface="Times New Roman"/>
              </a:rPr>
              <a:t>% أن تكلفها الضمانات </a:t>
            </a:r>
            <a:r>
              <a:rPr b="0" lang="ar-SA" sz="2000" spc="-1" strike="noStrike">
                <a:solidFill>
                  <a:srgbClr val="000000"/>
                </a:solidFill>
                <a:latin typeface="Times New Roman"/>
              </a:rPr>
              <a:t>6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حتسب أفضل تقدير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30000</a:t>
            </a:r>
            <a:r>
              <a:rPr b="0" lang="ar-SA" sz="2000" spc="-1" strike="noStrike">
                <a:solidFill>
                  <a:srgbClr val="000000"/>
                </a:solidFill>
                <a:latin typeface="Times New Roman"/>
              </a:rPr>
              <a:t> جنيها </a:t>
            </a:r>
            <a:r>
              <a:rPr b="0" lang="ar-EG" sz="2000" spc="-1" strike="noStrike">
                <a:solidFill>
                  <a:srgbClr val="000000"/>
                </a:solidFill>
                <a:latin typeface="Times New Roman"/>
              </a:rPr>
              <a:t>* </a:t>
            </a:r>
            <a:r>
              <a:rPr b="0" lang="ar-SA" sz="2000" spc="-1" strike="noStrike">
                <a:solidFill>
                  <a:srgbClr val="000000"/>
                </a:solidFill>
                <a:latin typeface="Times New Roman"/>
              </a:rPr>
              <a:t>75</a:t>
            </a:r>
            <a:r>
              <a:rPr b="0" lang="ar-SA" sz="2000" spc="-1" strike="noStrike">
                <a:solidFill>
                  <a:srgbClr val="000000"/>
                </a:solidFill>
                <a:latin typeface="Times New Roman"/>
              </a:rPr>
              <a:t>. + </a:t>
            </a:r>
            <a:r>
              <a:rPr b="0" lang="ar-SA" sz="2000" spc="-1" strike="noStrike">
                <a:solidFill>
                  <a:srgbClr val="000000"/>
                </a:solidFill>
                <a:latin typeface="Times New Roman"/>
              </a:rPr>
              <a:t>60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25</a:t>
            </a:r>
            <a:r>
              <a:rPr b="0" lang="ar-SA" sz="2000" spc="-1" strike="noStrike">
                <a:solidFill>
                  <a:srgbClr val="000000"/>
                </a:solidFill>
                <a:latin typeface="Times New Roman"/>
              </a:rPr>
              <a:t>.    =   </a:t>
            </a:r>
            <a:r>
              <a:rPr b="0" lang="ar-SA" sz="2000" spc="-1" strike="noStrike">
                <a:solidFill>
                  <a:srgbClr val="000000"/>
                </a:solidFill>
                <a:latin typeface="Times New Roman"/>
              </a:rPr>
              <a:t>37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04920" y="762120"/>
            <a:ext cx="853416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تطلبات الإفصاح</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a:t>
            </a:r>
            <a:r>
              <a:rPr b="0" lang="ar-SA" sz="2000" spc="-1" strike="noStrike">
                <a:solidFill>
                  <a:srgbClr val="000000"/>
                </a:solidFill>
                <a:latin typeface="Times New Roman"/>
              </a:rPr>
              <a:t>         وصف مختصر لطبيعة الإلتزام يشمل بيان تاريخ السداد وتفاصيل حالات عدم التأكد الجوه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a:t>
            </a:r>
            <a:r>
              <a:rPr b="0" lang="ar-SA" sz="2000" spc="-1" strike="noStrike">
                <a:solidFill>
                  <a:srgbClr val="000000"/>
                </a:solidFill>
                <a:latin typeface="Times New Roman"/>
              </a:rPr>
              <a:t>         القيمة الدفترية فى بداية ونهاية الم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a:t>
            </a:r>
            <a:r>
              <a:rPr b="0" lang="ar-SA" sz="2000" spc="-1" strike="noStrike">
                <a:solidFill>
                  <a:srgbClr val="000000"/>
                </a:solidFill>
                <a:latin typeface="Times New Roman"/>
              </a:rPr>
              <a:t>         مبلغ أى تغطية متوقعة مع بيان ما إذا كان قد تم تحقيق أصل من الاصول أم لا كنتيجة للمطالب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a:t>
            </a:r>
            <a:r>
              <a:rPr b="0" lang="ar-SA" sz="2000" spc="-1" strike="noStrike">
                <a:solidFill>
                  <a:srgbClr val="000000"/>
                </a:solidFill>
                <a:latin typeface="Times New Roman"/>
              </a:rPr>
              <a:t>         حركة كل نوع من انواع المخصصات خلال العا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راء المقاص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لجأ المنشاة لجهة أخرى لسداد جزء أو كل الإنفاق المطلوب لسداد إلتزام ما، وتتطلب لجنة معاييير المحاسبة الدولية أن تتم معالجة الإلتزام والمبلغ المسترجع بشكل عام كإلتزام مستقل واصل مستقل وذلك بسبب ان الشركة المعنية والتى تقيد المعاملة بدفاترها هى المسئولة عن إجمالى المبلغ بغض النظر عن إمكانياتها فى إسترداد الإنفاق من الغير.</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1219320"/>
            <a:ext cx="81532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لتزامات الطارئة والاصول الطارئ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رف الحالة الطارئة بانها حالة تنشأ عن أحداث وقعت فى الماضى وتكون قائمة فى تاريخ الميزانية مما يؤدى الى الى نشوء اصل او إلتزام سوف يتاكد فقط عند وقوع او عدم وقوع واحد او اكثر من أحداث مستقبلية غير مؤكدة والتى لا سيطرة للمنشاة عل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الات الطارئة المتعلقة بامور البيئ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إثبات المخصصات المتعلقة بإلتزامات البيئة فى الوقت والى المدى اللذان تصبح فيهما المنشاة ملزمة قانونا أو ضمنيا بمعالجة أضرار البيئة أو القيام بأعمال تجديدات او غيرها من الاعمال التى تخص البيئة. كما أن مجرد وجود تلوث بيئى حتى لو كانت المنشاة متسببة فيه لا يؤدى الى نشوء إلتزام فالعبرة عند تقرير غثبات الغلتزام هى عندما يكون على المنشاة إلتزام قانونى او ضمنى بتحويل منافع إقتصادية نتيجة أحداث وقعت فى الماضى</a:t>
            </a:r>
            <a:r>
              <a:rPr b="0" lang="ar-EG" sz="2000" spc="-1" strike="noStrike">
                <a:solidFill>
                  <a:srgbClr val="000000"/>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105520" y="776160"/>
            <a:ext cx="373356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إثبات الإلتزامات والاصول العرضية</a:t>
            </a:r>
            <a:endParaRPr b="0" lang="en-US" sz="2000" spc="-1" strike="noStrike">
              <a:solidFill>
                <a:srgbClr val="000000"/>
              </a:solidFill>
              <a:latin typeface="Times New Roman"/>
            </a:endParaRPr>
          </a:p>
        </p:txBody>
      </p:sp>
      <p:graphicFrame>
        <p:nvGraphicFramePr>
          <p:cNvPr id="96" name=""/>
          <p:cNvGraphicFramePr/>
          <p:nvPr/>
        </p:nvGraphicFramePr>
        <p:xfrm>
          <a:off x="380880" y="1752480"/>
          <a:ext cx="8534520" cy="3862440"/>
        </p:xfrm>
        <a:graphic>
          <a:graphicData uri="http://schemas.openxmlformats.org/drawingml/2006/table">
            <a:tbl>
              <a:tblPr/>
              <a:tblGrid>
                <a:gridCol w="1067040"/>
                <a:gridCol w="1523880"/>
                <a:gridCol w="1219320"/>
                <a:gridCol w="1143000"/>
                <a:gridCol w="3581280"/>
              </a:tblGrid>
              <a:tr h="669960">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000000"/>
                          </a:solidFill>
                          <a:latin typeface="Times New Roman"/>
                          <a:cs typeface="Times New Roman"/>
                        </a:rPr>
                        <a:t>عدم الإثبات</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000000"/>
                          </a:solidFill>
                          <a:latin typeface="Times New Roman"/>
                          <a:cs typeface="Times New Roman"/>
                        </a:rPr>
                        <a:t>الإفصاح عن الطبيع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000000"/>
                          </a:solidFill>
                          <a:latin typeface="Times New Roman"/>
                          <a:cs typeface="Times New Roman"/>
                        </a:rPr>
                        <a:t>الإفصاح بالمبلغ</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000000"/>
                          </a:solidFill>
                          <a:latin typeface="Times New Roman"/>
                          <a:cs typeface="Times New Roman"/>
                        </a:rPr>
                        <a:t>يتم الإثبات</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000000"/>
                          </a:solidFill>
                          <a:latin typeface="Times New Roman"/>
                          <a:cs typeface="Times New Roman"/>
                        </a:rPr>
                        <a:t>البي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7960">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000000"/>
                          </a:solidFill>
                          <a:latin typeface="Univers 45 Light"/>
                        </a:rPr>
                        <a:t>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000000"/>
                          </a:solidFill>
                          <a:latin typeface="Univers 45 Light"/>
                        </a:rPr>
                        <a:t>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000000"/>
                          </a:solidFill>
                          <a:latin typeface="Times New Roman"/>
                          <a:cs typeface="Times New Roman"/>
                        </a:rPr>
                        <a:t>خسارة محتملة الحدوت بقوة ويمكن تقدير المبلغ بطريقة مناس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960">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000000"/>
                          </a:solidFill>
                          <a:latin typeface="Univers 45 Light"/>
                        </a:rPr>
                        <a:t>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EG" sz="1800" spc="-1" strike="noStrike">
                          <a:solidFill>
                            <a:srgbClr val="000000"/>
                          </a:solidFill>
                          <a:latin typeface="Times New Roman"/>
                          <a:cs typeface="Times New Roman"/>
                        </a:rPr>
                        <a:t>نطاق الملبغ</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000000"/>
                          </a:solidFill>
                          <a:latin typeface="Times New Roman"/>
                          <a:cs typeface="Times New Roman"/>
                        </a:rPr>
                        <a:t>خسارة محتملة الحدوت بقوة ولا يمكن تقدير المبلغ بطريقة مناس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000000"/>
                          </a:solidFill>
                          <a:latin typeface="Univers 45 Light"/>
                        </a:rPr>
                        <a:t>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EG" sz="1800" spc="-1" strike="noStrike">
                          <a:solidFill>
                            <a:srgbClr val="000000"/>
                          </a:solidFill>
                          <a:latin typeface="Times New Roman"/>
                          <a:cs typeface="Times New Roman"/>
                        </a:rPr>
                        <a:t>نطاق الملبغ</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000000"/>
                          </a:solidFill>
                          <a:latin typeface="Times New Roman"/>
                          <a:cs typeface="Times New Roman"/>
                        </a:rPr>
                        <a:t>خسارة ممكن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000000"/>
                          </a:solidFill>
                          <a:latin typeface="Univers 45 Light"/>
                        </a:rPr>
                        <a:t>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000000"/>
                          </a:solidFill>
                          <a:latin typeface="Univers 45 Light"/>
                        </a:rPr>
                        <a:t>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000000"/>
                          </a:solidFill>
                          <a:latin typeface="Times New Roman"/>
                          <a:cs typeface="Times New Roman"/>
                        </a:rPr>
                        <a:t>خسارة إحتمالها ضعيف</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000000"/>
                          </a:solidFill>
                          <a:latin typeface="Univers 45 Light"/>
                        </a:rPr>
                        <a:t>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000000"/>
                          </a:solidFill>
                          <a:latin typeface="Univers 45 Light"/>
                        </a:rPr>
                        <a:t>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000000"/>
                          </a:solidFill>
                          <a:latin typeface="Times New Roman"/>
                          <a:cs typeface="Times New Roman"/>
                        </a:rPr>
                        <a:t>أرباح محتملة الحدوث بقوة أو ممكن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600" spc="-1" strike="noStrike">
                          <a:solidFill>
                            <a:srgbClr val="000000"/>
                          </a:solidFill>
                          <a:latin typeface="Univers 45 Light"/>
                        </a:rPr>
                        <a:t>X</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000000"/>
                          </a:solidFill>
                          <a:latin typeface="Times New Roman"/>
                          <a:cs typeface="Times New Roman"/>
                        </a:rPr>
                        <a:t>أرباح إحتمالها ضعيف</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80880" y="1295280"/>
            <a:ext cx="8305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اشكال المعروفة للمعاملات التى قد تقوم المنشآت بعدم إدراجها بالميزان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a:t>
            </a:r>
            <a:r>
              <a:rPr b="0" lang="ar-SA" sz="2400" spc="-1" strike="noStrike">
                <a:solidFill>
                  <a:srgbClr val="000000"/>
                </a:solidFill>
                <a:latin typeface="Times New Roman"/>
              </a:rPr>
              <a:t>         تأجير الاصول بنظام التاجير التمويلى.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a:t>
            </a:r>
            <a:r>
              <a:rPr b="0" lang="ar-SA" sz="2400" spc="-1" strike="noStrike">
                <a:solidFill>
                  <a:srgbClr val="000000"/>
                </a:solidFill>
                <a:latin typeface="Times New Roman"/>
              </a:rPr>
              <a:t>         الشركات غير التابعة تحت السيطر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a:t>
            </a:r>
            <a:r>
              <a:rPr b="0" lang="ar-SA" sz="2400" spc="-1" strike="noStrike">
                <a:solidFill>
                  <a:srgbClr val="000000"/>
                </a:solidFill>
                <a:latin typeface="Times New Roman"/>
              </a:rPr>
              <a:t>         الأدوات المالية المعقد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a:t>
            </a:r>
            <a:r>
              <a:rPr b="0" lang="ar-SA" sz="2400" spc="-1" strike="noStrike">
                <a:solidFill>
                  <a:srgbClr val="000000"/>
                </a:solidFill>
                <a:latin typeface="Times New Roman"/>
              </a:rPr>
              <a:t>         خطط تملك العاملين للأسهم</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09480" y="1766880"/>
            <a:ext cx="800100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زايا التى يمكن ان تحصل عليها المنشآت من خلال المعاملات التى لا يتم إدراجها ب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a:t>
            </a:r>
            <a:r>
              <a:rPr b="0" lang="ar-SA" sz="2000" spc="-1" strike="noStrike">
                <a:solidFill>
                  <a:srgbClr val="000000"/>
                </a:solidFill>
                <a:latin typeface="Times New Roman"/>
              </a:rPr>
              <a:t>         تصوير الرافعة المالية للمنشاة (نسبة الديون الى حقوق الملكية) باقل من قيمت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a:t>
            </a:r>
            <a:r>
              <a:rPr b="0" lang="ar-SA" sz="2000" spc="-1" strike="noStrike">
                <a:solidFill>
                  <a:srgbClr val="000000"/>
                </a:solidFill>
                <a:latin typeface="Times New Roman"/>
              </a:rPr>
              <a:t>         الإخلال بشروط تعاقدية مثل القروض يترتب عليه عدم إثبات إلتزامات ب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a:t>
            </a:r>
            <a:r>
              <a:rPr b="0" lang="ar-SA" sz="2000" spc="-1" strike="noStrike">
                <a:solidFill>
                  <a:srgbClr val="000000"/>
                </a:solidFill>
                <a:latin typeface="Times New Roman"/>
              </a:rPr>
              <a:t>         تخفيض قيمة الاصول مما ينتج عنه إرتفاع معدل العائد على الإستثم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إستبعاد بعض الانشطة مثل عمليات التاجير التمويلى من الميزانية</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762120" y="685800"/>
            <a:ext cx="7619760" cy="53280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بدأ الجوهر قبل الشكل</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يتطلب</a:t>
            </a:r>
            <a:r>
              <a:rPr b="0" lang="ar-SA" sz="2000" spc="-1" strike="noStrike">
                <a:solidFill>
                  <a:srgbClr val="000000"/>
                </a:solidFill>
                <a:latin typeface="Times New Roman"/>
              </a:rPr>
              <a:t> هذا المبدأ إثبات المعاملات وإظهارها بالقوائم المالية بما يتلائم مع جوهرها وحقيقتها المالية وليس مجرد شكلها القانونى، وبالتالى يمنع إستبعاد بعض المعاملات من الميزانية.</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ثال: إن عدم رسملة عمليات نفقات عمليات الإيجار التمويلى وبالتالى عد غثبات الإلتزامات الخاصة به سوف يؤدى الى ان تكون المقارنات التالية مضللة مع المنشآت التى تقوم بالرسملة وإثبات الإلتزام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a:t>
            </a:r>
            <a:r>
              <a:rPr b="0" lang="ar-SA" sz="2000" spc="-1" strike="noStrike">
                <a:solidFill>
                  <a:srgbClr val="000000"/>
                </a:solidFill>
                <a:latin typeface="Times New Roman"/>
              </a:rPr>
              <a:t>         العائد على رأس المال المستثمر.</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a:t>
            </a:r>
            <a:r>
              <a:rPr b="0" lang="ar-SA" sz="2000" spc="-1" strike="noStrike">
                <a:solidFill>
                  <a:srgbClr val="000000"/>
                </a:solidFill>
                <a:latin typeface="Times New Roman"/>
              </a:rPr>
              <a:t>         معدل الديون الى حقوق الملكية (الرافعة المالية).</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33520" y="990720"/>
            <a:ext cx="8076960" cy="42418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a:t>
            </a:r>
            <a:r>
              <a:rPr b="0" lang="ar-SA" sz="2000" spc="-1" strike="noStrike">
                <a:solidFill>
                  <a:srgbClr val="000000"/>
                </a:solidFill>
                <a:latin typeface="Times New Roman"/>
              </a:rPr>
              <a:t>1/1</a:t>
            </a:r>
            <a:r>
              <a:rPr b="0" lang="ar-EG" sz="2000" spc="-1" strike="noStrike">
                <a:solidFill>
                  <a:srgbClr val="000000"/>
                </a:solidFill>
                <a:latin typeface="Times New Roman"/>
              </a:rPr>
              <a:t>/2006</a:t>
            </a:r>
            <a:r>
              <a:rPr b="0" lang="ar-SA" sz="2000" spc="-1" strike="noStrike">
                <a:solidFill>
                  <a:srgbClr val="000000"/>
                </a:solidFill>
                <a:latin typeface="Times New Roman"/>
              </a:rPr>
              <a:t> باعت شركة (أ) مصنعا لشركة (ب) المملوكة بالكامل لبنك الإستثمار وبلغت متحصلات البيع </a:t>
            </a:r>
            <a:r>
              <a:rPr b="0" lang="ar-SA" sz="2000" spc="-1" strike="noStrike">
                <a:solidFill>
                  <a:srgbClr val="000000"/>
                </a:solidFill>
                <a:latin typeface="Times New Roman"/>
              </a:rPr>
              <a:t>15</a:t>
            </a:r>
            <a:r>
              <a:rPr b="0" lang="ar-SA" sz="2000" spc="-1" strike="noStrike">
                <a:solidFill>
                  <a:srgbClr val="000000"/>
                </a:solidFill>
                <a:latin typeface="Times New Roman"/>
              </a:rPr>
              <a:t> مليون جنيها فى بلغت صافى تكلفته الدفترية </a:t>
            </a:r>
            <a:r>
              <a:rPr b="0" lang="ar-SA" sz="2000" spc="-1" strike="noStrike">
                <a:solidFill>
                  <a:srgbClr val="000000"/>
                </a:solidFill>
                <a:latin typeface="Times New Roman"/>
              </a:rPr>
              <a:t>12</a:t>
            </a:r>
            <a:r>
              <a:rPr b="0" lang="ar-SA" sz="2000" spc="-1" strike="noStrike">
                <a:solidFill>
                  <a:srgbClr val="000000"/>
                </a:solidFill>
                <a:latin typeface="Times New Roman"/>
              </a:rPr>
              <a:t> مليون جنيها.</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امت شركة (ب) بتمويل عملية الشراء من خلال قرض بمبلغ </a:t>
            </a:r>
            <a:r>
              <a:rPr b="0" lang="ar-SA" sz="2000" spc="-1" strike="noStrike">
                <a:solidFill>
                  <a:srgbClr val="000000"/>
                </a:solidFill>
                <a:latin typeface="Times New Roman"/>
              </a:rPr>
              <a:t>15</a:t>
            </a:r>
            <a:r>
              <a:rPr b="0" lang="ar-SA" sz="2000" spc="-1" strike="noStrike">
                <a:solidFill>
                  <a:srgbClr val="000000"/>
                </a:solidFill>
                <a:latin typeface="Times New Roman"/>
              </a:rPr>
              <a:t> مليون جنيها حصلت عليه من بنك الإستثمار.</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سدد شركة (ب) أتعابا لشركة (أ) مقابل إدارة المصنع تمثل رصيد الارباح المتبقية لديها بعد سداد فائدة القرض. فى حين لو حققت شركة (ب) خسائر فسوف تتحملها الشركة (أ).</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09480" y="609480"/>
            <a:ext cx="8001000" cy="63889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ظروف الطارئة والأحداث اللاحقة لتاريخ الميزان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جب الأخذ فى الاعتبار الإفصاح عن الارتباطات التى إرتبطت بها المنشاة مع أطراف أخرى مما ينتج عنها نفقات رأسمالية مستقبلية بما فى ذلك ارتباطات المنشاة بشان حقوقها فى الشركات التى قامت بالمساهمة فيها او الارتباط على شراء اصول للأغراض الانتاجية أو البيعية على إعتبار ان أصول المنشاة او إلتزاماتها الحالية ستتأثر بالضرورة عند تنفيذ أو عدم تنفيذ تلك الارتباط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جب الأخذ فى الاعتبار الاحداث التى قد تكون فى صالح المنشاة أو فى غير صالحها والتى تكون قد وقعت بعد تاريخ الميزانية وحتى تاريخ إعتماد القوائم المالية بغرض النشر. وثثمل فى:</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حداث توفر ادلة إضافية عن حالات وامور كانت قائمة فى تاريخ الميزانية وهذه الاحداث يجب إثبات التسويات الخاصة بها فى القوائم المالية.</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حداث التى تشير الى حالات او أمور نشأت بعد تاريخ الميزانية وهذه الاحداث لا تتطلب أية تسويات وإنما يجب الإفصاح عنها فى إيضاح أو غيره فرفق بالقوائم المالية إذا كانت جوهرية</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24160" y="228600"/>
            <a:ext cx="680544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مثلة للاحداث اللاحقة لتاريخ الميزانية</a:t>
            </a:r>
            <a:endParaRPr b="0" lang="en-US" sz="2400" spc="-1" strike="noStrike">
              <a:solidFill>
                <a:srgbClr val="000000"/>
              </a:solidFill>
              <a:latin typeface="Times New Roman"/>
            </a:endParaRPr>
          </a:p>
        </p:txBody>
      </p:sp>
      <p:graphicFrame>
        <p:nvGraphicFramePr>
          <p:cNvPr id="88" name=""/>
          <p:cNvGraphicFramePr/>
          <p:nvPr/>
        </p:nvGraphicFramePr>
        <p:xfrm>
          <a:off x="304920" y="762120"/>
          <a:ext cx="8610480" cy="5983200"/>
        </p:xfrm>
        <a:graphic>
          <a:graphicData uri="http://schemas.openxmlformats.org/drawingml/2006/table">
            <a:tbl>
              <a:tblPr/>
              <a:tblGrid>
                <a:gridCol w="4267080"/>
                <a:gridCol w="4343400"/>
              </a:tblGrid>
              <a:tr h="317520">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000000"/>
                          </a:solidFill>
                          <a:latin typeface="Arial"/>
                          <a:cs typeface="Arial"/>
                        </a:rPr>
                        <a:t>التأتيــــــــــــــــــــــــــــر على القوائم المالية</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000000"/>
                          </a:solidFill>
                          <a:latin typeface="Arial"/>
                          <a:cs typeface="Arial"/>
                        </a:rPr>
                        <a:t>طبيــــــــــــــــــــــــــــــــعة الحــــــــــــدث</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108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000000"/>
                          </a:solidFill>
                          <a:latin typeface="Arial"/>
                          <a:cs typeface="Arial"/>
                        </a:rPr>
                        <a:t>خسارة بقائمة الدخل مع تعديل حسابات العملاء بالميزانية واثر ذلك على رأس المال العامل.</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000000"/>
                          </a:solidFill>
                          <a:latin typeface="Arial"/>
                          <a:cs typeface="Arial"/>
                        </a:rPr>
                        <a:t>إفلاس أحد عملاء المنشأة</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64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000000"/>
                          </a:solidFill>
                          <a:latin typeface="Arial"/>
                          <a:cs typeface="Arial"/>
                        </a:rPr>
                        <a:t>خسارة بقائمة الدخل مع تعديل حسابات المخزون بالميزانية واثر ذلك على رأس المال العامل.</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000000"/>
                          </a:solidFill>
                          <a:latin typeface="Arial"/>
                          <a:cs typeface="Arial"/>
                        </a:rPr>
                        <a:t>بيع المخزون باقل من تكلفته المدرجة بالميزانية</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64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000000"/>
                          </a:solidFill>
                          <a:latin typeface="Arial"/>
                          <a:cs typeface="Arial"/>
                        </a:rPr>
                        <a:t>خسارة بقائمة الدخل مع تعديل حسابات الاصول طويلة الأجل بالميزانية واثر ذلك على رأس المال المستثمر.</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000000"/>
                          </a:solidFill>
                          <a:latin typeface="Arial"/>
                          <a:cs typeface="Arial"/>
                        </a:rPr>
                        <a:t>بيع احد الأصول طويلة الاجل بقيمة تقل عن القيمة الدفترية</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08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000000"/>
                          </a:solidFill>
                          <a:latin typeface="Arial"/>
                          <a:cs typeface="Arial"/>
                        </a:rPr>
                        <a:t>إعادة النظر فى فرض الأستمرارية للمنشاة.</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000000"/>
                          </a:solidFill>
                          <a:latin typeface="Arial"/>
                          <a:cs typeface="Arial"/>
                        </a:rPr>
                        <a:t>تدهور نتائج الاعمال أو المركز المالى بعد تاريخ الميزانية</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000000"/>
                          </a:solidFill>
                          <a:latin typeface="Arial"/>
                          <a:cs typeface="Arial"/>
                        </a:rPr>
                        <a:t>إعادة النظر فى فرض الأستمرارية للمنشاة.</a:t>
                      </a:r>
                      <a:endParaRPr b="0" lang="en-US" sz="1400" spc="-1" strike="noStrike">
                        <a:solidFill>
                          <a:srgbClr val="000000"/>
                        </a:solidFill>
                        <a:latin typeface="Times New Roman"/>
                      </a:endParaRPr>
                    </a:p>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000000"/>
                          </a:solidFill>
                          <a:latin typeface="Arial"/>
                          <a:cs typeface="Arial"/>
                        </a:rPr>
                        <a:t>تدمير أو إنهيار هام فى مصانع المنشاة نتيجة حريق او كوارث طبيعية أو عوامل اخرى</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64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000000"/>
                          </a:solidFill>
                          <a:latin typeface="Arial"/>
                          <a:cs typeface="Arial"/>
                        </a:rPr>
                        <a:t>زيادة الاصول طويلة ا</a:t>
                      </a:r>
                      <a:r>
                        <a:rPr b="1" lang="ar-SA" sz="1400" spc="-1" strike="noStrike">
                          <a:solidFill>
                            <a:srgbClr val="000000"/>
                          </a:solidFill>
                          <a:latin typeface="Arial"/>
                          <a:cs typeface="Times New Roman (Arabic)"/>
                        </a:rPr>
                        <a:t>لاجل</a:t>
                      </a:r>
                      <a:r>
                        <a:rPr b="1" lang="ar-SA" sz="1400" spc="-1" strike="noStrike">
                          <a:solidFill>
                            <a:srgbClr val="000000"/>
                          </a:solidFill>
                          <a:latin typeface="Arial"/>
                          <a:ea typeface="Arial"/>
                        </a:rPr>
                        <a:t> واثر ذلك على رأس المال المستثمر وتوقعات الارباح المستقبلية وحجم الاعمال.</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000000"/>
                          </a:solidFill>
                          <a:latin typeface="Arial"/>
                          <a:cs typeface="Arial"/>
                        </a:rPr>
                        <a:t>إقتناء مشروع او منشاة أخرى بعد تاريخ الميزانية</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08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000000"/>
                          </a:solidFill>
                          <a:latin typeface="Arial"/>
                          <a:cs typeface="Arial"/>
                        </a:rPr>
                        <a:t>خسارة بقائمة الدخل مع تعديل حسابات الاصول وأثر ذلك على راس المال العامل والمستثمر.</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000000"/>
                          </a:solidFill>
                          <a:latin typeface="Arial"/>
                          <a:cs typeface="Arial"/>
                        </a:rPr>
                        <a:t>هبوط القيمة السوقية للأستثمارات بعد تاريخ الميزانية</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640">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000000"/>
                          </a:solidFill>
                          <a:latin typeface="Arial"/>
                          <a:cs typeface="Arial"/>
                        </a:rPr>
                        <a:t>خسائر أو ارباح بقائمة الدخل وتعديل الاصول والالتزامات ذات الطبيعة النقدية باثر التغير فى اسعار الصرف.</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000000"/>
                          </a:solidFill>
                          <a:latin typeface="Arial"/>
                          <a:cs typeface="Arial"/>
                        </a:rPr>
                        <a:t>التغير فى أسعار صرف العملات الاجنبية بعد تاريخ الميزانية</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533520" y="533520"/>
            <a:ext cx="8076960" cy="68526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وزيعات أرباح الاسهم المتوقعة</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وزيعات أرباح (كوبونات) الأوراق المالية التى تم الإعلان عنها بعد تاريخ الميزانية لا يجوز إعتبارها كإلتزام فى تاريخ الميزانية ولكن وفقا لمعايير المحاسبة المصرية تعرض تلك التوزيعات كإيضاح ضمن الإيضاحات المتممة للقوائم المالية.</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جميل القوائم المالية</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إجراء تجميل للقوائم المالية عندما يتم قيد معاملات معينة قبل نهاية السنة المالية ثم عكس تلك المعاملات فى بداية السنة التالية. والراى هنا هو ان يتم إستبعاد مثل تلك المعاملات من الميزانية</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ثال: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8</a:t>
            </a:r>
            <a:r>
              <a:rPr b="0" lang="ar-SA" sz="2000" spc="-1" strike="noStrike">
                <a:solidFill>
                  <a:srgbClr val="000000"/>
                </a:solidFill>
                <a:latin typeface="Times New Roman"/>
              </a:rPr>
              <a:t> إرتفع رصيد محفظة القروض لأحد البنوك أكثر من المعتاد وبالتالى اصبحت نسبة اصوله السائلة الى إجمالى الأصول منخفضة ونتيجة لذلك عمل البنك على الحصول على قرض من بنك ىخر بمبلغ </a:t>
            </a:r>
            <a:r>
              <a:rPr b="0" lang="ar-SA" sz="2000" spc="-1" strike="noStrike">
                <a:solidFill>
                  <a:srgbClr val="000000"/>
                </a:solidFill>
                <a:latin typeface="Times New Roman"/>
              </a:rPr>
              <a:t>40</a:t>
            </a:r>
            <a:r>
              <a:rPr b="0" lang="ar-SA" sz="2000" spc="-1" strike="noStrike">
                <a:solidFill>
                  <a:srgbClr val="000000"/>
                </a:solidFill>
                <a:latin typeface="Times New Roman"/>
              </a:rPr>
              <a:t> مليون جنيها ادرجه ضمن اصوله السائلة فى نهاية العام على ان يتم رده للبنك المذكور فى بداية عام </a:t>
            </a:r>
            <a:r>
              <a:rPr b="0" lang="ar-SA" sz="2000" spc="-1" strike="noStrike">
                <a:solidFill>
                  <a:srgbClr val="000000"/>
                </a:solidFill>
                <a:latin typeface="Times New Roman"/>
              </a:rPr>
              <a:t>2009</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838080" y="2125800"/>
            <a:ext cx="7391520" cy="27046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خصصات والإلتزامات الطارئة والأصول الطارئة</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رف المخصصات بأنها إلتزامات مؤكدة الحدوث وتتسم مبالغها وتوقيتات صرفها بأنها غير معلومة المقدار. وترى لجنة معايير المحاسبة الدولية بان المخصصات هى بند فرعى من الإلتزامات وليست عنصرا قائما بذاته فى الميزانية. </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01:14:33Z</dcterms:created>
  <dc:creator>Administrator</dc:creator>
  <dc:description/>
  <dc:language>en-US</dc:language>
  <cp:lastModifiedBy>Administrator</cp:lastModifiedBy>
  <dcterms:modified xsi:type="dcterms:W3CDTF">2004-05-25T14:14:06Z</dcterms:modified>
  <cp:revision>7</cp:revision>
  <dc:subject/>
  <dc:title>PowerPoint Presentation</dc:title>
</cp:coreProperties>
</file>