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228600" y="457200"/>
            <a:ext cx="8686800" cy="5946120"/>
          </a:xfrm>
          <a:prstGeom prst="rect">
            <a:avLst/>
          </a:prstGeom>
          <a:noFill/>
          <a:ln w="0">
            <a:noFill/>
          </a:ln>
        </p:spPr>
        <p:style>
          <a:lnRef idx="0"/>
          <a:fillRef idx="0"/>
          <a:effectRef idx="0"/>
          <a:fontRef idx="minor"/>
        </p:style>
        <p:txBody>
          <a:bodyPr lIns="90000" rIns="90000" tIns="46800" bIns="46800" anchor="t">
            <a:spAutoFit/>
          </a:bodyPr>
          <a:p>
            <a:pPr marL="28260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طورات والقضايا الجار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سيتم التعرض للموضوعات التا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عداد التقارير المالية السنو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عداد التقارير المالية المرح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إفصاح عن السياسات المحاسب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خصم للتدفقات النقدية المستقب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بالتالى يجب أن يغطى الدارس فى نهاية هذا الفصل ما يلى:</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طرق تحسين توصيل المعلومات عن أداء الشرك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قترحات الحالية المتعلقة بالتقارير المالية السنوية وإعداد التقارير المالية على الإنترنت.</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جالات محل الخلاف فى إعداد التقارير المالية المرح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ضايا الجارى استعراضها فى مجال إعداد التقارير المالية للشركات بما فى ذلك الإفصاح عن السياسات المحاسب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304920"/>
            <a:ext cx="8381880" cy="70434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ستخدام القيمة الحالية عند إعداد 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عملية الوصل الى القيمة الحالية (الخصم) هى طريقة تعكس القيمة الزمنية للنقود والخطر فى قيمة أصل ما أو التزام ما وهى عادة ما يكون لها تأثير جوهرى على الأصول طويلة الاجل التى يتم قياسها عن طريق التدفقات النقدية المستقبلية (الأصول التى انخفضت قيمتها – مخصص الديون).</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غالبية الاصول والالتزامات المتداولة لا تحتاج الى عملية الخصم عند إظهارها بالقوائم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عكس معدل الخصم كل من معدلات الفائدة السوقية الحالية وخصائص الاصل أو الالتزام محل القياس وكذا الفترة المتبقية حتى تاريخ استحقاق الاصل أو الالتزام.</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زيادة التى يظهر بها الأصل أو الالتزام عن القيمة الحالية يجب إدراجها فى قائمة الدخل كدخل أو مصروف تمويل مع مرور المدة الزمن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1219320"/>
            <a:ext cx="830592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قارير المالية السنوية وتحسين عملية توصيل المعلومات المالية لمستخدمى القوائم المال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صبحت القوائم المالية التى تعدها الشركات المسجلة بالبورصة أكثر تفصيلا وتعقيدا مما أدى الى تحسين جودة المعلومات المقدمة وإن كانت ما زالت تتعامل مع المستثمرون والمستخدمين ذوى الخبر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تحسين جودة المعلومات أدى الى أنه قد تزيد تكلفة إعداد القوائم عن منفعتها بالنسبة لحملة الاسهم فضلا عن اختفاء المعلومات الهامة داخل التفاصيل الكثيرة المعروضة بالقوائم المال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762120"/>
            <a:ext cx="8229600" cy="63118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حاجة الى التغير</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حد من مشكلة فيضان المعلومات دون تغيير إطار إعداد 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عداد مجموعات ذات خصائص معينة داخل القوائم المالية بما يمكن حملة الأسهم من التعرف على المعلومات المفيدة بالنسبة لهم.</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م إلقاء الضوء على المعلومات ذات الاهتمام العام ومن ثم يتم وضع الإفصاحات الرئيسية خارج القوائم المالية الكامل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ذف الإفصاحات غير الضرورية من القوائم المالية الكاملة ولكن انتهى مجلس المعايير الى أن هناك مجال محدود للغاية للحد من المعلومات الواردة بالقوائم المالية الكامل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رسال قوائم مالية مختصرة لحملة الاسهم وإن كان ذلك غير مناسب فى ضوء تحمل تكلفة إضافية وأنه من غير المناسب الحد من المعلومات المقدمة لحملة الأسهم.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457200" y="1219320"/>
            <a:ext cx="8305920" cy="44830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حلول المقترح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عادة صياغة القوانين لتكون القوائم المالية المختصرة هى التقارير الرئيسية التى يتم إرسالها لحملة الاسهم.</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عداد مستندين الاول يحتوى على القوائم المالية المختصرة والثانى يحتوى على المعلومات المطلوبة لإعداد القوائم المالية الكامل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ستمرار فى إعداد القوائم المالية الكاملة التى تخضع للمراجعة لأولئك الذين يطلبونها ولأغراض البورص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762120" y="1600200"/>
            <a:ext cx="75438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ثر الإنترنت على إعداد التقارير المالية</a:t>
            </a:r>
            <a:endParaRPr b="0" lang="en-US" sz="2400" spc="-1" strike="noStrike">
              <a:solidFill>
                <a:srgbClr val="ffffff"/>
              </a:solidFill>
              <a:latin typeface="Times New Roman"/>
            </a:endParaRPr>
          </a:p>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توصيل الفورى للمعلومات المالية بأقل تكلفة ممكنة وبالتالى إمكانية زيادة عدد المستثمرين.</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وصول الى المعلومات بواسطة أكبر عدد من الأفراد.</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رض المعلومات بطرق مبتكرة جذاب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380880"/>
            <a:ext cx="8452080" cy="8140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إعداد التقارير المرح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نظم المعيار الدولى رقم </a:t>
            </a:r>
            <a:r>
              <a:rPr b="0" lang="ar-EG" sz="2400" spc="-1" strike="noStrike">
                <a:solidFill>
                  <a:srgbClr val="ffffff"/>
                </a:solidFill>
                <a:latin typeface="Times New Roman"/>
                <a:ea typeface="Times New Roman (Arabic)"/>
              </a:rPr>
              <a:t>(</a:t>
            </a:r>
            <a:r>
              <a:rPr b="0" lang="ar-EG" sz="2400" spc="-1" strike="noStrike">
                <a:solidFill>
                  <a:srgbClr val="ffffff"/>
                </a:solidFill>
                <a:latin typeface="Times New Roman"/>
                <a:ea typeface="Times New Roman (Arabic)"/>
              </a:rPr>
              <a:t>34</a:t>
            </a:r>
            <a:r>
              <a:rPr b="0" lang="ar-SA" sz="2400" spc="-1" strike="noStrike">
                <a:solidFill>
                  <a:srgbClr val="ffffff"/>
                </a:solidFill>
                <a:latin typeface="Times New Roman"/>
                <a:ea typeface="Times New Roman (Arabic)"/>
              </a:rPr>
              <a:t>) إعداد القوائم المالية المرحلية ويتبنى مدخل استقلالية الفترات المالية وبالتالى يطبق على الفترة المالية نفس المبادئ المحاسبية الخاصة بإعداد القوائم المالية السنو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نشطة الموسمية: يتطلب المعيار إثبات المعاملات عندما تحدث وبالتالى قد تظهر الفترة المالية المرحلية خسائر فى حين تظهر أرباحا عن العام الكامل. والمقترح هنا هو إضافة مجموعة من الإفصاحات لشرح طبيعة النشاط الموسمى وطرق معالجة التكاليف المباشرة وغير المباشر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ضرائب: يتم تقدير الضرائب على أساس سنوى وتستخدم الشركات معدل الضريبة الفعال عن كامل العام وتطبقه على النتائج المرح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عناصر الأخرى التى تحدد على اساس سنوى مثل مكافآت العاملين واقتسام الارباح وعمولات البيع يتم عادة إثباتها على أساس المبلغ المتوقع عن العام ككل.</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عناصر غير المتكررة: يتطلب المعيار إدراج تلك العناصر فى الفترة التى تحدث فيها مع الإفصاح الكافى عنها بالإيضاحات المتممة للقوائم المالية. (تكاليف إعادة التنظيم أو مصروفات الصيانة والإصلاح الرئيسية خلال فترة الإغلاق السنوى للمصنع.</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990720"/>
            <a:ext cx="8229600" cy="521460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سياسات المحاسبي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تطلب معيار المحاسبة الدولى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أن تصف المنشأة السياسات المحاسبية المتبعة فى الإيضاحات المتممة للقوائم المالية.</a:t>
            </a:r>
            <a:endParaRPr b="0" lang="en-US" sz="24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ياسات المحاسبية هى المبادئ والاسس والمعتقدات والقواعد والممارسات المستخدمة بواسطة المنشاة  عند عرض وتبويب وقياس عناصر القوائم المالي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اختيار السياسات المحاسبية لكى تكون القوائم المالية ملائمة ويمكن الاعتماد عليها (معبرة بصدق – تهتم بالجوهر قبل الشكل – محايدة – متحفظة – مكتمل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1143000"/>
            <a:ext cx="84582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سياسات المتحفظ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ال: بسبب حادث فى العمل نجح احد العاملين فى استصدار حكم قضائى ضد صاحب العمل ويقوم حاليا بالتفاوض على قيمة التعويض. ويرى محامى الشركة أن أفضل تقدير للالتزام فى تاريخ الميزانية يقع ما بين </a:t>
            </a:r>
            <a:r>
              <a:rPr b="0" lang="ar-SA" sz="2400" spc="-1" strike="noStrike">
                <a:solidFill>
                  <a:srgbClr val="ffffff"/>
                </a:solidFill>
                <a:latin typeface="Times New Roman"/>
                <a:ea typeface="Times New Roman (Arabic)"/>
              </a:rPr>
              <a:t>80000</a:t>
            </a:r>
            <a:r>
              <a:rPr b="0" lang="ar-SA" sz="2400" spc="-1" strike="noStrike">
                <a:solidFill>
                  <a:srgbClr val="ffffff"/>
                </a:solidFill>
                <a:latin typeface="Times New Roman"/>
                <a:ea typeface="Times New Roman (Arabic)"/>
              </a:rPr>
              <a:t> جنيها و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جنيها.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رى البعض أن التقدير المتحفظ للالتزام هو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لا تتفق لجنة المعايير مع هذا الرأى وتراه متحيزا وليس متحفظ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تقدير المتحفظ هو نقطة متوسطة بين التقديرين وهو مبلغ </a:t>
            </a:r>
            <a:r>
              <a:rPr b="0" lang="ar-SA" sz="2400" spc="-1" strike="noStrike">
                <a:solidFill>
                  <a:srgbClr val="ffffff"/>
                </a:solidFill>
                <a:latin typeface="Times New Roman"/>
                <a:ea typeface="Times New Roman (Arabic)"/>
              </a:rPr>
              <a:t>90000</a:t>
            </a:r>
            <a:r>
              <a:rPr b="0" lang="ar-SA" sz="2400" spc="-1" strike="noStrike">
                <a:solidFill>
                  <a:srgbClr val="ffffff"/>
                </a:solidFill>
                <a:latin typeface="Times New Roman"/>
                <a:ea typeface="Times New Roman (Arabic)"/>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1371600"/>
            <a:ext cx="8534160" cy="52146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ساليب التقدير والتغيير فى السياسات والتقديرات المحاسب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ساليب التقدير هى الطرق والتقديرات التى تتبناها الإدارة للوصول الى القيم المرتبطة بأسس القياس لعناصر القوائم المالية (طرق الإهلاك – تقدير قيمة المخصصات).</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تغيير فى السياسات المحاسبية يؤدى الى تعديل الفترات السابقة (المعالجة القياسية) بينما التغيير فى التقديرات يؤدى التى تعديل الفترة التى حدث فيها تغيير التقدير والفترات الت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إن التغيير فى السياسات المحاسبية هو تغيير إما فى أسس الاعتراف أو العرض او أسس القياس.</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00:42:49Z</dcterms:created>
  <dc:creator>Administrator</dc:creator>
  <dc:description/>
  <dc:language>en-US</dc:language>
  <cp:lastModifiedBy>Administrator</cp:lastModifiedBy>
  <dcterms:modified xsi:type="dcterms:W3CDTF">2004-04-22T00:52:49Z</dcterms:modified>
  <cp:revision>2</cp:revision>
  <dc:subject/>
  <dc:title>PowerPoint Presentation</dc:title>
</cp:coreProperties>
</file>