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304920" y="533520"/>
            <a:ext cx="8534160" cy="631188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afd00"/>
                </a:solidFill>
                <a:latin typeface="Times New Roman"/>
                <a:cs typeface="Arial"/>
              </a:rPr>
              <a:t>الفصل </a:t>
            </a:r>
            <a:r>
              <a:rPr b="1" lang="ar-EG" sz="2400" spc="-1" strike="noStrike">
                <a:solidFill>
                  <a:srgbClr val="fafd00"/>
                </a:solidFill>
                <a:latin typeface="Times New Roman"/>
                <a:cs typeface="Times New Roman (Arabic)"/>
              </a:rPr>
              <a:t>الاول</a:t>
            </a:r>
            <a:r>
              <a:rPr b="1" lang="ar-EG" sz="2400" spc="-1" strike="noStrike">
                <a:solidFill>
                  <a:srgbClr val="fafd00"/>
                </a:solidFill>
                <a:latin typeface="Times New Roman"/>
                <a:ea typeface="Arial"/>
              </a:rPr>
              <a:t>: </a:t>
            </a:r>
            <a:r>
              <a:rPr b="1" lang="ar-EG" sz="2400" spc="-1" strike="noStrike">
                <a:solidFill>
                  <a:srgbClr val="fafd00"/>
                </a:solidFill>
                <a:latin typeface="Times New Roman"/>
                <a:cs typeface="Times New Roman (Arabic)"/>
              </a:rPr>
              <a:t>الهيكل التنظيمى</a:t>
            </a: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النطـــــــــــــــــــــــــاق</a:t>
            </a: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Arial"/>
              </a:rPr>
              <a:t>يجب أن يغطى الدارس فى نهاية هذا الفصل ما</a:t>
            </a:r>
            <a:r>
              <a:rPr b="0" lang="ar-SA" sz="2400" spc="-1" strike="noStrike">
                <a:solidFill>
                  <a:srgbClr val="fafd00"/>
                </a:solidFill>
                <a:latin typeface="Times New Roman"/>
                <a:ea typeface="Times New Roman (Arabic)"/>
              </a:rPr>
              <a:t> </a:t>
            </a:r>
            <a:r>
              <a:rPr b="0" lang="ar-SA" sz="2400" spc="-1" strike="noStrike">
                <a:solidFill>
                  <a:srgbClr val="fafd00"/>
                </a:solidFill>
                <a:latin typeface="Times New Roman"/>
                <a:cs typeface="Arial"/>
              </a:rPr>
              <a:t>يلى:</a:t>
            </a:r>
            <a:endParaRPr b="0" lang="en-US" sz="2400" spc="-1" strike="noStrike">
              <a:solidFill>
                <a:srgbClr val="ffffff"/>
              </a:solidFill>
              <a:latin typeface="Times New Roman"/>
            </a:endParaRPr>
          </a:p>
          <a:p>
            <a:pPr marL="287280" indent="-287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الاهداف والإجراءات التنفيذية للجنة معايير المحاسبة الدولية</a:t>
            </a:r>
            <a:r>
              <a:rPr b="0" lang="ar-SA" sz="2400" spc="-1" strike="noStrike">
                <a:solidFill>
                  <a:srgbClr val="fafd00"/>
                </a:solidFill>
                <a:latin typeface="Arial"/>
                <a:ea typeface="Times New Roman (Arabic)"/>
              </a:rPr>
              <a:t> ودورها المتغير</a:t>
            </a:r>
            <a:r>
              <a:rPr b="0" lang="ar-SA" sz="2400" spc="-1" strike="noStrike">
                <a:solidFill>
                  <a:srgbClr val="fafd00"/>
                </a:solidFill>
                <a:latin typeface="Arial"/>
                <a:ea typeface="Arial"/>
              </a:rPr>
              <a:t>.</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وصف دور وخصائص </a:t>
            </a:r>
            <a:r>
              <a:rPr b="0" lang="ar-SA" sz="2400" spc="-1" strike="noStrike">
                <a:solidFill>
                  <a:srgbClr val="fafd00"/>
                </a:solidFill>
                <a:latin typeface="Arial"/>
                <a:cs typeface="Times New Roman (Arabic)"/>
              </a:rPr>
              <a:t>إ</a:t>
            </a:r>
            <a:r>
              <a:rPr b="0" lang="ar-SA" sz="2400" spc="-1" strike="noStrike">
                <a:solidFill>
                  <a:srgbClr val="fafd00"/>
                </a:solidFill>
                <a:latin typeface="Arial"/>
                <a:cs typeface="Arial"/>
              </a:rPr>
              <a:t>طار </a:t>
            </a:r>
            <a:r>
              <a:rPr b="0" lang="ar-SA" sz="2400" spc="-1" strike="noStrike">
                <a:solidFill>
                  <a:srgbClr val="fafd00"/>
                </a:solidFill>
                <a:latin typeface="Arial"/>
                <a:cs typeface="Times New Roman (Arabic)"/>
              </a:rPr>
              <a:t>العمل الخاص بلجنة معايير المحاسبة الدولية.</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Times New Roman (Arabic)"/>
              </a:rPr>
              <a:t>فهم وتطبيق نصوص معايير المحاسبة الدولية المتعلقة</a:t>
            </a:r>
            <a:r>
              <a:rPr b="0" lang="ar-SA" sz="2400" spc="-1" strike="noStrike">
                <a:solidFill>
                  <a:srgbClr val="fafd00"/>
                </a:solidFill>
                <a:latin typeface="Arial"/>
                <a:ea typeface="Arial"/>
              </a:rPr>
              <a:t> بإعداد وعرض القوائم المالية الصادر عن لجنة معايير المحاسبة الدولية.</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Times New Roman (Arabic)"/>
              </a:rPr>
              <a:t>المتطلبات المختلفة لإعداد التقارير المالية للشركات الكبيرة والصغيرة</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228600"/>
            <a:ext cx="8915400" cy="89478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إطار العام لإعداد وعرض </a:t>
            </a:r>
            <a:r>
              <a:rPr b="1" lang="ar-SA" sz="2400" spc="-1" strike="noStrike">
                <a:solidFill>
                  <a:srgbClr val="fafd00"/>
                </a:solidFill>
                <a:latin typeface="Times New Roman"/>
                <a:cs typeface="Times New Roman (Arabic)"/>
              </a:rPr>
              <a:t>القوائم</a:t>
            </a:r>
            <a:r>
              <a:rPr b="1" lang="ar-SA" sz="2400" spc="-1" strike="noStrike">
                <a:solidFill>
                  <a:srgbClr val="fafd00"/>
                </a:solidFill>
                <a:latin typeface="Times New Roman"/>
              </a:rPr>
              <a:t> المالية الصادر عن لجنة معايير المحاسبة الدولية</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وثيقة تحدد المفاهيم الخاصة بإعداد وعرض القوائم المالية للمستخدمين الخارجيين)</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هدف من الإطار العام</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ساعدة مجلس لجنة المعايير فى تطوير المعايير وفحص ومراجعة المعايير المطبق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مساعدة فى تخفيض عدد بدائل المعالجات المحاسبية المسموح بها فى المعايير الدو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ساعدة الهيئات الوطنية فى تطوير معاييرها المح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ساعدة معدى القوائم المالية على تطبيق المعايير والتعامل مع الأمور التى لم ترد بها.</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cs typeface="Arial"/>
              </a:rPr>
              <a:t>مساعدة المراجعين فى تكوين الرأى المهنى عن اتفاق القوائم المالية مع المعايير الدو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cs typeface="Arial"/>
              </a:rPr>
              <a:t>مساعدة مستخدمى القوائم المالية فى تفسير المعلومات الواردة فى القوائم الما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cs typeface="Arial"/>
              </a:rPr>
              <a:t>إمداد الجهات المهتمة بعمل لجنة معايير المحاسبة الدولية بمعلومات عن أسلوب إعداد معايير المحاسبة الدولية. </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5943600" y="372960"/>
            <a:ext cx="10447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914400" y="380880"/>
            <a:ext cx="702612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وضوعات التى يتناولها الإطار العام لإعداد وعرض القوائم المالية</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هـــــــــدف إعداد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افتراضات الأساسية للمحاسب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خصائص النوعية ل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عناصر</a:t>
            </a:r>
            <a:r>
              <a:rPr b="0" lang="ar-SA" sz="2400" spc="-1" strike="noStrike">
                <a:solidFill>
                  <a:srgbClr val="fafd00"/>
                </a:solidFill>
                <a:latin typeface="Times New Roman"/>
              </a:rPr>
              <a:t>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تحقق أو الاعتراف بعناصر</a:t>
            </a:r>
            <a:r>
              <a:rPr b="0" lang="ar-SA" sz="2400" spc="-1" strike="noStrike">
                <a:solidFill>
                  <a:srgbClr val="fafd00"/>
                </a:solidFill>
                <a:latin typeface="Times New Roman"/>
              </a:rPr>
              <a:t>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قياس عناصر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فهوم رأس المال و</a:t>
            </a:r>
            <a:r>
              <a:rPr b="0" lang="ar-SA" sz="2400" spc="-1" strike="noStrike">
                <a:solidFill>
                  <a:srgbClr val="fafd00"/>
                </a:solidFill>
                <a:latin typeface="Times New Roman"/>
                <a:cs typeface="Times New Roman (Arabic)"/>
              </a:rPr>
              <a:t>المحافظة</a:t>
            </a:r>
            <a:r>
              <a:rPr b="0" lang="ar-SA" sz="2400" spc="-1" strike="noStrike">
                <a:solidFill>
                  <a:srgbClr val="fafd00"/>
                </a:solidFill>
                <a:latin typeface="Times New Roman"/>
              </a:rPr>
              <a:t> على رأس الما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04920" y="380880"/>
            <a:ext cx="845820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هداف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هدف القوائم المالية الى توفير المعلومات الخاصة بالمركز المالى وعن الآداء والتغيرات فى المركز المالى والتى تكون مفيدة للعديد من مستخدمى تلك القوائم عند اتخاذ القرارات الاقتصاد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قوائم المالية ذات الأغراض العامة تفى </a:t>
            </a:r>
            <a:r>
              <a:rPr b="0" lang="ar-SA" sz="2400" spc="-1" strike="noStrike">
                <a:solidFill>
                  <a:srgbClr val="fafd00"/>
                </a:solidFill>
                <a:latin typeface="Times New Roman"/>
                <a:cs typeface="Times New Roman (Arabic)"/>
              </a:rPr>
              <a:t>بالاحتياجات</a:t>
            </a:r>
            <a:r>
              <a:rPr b="0" lang="ar-SA" sz="2400" spc="-1" strike="noStrike">
                <a:solidFill>
                  <a:srgbClr val="fafd00"/>
                </a:solidFill>
                <a:latin typeface="Times New Roman"/>
              </a:rPr>
              <a:t> العامة لمعظم مستخدمى تلك القوائم، إلا أنها لا تتيح كافة المعلومات التى يتطلبها مستخدمى القوائم المالية لاتخاذ القرارات الاقتصادية حيث انها تعطى صورة عامة عن أثار مالية لأحداث فى الماضى دون المستقبل وكذا لا توفر معلومات غير مال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وضح القوائم المالية نتائج الأعمال وكيفية إدارة الموارد، وبالتالى فهى تفيد مستخدميها فى تقييم كفاءة الإدارة عند اتخاذ قرار اقتصادى مثل الاحتفاظ بالاستثمار أو التصرف فيه أو تعيين المديرين أو استبدالهم.</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345960"/>
            <a:ext cx="8458200" cy="6311880"/>
          </a:xfrm>
          <a:prstGeom prst="rect">
            <a:avLst/>
          </a:prstGeom>
          <a:noFill/>
          <a:ln w="0">
            <a:noFill/>
          </a:ln>
        </p:spPr>
        <p:style>
          <a:lnRef idx="0"/>
          <a:fillRef idx="0"/>
          <a:effectRef idx="0"/>
          <a:fontRef idx="minor"/>
        </p:style>
        <p:txBody>
          <a:bodyPr lIns="90000" rIns="90000" tIns="46800" bIns="46800" anchor="t">
            <a:spAutoFit/>
          </a:bodyPr>
          <a:p>
            <a:pPr marL="23004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ابع: أهداف القوائم المالية</a:t>
            </a:r>
            <a:endParaRPr b="0" lang="en-US" sz="2400" spc="-1" strike="noStrike">
              <a:solidFill>
                <a:srgbClr val="ffffff"/>
              </a:solidFill>
              <a:latin typeface="Times New Roman"/>
            </a:endParaRPr>
          </a:p>
          <a:p>
            <a:pPr marL="23004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تطلب القرارات الاقتصادية التى تتخذ ضرورة تقييم مقدرة المنشأة على تحقيق تدفق نقدى وكذا توقيت تحقيق هذا التدفق ودرجة التأكد الخاصة به. ويمكن تحقيق ذلك إذا تم إمداد مستخدمى القوائم المالية بالمعلومات عن المركـــــز المالى والأداء المالى والتدفقات النقدية للمنشأة.</a:t>
            </a: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تأثر المركز المالى بالموارد الاقتصادية التى تسيطر عليها المنشأة والهيكل المالى لها ودرجة السيولة أو الاعسار لها وكذا قدرتها على الموائمة مع التغيرات فيما يحيط بها.</a:t>
            </a:r>
            <a:endParaRPr b="0" lang="en-US" sz="2400" spc="-1" strike="noStrike">
              <a:solidFill>
                <a:srgbClr val="ffffff"/>
              </a:solidFill>
              <a:latin typeface="Times New Roman"/>
            </a:endParaRPr>
          </a:p>
          <a:p>
            <a:pPr marL="23004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تضمن المعلومات المتعلقة بالأداء العائد المحقق بواسطة المنشاة من الموارد الموضوعة تحت تصرفها.</a:t>
            </a: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فيد المعلومات المتعلقة بالتدفق النقدى فى تحديد القيم والمصادر الرئيسية للتدفقات النقدية الداخلة والخارج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457200"/>
            <a:ext cx="861048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ابع: أهداف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يزان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توفر معلومات عن المركز المالى</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فائمتى الدخل والتغير فى حقوق الملكية</a:t>
            </a:r>
            <a:r>
              <a:rPr b="0" lang="ar-SA" sz="2400" spc="-1" strike="noStrike">
                <a:solidFill>
                  <a:srgbClr val="fafd00"/>
                </a:solidFill>
                <a:latin typeface="Times New Roman"/>
              </a:rPr>
              <a:t>	</a:t>
            </a:r>
            <a:r>
              <a:rPr b="0" lang="ar-SA" sz="2400" spc="-1" strike="noStrike">
                <a:solidFill>
                  <a:srgbClr val="fafd00"/>
                </a:solidFill>
                <a:latin typeface="Times New Roman"/>
              </a:rPr>
              <a:t>توفر معلومات عن الأداء.</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ئمة التدفقات النقد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توفر معلومات عن التدفقات النقدية</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حتوى القوائم المالية على معلومات مفيدة فى تقييم القدرة على الموائمة من الناحية المال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على الرغم من ان كل قائمة توفر معلومات مختلفة عن القوائم الاخرى ، إلا أنه لا توجد قائمة واحدة تخدم هدف وحيد محدد أو تحتوى على كافة المعلومات المطلوب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حتوى القوائم المالية أيضا على إيضاحات وبيانات تكميلية ومعلومات اخرى مفيدة. </a:t>
            </a: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685800" y="609480"/>
            <a:ext cx="784872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ستخدمو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ستثمرين فى حقوق الملكية ( الحاليين والمرتقبين)</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قرضين الحاليين والمرتقبين بما فى ذلك أصحاب القروض قصيرة الأجل.</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حللين والاستشاريين بما فى ذلك الصحفيين والاقتصاديين والاتحادات العمالية وسماسرة الاوراق المالية ومؤسسات تحديد الجدارة الائتمان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جهات المتعاملة مع المنشاة مثل العملاء والموردين والمنافسين.</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هيئات الحكومية ومنها مصلحة الضرائب.</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جمهور بصفة عا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727200"/>
            <a:ext cx="8001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فتراضات الأساسية للمحاسب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ساس الاستحقاق</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طبقا لأساس الا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فرض استمرارية المنشا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تفترض المحاسبة أن المنشاة تعتبر وحدة محاسبية مستمرة بمعنى أنه ليس لديها الحاجة أو النية الى تصفية أو تقليص نطاق عملياتها بدرجة كبيرة</a:t>
            </a:r>
            <a:r>
              <a:rPr b="0" lang="ar-EG" sz="2400" spc="-1" strike="noStrike">
                <a:solidFill>
                  <a:srgbClr val="fafd00"/>
                </a:solidFill>
                <a:latin typeface="Times New Roman"/>
              </a:rPr>
              <a:t> في المستقبل المنظور.</a:t>
            </a:r>
            <a:endParaRPr b="0" lang="en-US" sz="2400" spc="-1" strike="noStrike">
              <a:solidFill>
                <a:srgbClr val="ffffff"/>
              </a:solidFill>
              <a:latin typeface="Times New Roman"/>
            </a:endParaRPr>
          </a:p>
          <a:p>
            <a:pPr marL="457200" indent="-4572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533520" y="762120"/>
            <a:ext cx="7543800" cy="4117320"/>
          </a:xfrm>
          <a:prstGeom prst="rect">
            <a:avLst/>
          </a:prstGeom>
          <a:noFill/>
          <a:ln w="0">
            <a:noFill/>
          </a:ln>
        </p:spPr>
        <p:style>
          <a:lnRef idx="0"/>
          <a:fillRef idx="0"/>
          <a:effectRef idx="0"/>
          <a:fontRef idx="minor"/>
        </p:style>
        <p:txBody>
          <a:bodyPr lIns="90000" rIns="90000" tIns="46800" bIns="46800" anchor="t">
            <a:spAutoFit/>
          </a:bodyPr>
          <a:p>
            <a:pPr marL="568440" indent="-3384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خصائص النوعية للقوائم المالية</a:t>
            </a: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عرف الخصائص النوعية للقوائم المالية بأنها المقومات التى من شأنها:</a:t>
            </a: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أن  تجعل </a:t>
            </a:r>
            <a:r>
              <a:rPr b="1" lang="ar-SA" sz="2400" spc="-1" strike="noStrike">
                <a:solidFill>
                  <a:srgbClr val="fafd00"/>
                </a:solidFill>
                <a:latin typeface="Times New Roman"/>
              </a:rPr>
              <a:t>المعلومات</a:t>
            </a:r>
            <a:r>
              <a:rPr b="0" lang="ar-SA" sz="2400" spc="-1" strike="noStrike">
                <a:solidFill>
                  <a:srgbClr val="fafd00"/>
                </a:solidFill>
                <a:latin typeface="Times New Roman"/>
              </a:rPr>
              <a:t> الواردة بالقوائم المالية ذو فائدة للآخرين.</a:t>
            </a:r>
            <a:endParaRPr b="0" lang="en-US" sz="2400" spc="-1" strike="noStrike">
              <a:solidFill>
                <a:srgbClr val="ffffff"/>
              </a:solidFill>
              <a:latin typeface="Times New Roman"/>
            </a:endParaRPr>
          </a:p>
          <a:p>
            <a:pPr lvl="1" marL="1270080" indent="-465120" algn="just" rtl="1">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ن تجعل </a:t>
            </a:r>
            <a:r>
              <a:rPr b="1" lang="ar-SA" sz="2400" spc="-1" strike="noStrike">
                <a:solidFill>
                  <a:srgbClr val="fafd00"/>
                </a:solidFill>
                <a:latin typeface="Times New Roman"/>
              </a:rPr>
              <a:t>أسلوب عرض المعلومات</a:t>
            </a:r>
            <a:r>
              <a:rPr b="0" lang="ar-SA" sz="2400" spc="-1" strike="noStrike">
                <a:solidFill>
                  <a:srgbClr val="fafd00"/>
                </a:solidFill>
                <a:latin typeface="Times New Roman"/>
              </a:rPr>
              <a:t> المالية بالقوائم المالية مفيدا للآخر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0" y="41400"/>
            <a:ext cx="8991720" cy="5488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خصائص المميزة للمعلومات المحاسب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الأهمية النسبي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المعلومات الغير مهمة غير مفيد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اذا يجعل المعلومات المالية مفيد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المـلائم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إمكانية الاعتماد عل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ماذا يجعل المعلومة ملائم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اذا يجعل المعلومة يمكن الاعتماد عل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1800" spc="-1" strike="noStrike">
                <a:solidFill>
                  <a:srgbClr val="fafd00"/>
                </a:solidFill>
                <a:latin typeface="Times New Roman"/>
              </a:rPr>
              <a:t>( المعلومات التى تؤثر فى القرار)</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 المعلومات التى تخلو من الأخطاء والتحيز)</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قيمة يمكن </a:t>
            </a:r>
            <a:r>
              <a:rPr b="0" lang="ar-SA" sz="1800" spc="-1" strike="noStrike">
                <a:solidFill>
                  <a:srgbClr val="fafd00"/>
                </a:solidFill>
                <a:latin typeface="Times New Roman"/>
              </a:rPr>
              <a:t>	</a:t>
            </a:r>
            <a:r>
              <a:rPr b="0" lang="ar-SA" sz="1800" spc="-1" strike="noStrike">
                <a:solidFill>
                  <a:srgbClr val="fafd00"/>
                </a:solidFill>
                <a:latin typeface="Times New Roman"/>
              </a:rPr>
              <a:t>      مصداقية القيمة</a:t>
            </a:r>
            <a:r>
              <a:rPr b="0" lang="ar-SA" sz="1800" spc="-1" strike="noStrike">
                <a:solidFill>
                  <a:srgbClr val="fafd00"/>
                </a:solidFill>
                <a:latin typeface="Times New Roman"/>
              </a:rPr>
              <a:t>	</a:t>
            </a:r>
            <a:r>
              <a:rPr b="0" lang="ar-SA" sz="1800" spc="-1" strike="noStrike">
                <a:solidFill>
                  <a:srgbClr val="fafd00"/>
                </a:solidFill>
                <a:latin typeface="Times New Roman"/>
              </a:rPr>
              <a:t> اختيار بين المفردات</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مكتملـــ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التنبؤ بها</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  أو العناصر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تحفظ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حايد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علاقة متداخل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التعبير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الصادق</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تهتم بالمحتوى</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p:txBody>
      </p:sp>
      <p:sp>
        <p:nvSpPr>
          <p:cNvPr id="99" name=""/>
          <p:cNvSpPr/>
          <p:nvPr/>
        </p:nvSpPr>
        <p:spPr>
          <a:xfrm flipH="1">
            <a:off x="7467480" y="6858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80520" y="68580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3124080" y="91440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H="1">
            <a:off x="380520" y="106668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7467480" y="10666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3124080" y="1295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7180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808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99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12408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88390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4674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1600200" y="182880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H="1">
            <a:off x="7162920" y="21337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1600200" y="220968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7162920" y="17524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077320" y="1752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0020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350532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162920" y="1828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762120" y="32767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H="1">
            <a:off x="1371240" y="38098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3352320" y="4343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H="1">
            <a:off x="3962160" y="518148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a:off x="6858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H="1">
            <a:off x="1371240" y="4114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3276720" y="50292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H="1">
            <a:off x="3962160" y="5562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H="1">
            <a:off x="79246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a:off x="64008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H="1">
            <a:off x="4495320" y="32767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a:off x="80010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a:off x="64008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4495320" y="39625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8610480" y="4038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6629400" y="38098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7652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a:off x="685800" y="3276720"/>
            <a:ext cx="763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43828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371600" y="38098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H="1">
            <a:off x="3276360" y="4343400"/>
            <a:ext cx="7596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038480" y="43434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410080" y="51814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962520" y="5181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H="1">
            <a:off x="259056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2514240" y="4495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a:off x="2514600" y="411480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27672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891540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92468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6960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17220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49568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662940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H="1">
            <a:off x="830592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6095880" y="838080"/>
            <a:ext cx="1371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495680" y="1371600"/>
            <a:ext cx="2514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3581280" y="13716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1752480" y="3124080"/>
            <a:ext cx="6098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1905120" y="35053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514600" y="38862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114800" y="464832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35268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5638320" y="3048120"/>
            <a:ext cx="1676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7315200" y="3048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7315200" y="3048120"/>
            <a:ext cx="10666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
          <p:cNvSpPr/>
          <p:nvPr/>
        </p:nvSpPr>
        <p:spPr>
          <a:xfrm>
            <a:off x="152280" y="41400"/>
            <a:ext cx="8839440" cy="631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خصائص </a:t>
            </a:r>
            <a:r>
              <a:rPr b="0" lang="ar-SA" sz="2400" spc="-1" strike="noStrike">
                <a:solidFill>
                  <a:srgbClr val="fafd00"/>
                </a:solidFill>
                <a:latin typeface="Times New Roman"/>
                <a:cs typeface="Times New Roman (Arabic)"/>
              </a:rPr>
              <a:t>المتعلقة بتصوير القوائم وفهمها ومقارنته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rPr>
              <a:t> </a:t>
            </a:r>
            <a:r>
              <a:rPr b="0" lang="ar-SA" sz="1800" spc="-1" strike="noStrike">
                <a:solidFill>
                  <a:srgbClr val="fafd00"/>
                </a:solidFill>
                <a:latin typeface="Times New Roman"/>
                <a:cs typeface="Times New Roman (Arabic)"/>
              </a:rPr>
              <a:t>الخصائص التى تجعل إعداد المعلومات مفيد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cs typeface="Times New Roman (Arabic)"/>
              </a:rPr>
              <a:t>القابلية للمقارن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القابلية للفهم</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الافصاح</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السياسات المحاسبية والارقام المقارنة      التجميع       قدرات المستخدم</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التجانس</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cs typeface="Times New Roman (Arabic)"/>
              </a:rPr>
              <a:t>ما هى العوامل التى تحد من</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cs typeface="Times New Roman (Arabic)"/>
              </a:rPr>
              <a:t>تطبيق الخصائص النوعي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cs typeface="Times New Roman (Arabic)"/>
              </a:rPr>
              <a:t>الموازنة بين الخصائص</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cs typeface="Times New Roman (Arabic)"/>
              </a:rPr>
              <a:t>التكلفة والعائ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تقديم المعلومات فى الوقت المناسب</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7" name=""/>
          <p:cNvSpPr/>
          <p:nvPr/>
        </p:nvSpPr>
        <p:spPr>
          <a:xfrm>
            <a:off x="281952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0080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1600200" y="182880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7162560" y="21337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1600200" y="220968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7162560" y="17524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8305920" y="1752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60020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50532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7162920" y="1828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79246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64008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80010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64008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891540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92468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6960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40080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495680" y="1371600"/>
            <a:ext cx="2514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a:off x="3581280" y="13716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H="1">
            <a:off x="2819520" y="990720"/>
            <a:ext cx="358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H="1">
            <a:off x="2819520" y="1371600"/>
            <a:ext cx="358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7009920" y="2133720"/>
            <a:ext cx="685800" cy="1066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696080" y="2133720"/>
            <a:ext cx="762120" cy="1066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2133720" y="3124080"/>
            <a:ext cx="76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2133720" y="3733920"/>
            <a:ext cx="838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895480" y="3124080"/>
            <a:ext cx="7632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133720" y="31240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H="1">
            <a:off x="533520" y="312408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05120" y="31240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33520" y="31240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533520" y="373392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3123720" y="3809880"/>
            <a:ext cx="2667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3123720" y="4419720"/>
            <a:ext cx="2667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791320" y="38098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124080" y="38098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4495680" y="1371600"/>
            <a:ext cx="0" cy="17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H="1">
            <a:off x="1218960" y="2209680"/>
            <a:ext cx="9903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209680" y="2209680"/>
            <a:ext cx="304920" cy="762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1295280" y="464832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666880" y="464832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295280" y="464832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1295280" y="510552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6171840" y="4572000"/>
            <a:ext cx="2057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H="1">
            <a:off x="3047760" y="5334120"/>
            <a:ext cx="2819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3047760" y="5867280"/>
            <a:ext cx="2895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867280" y="5334120"/>
            <a:ext cx="7632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048120" y="533412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6171840" y="5029200"/>
            <a:ext cx="2057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2296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1722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791320" y="4038480"/>
            <a:ext cx="114300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1828440" y="4114800"/>
            <a:ext cx="121932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419720" y="4419720"/>
            <a:ext cx="0" cy="838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685800" y="609480"/>
            <a:ext cx="7772400" cy="59461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عايير المحاسبة الدو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 تكوين لجنة معايير المحاسبة الدولية عام </a:t>
            </a:r>
            <a:r>
              <a:rPr b="0" lang="ar-SA" sz="2400" spc="-1" strike="noStrike">
                <a:solidFill>
                  <a:srgbClr val="fafd00"/>
                </a:solidFill>
                <a:latin typeface="Times New Roman"/>
              </a:rPr>
              <a:t>1973</a:t>
            </a:r>
            <a:r>
              <a:rPr b="0" lang="ar-SA" sz="2400" spc="-1" strike="noStrike">
                <a:solidFill>
                  <a:srgbClr val="fafd00"/>
                </a:solidFill>
                <a:latin typeface="Times New Roman"/>
              </a:rPr>
              <a:t> وتتكون من ممثلى الهيئات المحاسبية فى العالم </a:t>
            </a:r>
            <a:r>
              <a:rPr b="0" lang="ar-SA" sz="2400" spc="-1" strike="noStrike">
                <a:solidFill>
                  <a:srgbClr val="fafd00"/>
                </a:solidFill>
                <a:latin typeface="Times New Roman"/>
                <a:ea typeface="Times New Roman (Arabic)"/>
              </a:rPr>
              <a:t> وبها حاليا </a:t>
            </a:r>
            <a:r>
              <a:rPr b="0" lang="ar-SA" sz="2400" spc="-1" strike="noStrike">
                <a:solidFill>
                  <a:srgbClr val="fafd00"/>
                </a:solidFill>
                <a:latin typeface="Times New Roman"/>
                <a:ea typeface="Times New Roman (Arabic)"/>
              </a:rPr>
              <a:t>140</a:t>
            </a:r>
            <a:r>
              <a:rPr b="0" lang="ar-SA" sz="2400" spc="-1" strike="noStrike">
                <a:solidFill>
                  <a:srgbClr val="fafd00"/>
                </a:solidFill>
                <a:latin typeface="Times New Roman"/>
                <a:ea typeface="Times New Roman (Arabic)"/>
              </a:rPr>
              <a:t> عضوا من مائة دولة تقريبا.</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ليس من الضرورى لكل الدول التى فيها هيئات محاسبية أعضاء فى لجنة معايير المحاسبة الدولية أن تطبق معايير المحاسبة الدولية الصادرة عن اللجنة المذكورة</a:t>
            </a:r>
            <a:r>
              <a:rPr b="0" lang="ar-SA" sz="2400" spc="-1" strike="noStrike">
                <a:solidFill>
                  <a:srgbClr val="fafd00"/>
                </a:solidFill>
                <a:latin typeface="Times New Roman"/>
                <a:ea typeface="Times New Roman (Arabic)"/>
              </a:rPr>
              <a:t> باعتبار ان كثير من هذه الدول لديها معايير محلية خاصة بها.</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تولى إدارة نشاط لجنة معايير المحاسبة الدولية مجلس مكون من مندوبى ما يقرب من ثلاثة عشر دولة بالإضافة الى بعض المنظمات التى لديها اهتمامات فى إعداد التقارير المالية يصل عددها الى اربعة منظمات (مثل المنظمة الدولية لهيئات سوق الما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1" name=""/>
          <p:cNvSpPr/>
          <p:nvPr/>
        </p:nvSpPr>
        <p:spPr>
          <a:xfrm>
            <a:off x="380880" y="270000"/>
            <a:ext cx="8458200" cy="7043400"/>
          </a:xfrm>
          <a:prstGeom prst="rect">
            <a:avLst/>
          </a:prstGeom>
          <a:noFill/>
          <a:ln w="0">
            <a:noFill/>
          </a:ln>
        </p:spPr>
        <p:style>
          <a:lnRef idx="0"/>
          <a:fillRef idx="0"/>
          <a:effectRef idx="0"/>
          <a:fontRef idx="minor"/>
        </p:style>
        <p:txBody>
          <a:bodyPr lIns="90000" rIns="90000" tIns="46800" bIns="46800" anchor="t">
            <a:spAutoFit/>
          </a:bodyPr>
          <a:p>
            <a:pPr marL="168120" indent="-106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أهمية النسبية</a:t>
            </a:r>
            <a:endParaRPr b="0" lang="en-US" sz="2400" spc="-1" strike="noStrike">
              <a:solidFill>
                <a:srgbClr val="ffffff"/>
              </a:solidFill>
              <a:latin typeface="Times New Roman"/>
            </a:endParaRPr>
          </a:p>
          <a:p>
            <a:pPr marL="168120" indent="-106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جب الاخذ فى الاعتبار الخاصية الأساسية قبل النظر الى الخصائص الأخرى ، فإذا لم تجتاز المعلومة الأهمية النسبية فإنه لا يجب النظر اليها.</a:t>
            </a:r>
            <a:endParaRPr b="0" lang="en-US" sz="2400" spc="-1" strike="noStrike">
              <a:solidFill>
                <a:srgbClr val="ffffff"/>
              </a:solidFill>
              <a:latin typeface="Times New Roman"/>
            </a:endParaRPr>
          </a:p>
          <a:p>
            <a:pPr marL="168120" indent="-106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عتبر المعلومة مهمة إذا كان حذفها أو الخطأ فى عرضها يمكن أن يؤثر على القرارات الاقتصادية التى يتخذها مستخدمى القوائم المالي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لائمـــــــ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وفر خاصية الملائمة فى المعلومات حينما تؤثر فى القرارات الاقتصادية لمستخدمى القوائم المالية بمساعدتهم فى تقييم الأحداث الماضية والحاضرة والمستقبلية أو لتأكيد وتصحيح تقييمهم السابق. (أهمية عرض العناصر غير العادية بصورة منفصلة عن الأنشطة التشغيلية بقائمة الدخل).</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إمكانية الاعتماد على المعلوم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مكن الاعتماد على المعلومة عندما تكون خالية من الاخطاء الهامة وتكون غير منحازة وتم الإفصاح عنها بأمانة</a:t>
            </a:r>
            <a:r>
              <a:rPr b="0" lang="en-US" sz="2400" spc="-1" strike="noStrike">
                <a:solidFill>
                  <a:srgbClr val="fafd00"/>
                </a:solidFill>
                <a:latin typeface="Times New Roman"/>
              </a:rPr>
              <a:t> </a:t>
            </a:r>
            <a:r>
              <a:rPr b="0" lang="ar-SA" sz="2400" spc="-1" strike="noStrike">
                <a:solidFill>
                  <a:srgbClr val="fafd00"/>
                </a:solidFill>
                <a:latin typeface="Arial"/>
                <a:cs typeface="Arial"/>
              </a:rPr>
              <a:t>وبشكل</a:t>
            </a:r>
            <a:r>
              <a:rPr b="0" lang="ar-SA" sz="2400" spc="-1" strike="noStrike">
                <a:solidFill>
                  <a:srgbClr val="fafd00"/>
                </a:solidFill>
                <a:latin typeface="Times New Roman"/>
              </a:rPr>
              <a:t> صحيح وتوفر العرض الصادق المتوقع منها ، او الذى يكون متوقع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2" name=""/>
          <p:cNvSpPr/>
          <p:nvPr/>
        </p:nvSpPr>
        <p:spPr>
          <a:xfrm>
            <a:off x="380880" y="304920"/>
            <a:ext cx="8458200" cy="6707880"/>
          </a:xfrm>
          <a:prstGeom prst="rect">
            <a:avLst/>
          </a:prstGeom>
          <a:noFill/>
          <a:ln w="0">
            <a:noFill/>
          </a:ln>
        </p:spPr>
        <p:style>
          <a:lnRef idx="0"/>
          <a:fillRef idx="0"/>
          <a:effectRef idx="0"/>
          <a:fontRef idx="minor"/>
        </p:style>
        <p:txBody>
          <a:bodyPr lIns="90000" rIns="90000" tIns="46800" bIns="46800" anchor="t">
            <a:spAutoFit/>
          </a:bodyPr>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قابلية للمقارنة</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جب أن يتمكن مستخدمى القوائم المالية من إجراء مقارنة لمحتويات القوائم المالية للمنشأة على مدار فترات زمنية لتحديد اتجاهات وتطورات عناصر المركز المالى ونتائج الأعمال. كما يجب إمكانية إجراء المقارنة للقوائم المالية للمنشآت المختلفة للوقوف على مراكزها المالية ونتائج اعمالها. لذا فإن الثبات فى أسلوب إعداد القوائم أمر ضرورى.</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إخطار مستخدمى القوائم المالية بالسياسات المحاسبية المستخدمة وأى تغيير فى هذه السياسات واثره والالتزام بالمعايير المحاسبية يساعد فى تحقيق القابلية للمقارن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قابلية للفهــم</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جب عرض المعلومات بطريقة واضحة يكون من السهل فهم مضمونها، وفى هذا الإطار ينبغى أن يتوافر لدى مستخدمى القوائم المالية القدرة والمعلومات المناسبة عن طبيعة نشاط المنشأة والمحاسبة بالإضافة الى الرغبة فى دراسة المعلومات بعناية مقبو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3" name=""/>
          <p:cNvSpPr/>
          <p:nvPr/>
        </p:nvSpPr>
        <p:spPr>
          <a:xfrm>
            <a:off x="533520" y="650880"/>
            <a:ext cx="7696080" cy="460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ددات الخاصة بالمعلومات الملائمة والتى يمكن الأعتماد عليه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ا هى محددات تطبيق الخصائص النوع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afd00"/>
                </a:solidFill>
                <a:latin typeface="Times New Roman"/>
              </a:rPr>
              <a:t>التوازن بين الخصائص</a:t>
            </a:r>
            <a:r>
              <a:rPr b="1" lang="ar-SA" sz="2000" spc="-1" strike="noStrike">
                <a:solidFill>
                  <a:srgbClr val="fafd00"/>
                </a:solidFill>
                <a:latin typeface="Times New Roman"/>
              </a:rPr>
              <a:t>	</a:t>
            </a:r>
            <a:r>
              <a:rPr b="1" lang="ar-SA" sz="2000" spc="-1" strike="noStrike">
                <a:solidFill>
                  <a:srgbClr val="fafd00"/>
                </a:solidFill>
                <a:latin typeface="Times New Roman"/>
              </a:rPr>
              <a:t>تقديم المعلومات فى</a:t>
            </a:r>
            <a:r>
              <a:rPr b="1" lang="ar-SA" sz="2000" spc="-1" strike="noStrike">
                <a:solidFill>
                  <a:srgbClr val="fafd00"/>
                </a:solidFill>
                <a:latin typeface="Times New Roman"/>
              </a:rPr>
              <a:t>	</a:t>
            </a:r>
            <a:r>
              <a:rPr b="1" lang="ar-SA" sz="2000" spc="-1" strike="noStrike">
                <a:solidFill>
                  <a:srgbClr val="fafd00"/>
                </a:solidFill>
                <a:latin typeface="Times New Roman"/>
              </a:rPr>
              <a:t>	</a:t>
            </a:r>
            <a:r>
              <a:rPr b="1" lang="ar-SA" sz="2000" spc="-1" strike="noStrike">
                <a:solidFill>
                  <a:srgbClr val="fafd00"/>
                </a:solidFill>
                <a:latin typeface="Times New Roman"/>
              </a:rPr>
              <a:t>مقارنة التكلفة بالعائد</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afd00"/>
                </a:solidFill>
                <a:latin typeface="Times New Roman"/>
              </a:rPr>
              <a:t>	</a:t>
            </a:r>
            <a:r>
              <a:rPr b="1" lang="ar-SA" sz="2000" spc="-1" strike="noStrike">
                <a:solidFill>
                  <a:srgbClr val="fafd00"/>
                </a:solidFill>
                <a:latin typeface="Times New Roman"/>
              </a:rPr>
              <a:t>	</a:t>
            </a:r>
            <a:r>
              <a:rPr b="1" lang="ar-SA" sz="2000" spc="-1" strike="noStrike">
                <a:solidFill>
                  <a:srgbClr val="fafd00"/>
                </a:solidFill>
                <a:latin typeface="Times New Roman"/>
              </a:rPr>
              <a:t>	</a:t>
            </a:r>
            <a:r>
              <a:rPr b="1" lang="ar-SA" sz="2000" spc="-1" strike="noStrike">
                <a:solidFill>
                  <a:srgbClr val="fafd00"/>
                </a:solidFill>
                <a:latin typeface="Times New Roman"/>
              </a:rPr>
              <a:t>الوقت المناسب</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4" name=""/>
          <p:cNvSpPr/>
          <p:nvPr/>
        </p:nvSpPr>
        <p:spPr>
          <a:xfrm flipH="1">
            <a:off x="6095520" y="35053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a:off x="3580920" y="35053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flipH="1">
            <a:off x="685800" y="350532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1981080" y="16765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flipH="1">
            <a:off x="6095520" y="4267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715000" y="46483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flipH="1">
            <a:off x="3580920" y="4267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685800" y="4267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H="1">
            <a:off x="1981080" y="24382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010280" y="1676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981080" y="1676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8954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858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7150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5812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0958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82296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1905120" y="2590920"/>
            <a:ext cx="259056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495680" y="25909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95680" y="2590920"/>
            <a:ext cx="2514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4" name=""/>
          <p:cNvSpPr/>
          <p:nvPr/>
        </p:nvSpPr>
        <p:spPr>
          <a:xfrm>
            <a:off x="661356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457200" y="533520"/>
            <a:ext cx="83818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ددات الخاصة بالمعلومات الملائمة والتى يمكن الاعتماد عليها</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حسين جودة المعلومة لا يتحقق إلا بتكلفة أو بتخفيض مستوى جودة خاصية أخر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وازنة بين الخصائص النوع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الهدف هو تحقيق التوازن الملائم بين الخصائص النوعية نحو تحقيق أهداف القوائم الم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وفير المعلومات فى الوقت المناسب</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التأخر فى الإفصاح عن معلومة معينة قد يفقدها خاصية الملائم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عائد والتكلف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يتعين أن يفوق العائد المتوقع الحصول عليه من المعلومة تكلفة الحصول عل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6" name=""/>
          <p:cNvSpPr/>
          <p:nvPr/>
        </p:nvSpPr>
        <p:spPr>
          <a:xfrm>
            <a:off x="380880" y="727200"/>
            <a:ext cx="8229600" cy="37515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فهوم العرض الصادق والحقيقى للقوائم الما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وفر القوائم المالية فى الأحوال العادية العرض الصادق والحقيقى للمركز المالى للمنشاة ونتائج أعمالها وتدفقاتها النقد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إن الإطار العام لا يتعامل مع هذا المفهوم مباشرة إلا أن تطبيق المبادئ المتعلقة بالخصائص النوعية يجب أن ينتج عنه فى الظروف العادية قوائم مالية تحقق العرض الصادق والحقيقى للمعلومات ال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7" name=""/>
          <p:cNvSpPr/>
          <p:nvPr/>
        </p:nvSpPr>
        <p:spPr>
          <a:xfrm>
            <a:off x="1371600" y="990720"/>
            <a:ext cx="6934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imes New Roman"/>
              </a:rPr>
              <a:t>عناصر القوائم المالية</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أصـــــــــول</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إلتزامــــــــات</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حقـوق الملكيـــة</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إيــــــــرادات</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مصـــــ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8" name=""/>
          <p:cNvSpPr/>
          <p:nvPr/>
        </p:nvSpPr>
        <p:spPr>
          <a:xfrm>
            <a:off x="457200" y="345960"/>
            <a:ext cx="822960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afd00"/>
                </a:solidFill>
                <a:latin typeface="Times New Roman"/>
                <a:cs typeface="Arial"/>
              </a:rPr>
              <a:t>الأصـــــــــو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Arial"/>
              </a:rPr>
              <a:t>” يعرف الأصل بأنه أحد الموارد التى توضع </a:t>
            </a:r>
            <a:r>
              <a:rPr b="0" lang="ar-EG" sz="2400" spc="-1" strike="noStrike" u="sng">
                <a:solidFill>
                  <a:srgbClr val="fafd00"/>
                </a:solidFill>
                <a:uFillTx/>
                <a:latin typeface="Times New Roman"/>
                <a:cs typeface="Arial"/>
              </a:rPr>
              <a:t>تحت تصرف المنشأة</a:t>
            </a:r>
            <a:r>
              <a:rPr b="0" lang="ar-EG" sz="2400" spc="-1" strike="noStrike">
                <a:solidFill>
                  <a:srgbClr val="fafd00"/>
                </a:solidFill>
                <a:latin typeface="Times New Roman"/>
                <a:ea typeface="Arial"/>
              </a:rPr>
              <a:t> </a:t>
            </a:r>
            <a:r>
              <a:rPr b="0" lang="ar-EG" sz="2400" spc="-1" strike="noStrike" u="sng">
                <a:solidFill>
                  <a:srgbClr val="fafd00"/>
                </a:solidFill>
                <a:uFillTx/>
                <a:latin typeface="Times New Roman"/>
                <a:cs typeface="Arial"/>
              </a:rPr>
              <a:t>نتيجة معاملات تاريخية</a:t>
            </a:r>
            <a:r>
              <a:rPr b="0" lang="ar-EG" sz="2400" spc="-1" strike="noStrike">
                <a:solidFill>
                  <a:srgbClr val="fafd00"/>
                </a:solidFill>
                <a:latin typeface="Times New Roman"/>
                <a:ea typeface="Arial"/>
              </a:rPr>
              <a:t> ويتوقع الحصول منه على </a:t>
            </a:r>
            <a:r>
              <a:rPr b="0" lang="ar-EG" sz="2400" spc="-1" strike="noStrike" u="sng">
                <a:solidFill>
                  <a:srgbClr val="fafd00"/>
                </a:solidFill>
                <a:uFillTx/>
                <a:latin typeface="Times New Roman"/>
                <a:cs typeface="Arial"/>
              </a:rPr>
              <a:t>منافع إقتصادية</a:t>
            </a:r>
            <a:r>
              <a:rPr b="0" lang="ar-EG" sz="2400" spc="-1" strike="noStrike">
                <a:solidFill>
                  <a:srgbClr val="fafd00"/>
                </a:solidFill>
                <a:latin typeface="Times New Roman"/>
                <a:ea typeface="Arial"/>
              </a:rPr>
              <a:t> </a:t>
            </a:r>
            <a:r>
              <a:rPr b="0" lang="ar-EG" sz="2400" spc="-1" strike="noStrike" u="sng">
                <a:solidFill>
                  <a:srgbClr val="fafd00"/>
                </a:solidFill>
                <a:uFillTx/>
                <a:latin typeface="Times New Roman"/>
                <a:cs typeface="Arial"/>
              </a:rPr>
              <a:t>مستقبلية</a:t>
            </a:r>
            <a:r>
              <a:rPr b="0" lang="ar-EG" sz="2400" spc="-1" strike="noStrike">
                <a:solidFill>
                  <a:srgbClr val="fafd00"/>
                </a:solidFill>
                <a:latin typeface="Times New Roman"/>
                <a:ea typeface="Arial"/>
              </a:rPr>
              <a:t> تتدفق على المنشاة “.</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سيطرة أو تحكم المنشأة على الأصل</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Arial"/>
              </a:rPr>
              <a:t>	</a:t>
            </a:r>
            <a:r>
              <a:rPr b="0" lang="ar-SA" sz="2400" spc="-1" strike="noStrike">
                <a:solidFill>
                  <a:srgbClr val="fafd00"/>
                </a:solidFill>
                <a:latin typeface="Times New Roman"/>
                <a:cs typeface="Arial"/>
              </a:rPr>
              <a:t>القدرة على الحصول على المنافع الاقتصادية مع منع الغير من الحصول عليها.</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الأحداث التاريخية المرتبطة بالأصل</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Arial"/>
              </a:rPr>
              <a:t>	</a:t>
            </a:r>
            <a:r>
              <a:rPr b="0" lang="ar-SA" sz="2400" spc="-1" strike="noStrike">
                <a:solidFill>
                  <a:srgbClr val="fafd00"/>
                </a:solidFill>
                <a:latin typeface="Times New Roman"/>
                <a:cs typeface="Arial"/>
              </a:rPr>
              <a:t>يتعين ان يكون الاصل ناتجا عن أحداث ماضية (انتقال حق ملكية أصل قبل بداية استلامه أو استخدامه).</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منافع الاصل الاقتصادية المستقبلية</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Arial"/>
              </a:rPr>
              <a:t>	</a:t>
            </a:r>
            <a:r>
              <a:rPr b="0" lang="ar-SA" sz="2400" spc="-1" strike="noStrike">
                <a:solidFill>
                  <a:srgbClr val="fafd00"/>
                </a:solidFill>
                <a:latin typeface="Times New Roman"/>
                <a:cs typeface="Arial"/>
              </a:rPr>
              <a:t>تتحقق دلالة وجود المنافع عن طريق استلام النقدية أو أى عنصر (عملاء) يمكن بيعه وتحويله الى نقد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9" name=""/>
          <p:cNvSpPr/>
          <p:nvPr/>
        </p:nvSpPr>
        <p:spPr>
          <a:xfrm>
            <a:off x="990720" y="1135080"/>
            <a:ext cx="61498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457200" y="650880"/>
            <a:ext cx="8305920" cy="4848840"/>
          </a:xfrm>
          <a:prstGeom prst="rect">
            <a:avLst/>
          </a:prstGeom>
          <a:noFill/>
          <a:ln w="0">
            <a:noFill/>
          </a:ln>
        </p:spPr>
        <p:style>
          <a:lnRef idx="0"/>
          <a:fillRef idx="0"/>
          <a:effectRef idx="0"/>
          <a:fontRef idx="minor"/>
        </p:style>
        <p:txBody>
          <a:bodyPr lIns="90000" rIns="90000" tIns="46800" bIns="46800" anchor="t">
            <a:spAutoFit/>
          </a:bodyPr>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لتزامات</a:t>
            </a:r>
            <a:endParaRPr b="0" lang="en-US" sz="2400" spc="-1" strike="noStrike">
              <a:solidFill>
                <a:srgbClr val="ffffff"/>
              </a:solidFill>
              <a:latin typeface="Times New Roman"/>
            </a:endParaRPr>
          </a:p>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ثل الالتزامات تعهدات على المنشأة لتحويل منافع اقتصادية نتيجة للمعاملات والأحداث السابقة “</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ea typeface="Times New Roman (Arabic)"/>
              </a:rPr>
              <a:t>1</a:t>
            </a:r>
            <a:r>
              <a:rPr b="1" lang="ar-SA" sz="2400" spc="-1" strike="noStrike">
                <a:solidFill>
                  <a:srgbClr val="fafd00"/>
                </a:solidFill>
                <a:latin typeface="Times New Roman"/>
                <a:ea typeface="Times New Roman (Arabic)"/>
              </a:rPr>
              <a:t>.  </a:t>
            </a:r>
            <a:r>
              <a:rPr b="1" lang="ar-SA" sz="2400" spc="-1" strike="noStrike">
                <a:solidFill>
                  <a:srgbClr val="fafd00"/>
                </a:solidFill>
                <a:latin typeface="Times New Roman"/>
              </a:rPr>
              <a:t>التعهدات</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قد تكون التزامات قانونية أو غير قانونية ( مثال: الالتزامات الضريبية ).</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2</a:t>
            </a:r>
            <a:r>
              <a:rPr b="0" lang="ar-SA" sz="2400" spc="-1" strike="noStrike">
                <a:solidFill>
                  <a:srgbClr val="fafd00"/>
                </a:solidFill>
                <a:latin typeface="Times New Roman"/>
              </a:rPr>
              <a:t>.  </a:t>
            </a:r>
            <a:r>
              <a:rPr b="1" lang="ar-SA" sz="2400" spc="-1" strike="noStrike">
                <a:solidFill>
                  <a:srgbClr val="fafd00"/>
                </a:solidFill>
                <a:latin typeface="Times New Roman"/>
              </a:rPr>
              <a:t>تحويل المنافع الاقتصادية</a:t>
            </a:r>
            <a:endParaRPr b="0" lang="en-US" sz="2400" spc="-1" strike="noStrike">
              <a:solidFill>
                <a:srgbClr val="ffffff"/>
              </a:solidFill>
              <a:latin typeface="Times New Roman"/>
            </a:endParaRPr>
          </a:p>
          <a:p>
            <a:pPr marL="399960" indent="-399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قد يتمثل فى تحويل نقدية أو ممتلكات أخرى أو أداء خدمات أو الامتناع عن القيام بأنشطة معينة تؤدى الى تحقيق الربح أو قد يتمثل فى إنشاء التزام آخر لتسوية التزام قائ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1" name=""/>
          <p:cNvSpPr/>
          <p:nvPr/>
        </p:nvSpPr>
        <p:spPr>
          <a:xfrm>
            <a:off x="533520" y="879480"/>
            <a:ext cx="8153280" cy="4483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حقوق الملكيـــــــــــــــــ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عرف بأنها الرصيد المتبقى بعد طرح كافة الالتزامات من جميع أصول المنشاة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بمجرد زيادة حقوق الملكية تزداد ثروة أصحاب المنشأة بصرف النظر عن إجراء توزيعات للربح أو عدم إجراءها حيث يؤثر ذلك على قيمة السهم.</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تم عرض حقوق الملكية بشكل يوضح الحقوق الناتجة عن مساهمات أصحاب المنشاة عن تلك التى تحققت من أحداث أخرى مثل الإحتياطيات والارباح المحتجزة وخلاف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2" name=""/>
          <p:cNvSpPr/>
          <p:nvPr/>
        </p:nvSpPr>
        <p:spPr>
          <a:xfrm>
            <a:off x="380880" y="304920"/>
            <a:ext cx="8458200" cy="6357240"/>
          </a:xfrm>
          <a:prstGeom prst="rect">
            <a:avLst/>
          </a:prstGeom>
          <a:noFill/>
          <a:ln w="0">
            <a:noFill/>
          </a:ln>
        </p:spPr>
        <p:style>
          <a:lnRef idx="0"/>
          <a:fillRef idx="0"/>
          <a:effectRef idx="0"/>
          <a:fontRef idx="minor"/>
        </p:style>
        <p:txBody>
          <a:bodyPr lIns="90000" rIns="90000" tIns="46800" bIns="46800" anchor="t">
            <a:spAutoFit/>
          </a:bodyPr>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Times New Roman (Arabic)"/>
              </a:rPr>
              <a:t>الدخل (الربح)</a:t>
            </a: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230040" indent="-230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ثل الزيادة فى المنافع الاقتصادية التى تتحقق خلال الفترة المحاسبية عن طريق التدفقات الداخلة ، أو تعظيم قيمة الأصول أو النقص فى الالتزامات ويترتب على ذلك زيادة حقوق الملكية بخلاف الزيادة من مساهمات أصحاب المنشأة“ </a:t>
            </a: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صروفــــات</a:t>
            </a:r>
            <a:endParaRPr b="0" lang="en-US" sz="2400" spc="-1" strike="noStrike">
              <a:solidFill>
                <a:srgbClr val="ffffff"/>
              </a:solidFill>
              <a:latin typeface="Times New Roman"/>
            </a:endParaRPr>
          </a:p>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ثل النقص فى المنافع الاقتصادية التى تتحقق خلال الفترة المحاسبية عن طريق التدفقات الخارجة ، أو نقص فى قيمة الأصول أو زيادة فى قيمة الالتزامات ويترتب على ذلك نقص حقوق الملكية بخلاف التدفقات الخارجة التى تتعلق بتوزيعات الأرباح أو تخفيض مساهمات أصحاب المنشأ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762120"/>
            <a:ext cx="8229600" cy="5580360"/>
          </a:xfrm>
          <a:prstGeom prst="rect">
            <a:avLst/>
          </a:prstGeom>
          <a:noFill/>
          <a:ln w="0">
            <a:noFill/>
          </a:ln>
        </p:spPr>
        <p:style>
          <a:lnRef idx="0"/>
          <a:fillRef idx="0"/>
          <a:effectRef idx="0"/>
          <a:fontRef idx="minor"/>
        </p:style>
        <p:txBody>
          <a:bodyPr lIns="90000" rIns="90000" tIns="46800" bIns="46800" anchor="t">
            <a:spAutoFit/>
          </a:bodyPr>
          <a:p>
            <a:pPr marL="179280" indent="-55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هداف لجنة معايير المحاسبة الدولية</a:t>
            </a:r>
            <a:endParaRPr b="0" lang="en-US" sz="2400" spc="-1" strike="noStrike">
              <a:solidFill>
                <a:srgbClr val="ffffff"/>
              </a:solidFill>
              <a:latin typeface="Times New Roman"/>
            </a:endParaRPr>
          </a:p>
          <a:p>
            <a:pPr marL="179280" indent="-55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Times New Roman (Arabic)"/>
              </a:rPr>
              <a:t> تطوير مجموعة من معايير المحاسبة على المستوى العالمى لخدمة مصالح العامة، وتكون تلك المعايير ذات جودة عالية وقابلة للفهم والتطبيق.</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ن توفر المعايير المحاسبية معلومات ذات جودة عالية وتتمتع بدرجة كبيرة من الشفافية والقابلية للمقارنة وذلك لمساعدة مستخدمى القوائم المالية على اتخاذ القرارات الاقتصادية.</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تشجيع الاستخدام والتطبيق الدقيق لمعايير المحاسبة الدولية.</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إحداث تقارب بين معايير المحاسبة المحلية ومعايير المحاسبة الدولية وتوفير حلول عالية الجودة.</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3" name=""/>
          <p:cNvSpPr/>
          <p:nvPr/>
        </p:nvSpPr>
        <p:spPr>
          <a:xfrm>
            <a:off x="304920" y="609480"/>
            <a:ext cx="82296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تحقق</a:t>
            </a:r>
            <a:r>
              <a:rPr b="1" lang="ar-SA" sz="2400" spc="-1" strike="noStrike">
                <a:solidFill>
                  <a:srgbClr val="fafd00"/>
                </a:solidFill>
                <a:latin typeface="Times New Roman"/>
                <a:ea typeface="Times New Roman (Arabic)"/>
              </a:rPr>
              <a:t> (الاعتراف)</a:t>
            </a:r>
            <a:r>
              <a:rPr b="1" lang="ar-SA" sz="2400" spc="-1" strike="noStrike">
                <a:solidFill>
                  <a:srgbClr val="fafd00"/>
                </a:solidFill>
                <a:latin typeface="Times New Roman"/>
              </a:rPr>
              <a:t> </a:t>
            </a:r>
            <a:r>
              <a:rPr b="1" lang="ar-SA" sz="2400" spc="-1" strike="noStrike">
                <a:solidFill>
                  <a:srgbClr val="fafd00"/>
                </a:solidFill>
                <a:latin typeface="Times New Roman"/>
                <a:cs typeface="Times New Roman (Arabic)"/>
              </a:rPr>
              <a:t>بعناصر</a:t>
            </a:r>
            <a:r>
              <a:rPr b="1" lang="ar-SA" sz="2400" spc="-1" strike="noStrike">
                <a:solidFill>
                  <a:srgbClr val="fafd00"/>
                </a:solidFill>
                <a:latin typeface="Times New Roman"/>
              </a:rPr>
              <a:t> القوائم الم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مثل التحقق من عناصر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حديد وجود هذه العناصر. و</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حديد قيمتها الدفترية. و</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إفصاح عنها ضمن عناصر القوائم المالية.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درج العناصر بالقوائم المال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عند إستيفاء كافة شروط التحقق.</a:t>
            </a:r>
            <a:endParaRPr b="0" lang="en-US" sz="2400" spc="-1" strike="noStrike">
              <a:solidFill>
                <a:srgbClr val="ffffff"/>
              </a:solidFill>
              <a:latin typeface="Times New Roman"/>
            </a:endParaRPr>
          </a:p>
          <a:p>
            <a:pPr marL="457200" indent="-4572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لا تدرج العناصر بالقوائم المال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عند عدم إستيفاء كافة شروط التحقق.</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ويجب الإفصاح عن ذلك.</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4" name=""/>
          <p:cNvSpPr/>
          <p:nvPr/>
        </p:nvSpPr>
        <p:spPr>
          <a:xfrm>
            <a:off x="5013360" y="1260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762120" y="725400"/>
            <a:ext cx="8001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Arial"/>
                <a:cs typeface="Arial"/>
              </a:rPr>
              <a:t>تحديد وجود عناصر القوائم المال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يتم تحديد وجود عنصر القوائم المالية إذا توافرت أحد المعايير التالية: </a:t>
            </a:r>
            <a:endParaRPr b="0" lang="en-US" sz="2400" spc="-1" strike="noStrike">
              <a:solidFill>
                <a:srgbClr val="ffffff"/>
              </a:solidFill>
              <a:latin typeface="Times New Roman"/>
            </a:endParaRPr>
          </a:p>
          <a:p>
            <a:pPr marL="457200" indent="-457200" algn="r" rtl="1">
              <a:lnSpc>
                <a:spcPct val="100000"/>
              </a:lnSpc>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أن ينطبق عليه أحد خصائص التعريف لعناصر القوائم المالية.</a:t>
            </a:r>
            <a:endParaRPr b="0" lang="en-US" sz="2400" spc="-1" strike="noStrike">
              <a:solidFill>
                <a:srgbClr val="ffffff"/>
              </a:solidFill>
              <a:latin typeface="Times New Roman"/>
            </a:endParaRPr>
          </a:p>
          <a:p>
            <a:pPr marL="457200" indent="-457200" algn="r" rtl="1">
              <a:lnSpc>
                <a:spcPct val="100000"/>
              </a:lnSpc>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أن تتوافر أدلة كافية بأن التغير فى الاصول أو الالتزامات المتعلقة بالعنصر قد حدث (التدفقات الداخلة أو الخارجة سوف تحدث)</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مثــــــال:</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Arial"/>
              </a:rPr>
              <a:t>      </a:t>
            </a:r>
            <a:r>
              <a:rPr b="0" lang="ar-SA" sz="2400" spc="-1" strike="noStrike">
                <a:solidFill>
                  <a:srgbClr val="fafd00"/>
                </a:solidFill>
                <a:latin typeface="Arial"/>
                <a:cs typeface="Arial"/>
              </a:rPr>
              <a:t>العقد يكون ملزما حتى لو لم يتم تنفيذه ، مثل الوعود التى أعطيت الى أطراف خارجية لتحويل أرصدة فى المستقبل.</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6" name=""/>
          <p:cNvSpPr/>
          <p:nvPr/>
        </p:nvSpPr>
        <p:spPr>
          <a:xfrm>
            <a:off x="304920" y="609480"/>
            <a:ext cx="861048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حديد القيمة الدفترية لعنصر القوائم المالية (إمكانية القياس النقدى بدرجة يمكن الاعتماد عل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تطلب الامر فى بعض الأحوال تقدير بعض العناصر (الإهلاكات ، المستحقات )</a:t>
            </a:r>
            <a:r>
              <a:rPr b="0" lang="ar-EG" sz="2400" spc="-1" strike="noStrike">
                <a:solidFill>
                  <a:srgbClr val="fafd00"/>
                </a:solidFill>
                <a:latin typeface="Times New Roman"/>
                <a:ea typeface="Times New Roman (Arabic)"/>
              </a:rPr>
              <a:t>.</a:t>
            </a:r>
            <a:endParaRPr b="0" lang="en-US" sz="2400" spc="-1" strike="noStrike">
              <a:solidFill>
                <a:srgbClr val="ffffff"/>
              </a:solidFill>
              <a:latin typeface="Times New Roman"/>
            </a:endParaRPr>
          </a:p>
          <a:p>
            <a:pPr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كون استخدام التقديرات المحاسبية مقبولا بشرط أن تكون هذه التقديرات مناسبة ومتحفظ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مثــــــل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اعتراف بالأرباح فى العقود طويلة الأجل بشرط التقدير المناسب والمتحفظ لنسبة الإنجاز والربح.</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اعتراف بالخسائر الناتجة عن الالتزامات المحتملة بشرط التقدير المناسب والمتحفظ لقيمة تلك الخسائ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7" name=""/>
          <p:cNvSpPr/>
          <p:nvPr/>
        </p:nvSpPr>
        <p:spPr>
          <a:xfrm>
            <a:off x="228600" y="955800"/>
            <a:ext cx="830592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عتراف بالأصول والالتزام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تم الاعتراف بالأصول والالتزامات على ثلاثة مراح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الاعتراف المبدئى</a:t>
            </a:r>
            <a:r>
              <a:rPr b="0" lang="ar-SA" sz="2400" spc="-1" strike="noStrike">
                <a:solidFill>
                  <a:srgbClr val="fafd00"/>
                </a:solidFill>
                <a:latin typeface="Times New Roman"/>
              </a:rPr>
              <a:t>  (الاعتراف بأحد عناصر الأصول الثابتة عند الاقتناء).</a:t>
            </a: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إعادة القياس اللاحق</a:t>
            </a:r>
            <a:r>
              <a:rPr b="0" lang="ar-SA" sz="2400" spc="-1" strike="noStrike">
                <a:solidFill>
                  <a:srgbClr val="fafd00"/>
                </a:solidFill>
                <a:latin typeface="Times New Roman"/>
              </a:rPr>
              <a:t>  (إعادة تقييم الأصل السابق اقتناء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الاستبعاد</a:t>
            </a:r>
            <a:r>
              <a:rPr b="0" lang="ar-SA" sz="2400" spc="-1" strike="noStrike">
                <a:solidFill>
                  <a:srgbClr val="fafd00"/>
                </a:solidFill>
                <a:latin typeface="Times New Roman"/>
              </a:rPr>
              <a:t>  (بيع الأصل أو إزالت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8" name=""/>
          <p:cNvSpPr/>
          <p:nvPr/>
        </p:nvSpPr>
        <p:spPr>
          <a:xfrm>
            <a:off x="457200" y="533520"/>
            <a:ext cx="8229600" cy="5214600"/>
          </a:xfrm>
          <a:prstGeom prst="rect">
            <a:avLst/>
          </a:prstGeom>
          <a:noFill/>
          <a:ln w="0">
            <a:noFill/>
          </a:ln>
        </p:spPr>
        <p:style>
          <a:lnRef idx="0"/>
          <a:fillRef idx="0"/>
          <a:effectRef idx="0"/>
          <a:fontRef idx="minor"/>
        </p:style>
        <p:txBody>
          <a:bodyPr lIns="90000" rIns="90000" tIns="46800" bIns="46800" anchor="t">
            <a:spAutoFit/>
          </a:bodyPr>
          <a:p>
            <a:pPr marL="338040" indent="-230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عتراف بالإيرادات</a:t>
            </a:r>
            <a:endParaRPr b="0" lang="en-US" sz="2400" spc="-1" strike="noStrike">
              <a:solidFill>
                <a:srgbClr val="ffffff"/>
              </a:solidFill>
              <a:latin typeface="Times New Roman"/>
            </a:endParaRPr>
          </a:p>
          <a:p>
            <a:pPr marL="338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حقق الإيرادات والمكاسب عند وجود زيادة فى أصول المنشأة أو عند تخفيض التزاماتها قبل انتهاء الفترة المحاسبة. </a:t>
            </a:r>
            <a:endParaRPr b="0" lang="en-US" sz="2400" spc="-1" strike="noStrike">
              <a:solidFill>
                <a:srgbClr val="ffffff"/>
              </a:solidFill>
              <a:latin typeface="Times New Roman"/>
            </a:endParaRPr>
          </a:p>
          <a:p>
            <a:pPr marL="338040" indent="-23004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إن الإيراد الذى يدرج فى قائمة الدخل لابد وأن يكون تحقق حيث تستخدم تلك القائمة فى قياس أداء المنشأة.</a:t>
            </a:r>
            <a:endParaRPr b="0" lang="en-US" sz="2400" spc="-1" strike="noStrike">
              <a:solidFill>
                <a:srgbClr val="ffffff"/>
              </a:solidFill>
              <a:latin typeface="Times New Roman"/>
            </a:endParaRPr>
          </a:p>
          <a:p>
            <a:pPr marL="338040" indent="-23004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مثل شروط تحقق الإيراد فيما يلى:</a:t>
            </a:r>
            <a:endParaRPr b="0" lang="en-US" sz="2400" spc="-1" strike="noStrike">
              <a:solidFill>
                <a:srgbClr val="ffffff"/>
              </a:solidFill>
              <a:latin typeface="Times New Roman"/>
            </a:endParaRPr>
          </a:p>
          <a:p>
            <a:pPr lvl="1" marL="1077840" indent="-457200" algn="just" rtl="1">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Times New Roman"/>
              </a:rPr>
              <a:t> توافر أدلة واضحة عن وجودها الفعلى. و</a:t>
            </a:r>
            <a:endParaRPr b="0" lang="en-US" sz="2400" spc="-1" strike="noStrike">
              <a:solidFill>
                <a:srgbClr val="ffffff"/>
              </a:solidFill>
              <a:latin typeface="Times New Roman"/>
            </a:endParaRPr>
          </a:p>
          <a:p>
            <a:pPr lvl="1" marL="1077840" indent="-457200" algn="just" rtl="1">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Times New Roman"/>
              </a:rPr>
              <a:t> توافر أدلة عن القيمة التى يجب أن تدرج بها (تحقيق المقابل النقدى أو يمكن تحولها الى نقدية وأن يكون ذلك مضمونا بدرجة معقولة).</a:t>
            </a:r>
            <a:endParaRPr b="0" lang="en-US" sz="2400" spc="-1" strike="noStrike">
              <a:solidFill>
                <a:srgbClr val="ffffff"/>
              </a:solidFill>
              <a:latin typeface="Times New Roman"/>
            </a:endParaRPr>
          </a:p>
          <a:p>
            <a:pPr lvl="1" marL="1077840" indent="-45720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9" name=""/>
          <p:cNvSpPr/>
          <p:nvPr/>
        </p:nvSpPr>
        <p:spPr>
          <a:xfrm>
            <a:off x="533520" y="1143000"/>
            <a:ext cx="7696080" cy="24940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عتراف بالمصروفـــــــــات</a:t>
            </a:r>
            <a:endParaRPr b="0" lang="en-US" sz="2400" spc="-1" strike="noStrike">
              <a:solidFill>
                <a:srgbClr val="ffffff"/>
              </a:solidFill>
              <a:latin typeface="Times New Roman"/>
            </a:endParaRPr>
          </a:p>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حقق المصروفات والخسائر عند وجود نقص فى أصول المنشأة أو عند زيادة التزاماتها قبل انتهاء الفترة المحاسبية.</a:t>
            </a:r>
            <a:endParaRPr b="0" lang="en-US" sz="2400" spc="-1" strike="noStrike">
              <a:solidFill>
                <a:srgbClr val="ffffff"/>
              </a:solidFill>
              <a:latin typeface="Times New Roman"/>
            </a:endParaRPr>
          </a:p>
          <a:p>
            <a:pPr marL="168120" indent="-168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0" name=""/>
          <p:cNvSpPr/>
          <p:nvPr/>
        </p:nvSpPr>
        <p:spPr>
          <a:xfrm>
            <a:off x="609480" y="762120"/>
            <a:ext cx="8077320" cy="599148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afd00"/>
                </a:solidFill>
                <a:latin typeface="Times New Roman"/>
              </a:rPr>
              <a:t>تبنت لجنة معايير المحاسبة الدولية مدخل الميزانية فيما يتعلق بتحقق الإيرادات والمصروفات والمكاسب والخسائر وهو يختلف عن مدخل المعاملات الذى يتناوله معيار </a:t>
            </a:r>
            <a:r>
              <a:rPr b="0" lang="ar-SA" sz="2400" spc="-1" strike="noStrike">
                <a:solidFill>
                  <a:srgbClr val="fafd00"/>
                </a:solidFill>
                <a:latin typeface="Times New Roman"/>
                <a:cs typeface="Times New Roman (Arabic)"/>
              </a:rPr>
              <a:t>المحاسبة</a:t>
            </a:r>
            <a:r>
              <a:rPr b="0" lang="ar-SA" sz="2400" spc="-1" strike="noStrike">
                <a:solidFill>
                  <a:srgbClr val="fafd00"/>
                </a:solidFill>
                <a:latin typeface="Times New Roman"/>
              </a:rPr>
              <a:t> المصرى رقم (</a:t>
            </a:r>
            <a:r>
              <a:rPr b="0" lang="ar-SA" sz="2400" spc="-1" strike="noStrike">
                <a:solidFill>
                  <a:srgbClr val="fafd00"/>
                </a:solidFill>
                <a:latin typeface="Times New Roman"/>
              </a:rPr>
              <a:t>11</a:t>
            </a:r>
            <a:r>
              <a:rPr b="0" lang="ar-SA" sz="2400" spc="-1" strike="noStrike">
                <a:solidFill>
                  <a:srgbClr val="fafd00"/>
                </a:solidFill>
                <a:latin typeface="Times New Roman"/>
              </a:rPr>
              <a:t>) الخاص بتحقق الإيراد حيث ينص على الاعتراف بهذه العناصر عند توافر شروط محددة أخرى.</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استبعاد (إلغاء تحقق 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 يكون استبعاد الإيراد مطلوبا عند إلغاء حدث سبق الاعتراف به كأصل أو كالتزام أو عندما تصبح الأدلة التى تم الحصول عليها غير كافية أو غير ملائمة للاستمرار فى عملية الاعتراف.</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1" name=""/>
          <p:cNvSpPr/>
          <p:nvPr/>
        </p:nvSpPr>
        <p:spPr>
          <a:xfrm>
            <a:off x="609480" y="838080"/>
            <a:ext cx="7696440" cy="49093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ق قياس عناصر القوائم المالية</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تكلفة التاريخ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تكلفة الجار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قيمة التى يمكن تحقيقها. (القيمة السوق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قيمة الح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2" name=""/>
          <p:cNvSpPr/>
          <p:nvPr/>
        </p:nvSpPr>
        <p:spPr>
          <a:xfrm>
            <a:off x="533520" y="228600"/>
            <a:ext cx="7696080" cy="6181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تكلفة التاريخ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سجل الأصول بقيمة النقدية او المقابل النقدى المحدد أو بالقيمة العادلة للمقابل الذى قدم عند اقتناء الاصول ، فى حين تسجل الالتزامات بقيمة المتحصلات المستلمة مقابل تحمل هذا الالتزا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تكلفة الجار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قيم الأصول بقيمة النقدية أو ما يعادلها المطلوبة لاقتنائها الآن. كما يتم تقييم الالتزامات بالقيمة غير المخصومة المطلوبة حاليا للوفاء بهذه الالتزامات.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3" name=""/>
          <p:cNvSpPr/>
          <p:nvPr/>
        </p:nvSpPr>
        <p:spPr>
          <a:xfrm>
            <a:off x="380880" y="1184400"/>
            <a:ext cx="8382240" cy="44982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قيمة السوق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قيم الأصول بالقيمة التى يمكن الحصول عليها عند بيع الأصول ، كما تقيم الالتزامات بالقيمة المطلوبة لتسويتها التى تمثل المبلغ المطلوب لسدادها فى الظروف العاد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قيمة الحال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تم تقييم الاصول بالقيمة الحالية المخصومة للتدفقات النقدية المستقبلية التى من المتوقع أن تحققها تلك الأصول فى ظل الظروف العادية. كما يتم تقييم الالتزامات بالقيمة الحالية للتدفقات النقدية المستقبلية المطلوبة للوفاء بهذه الالتزام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1523880"/>
            <a:ext cx="8305920" cy="338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لتزام بمعايير المحاسبة الدول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تضمن بعض الدول الأخرى حد ادنى من الفروق بين معاييرها المحلية ومعايير المحاسبة الدول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4" name=""/>
          <p:cNvSpPr/>
          <p:nvPr/>
        </p:nvSpPr>
        <p:spPr>
          <a:xfrm>
            <a:off x="457200" y="380880"/>
            <a:ext cx="8381880" cy="7409160"/>
          </a:xfrm>
          <a:prstGeom prst="rect">
            <a:avLst/>
          </a:prstGeom>
          <a:noFill/>
          <a:ln w="0">
            <a:noFill/>
          </a:ln>
        </p:spPr>
        <p:style>
          <a:lnRef idx="0"/>
          <a:fillRef idx="0"/>
          <a:effectRef idx="0"/>
          <a:fontRef idx="minor"/>
        </p:style>
        <p:txBody>
          <a:bodyPr lIns="90000" rIns="90000" tIns="46800" bIns="46800" anchor="t">
            <a:spAutoFit/>
          </a:bodyPr>
          <a:p>
            <a:pPr marL="338040" indent="-338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فهوم رأس المال والمحافظة عليه</a:t>
            </a: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هناك مفهومان للمحافظة على رأس المال:</a:t>
            </a: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افظة على رأس المال المالى.</a:t>
            </a:r>
            <a:endParaRPr b="0" lang="en-US" sz="2400" spc="-1" strike="noStrike">
              <a:solidFill>
                <a:srgbClr val="ffffff"/>
              </a:solidFill>
              <a:latin typeface="Times New Roman"/>
            </a:endParaRPr>
          </a:p>
          <a:p>
            <a:pPr lvl="1" marL="452520" indent="61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Pr>
              <a:t>إن الأرباح يتم اكتسابها عندما يكون صافى الأصول فى نهاية الفترة المحاسبية يزيد على قيمة صافى الاصول فى بداية الفترة المحاسبية.</a:t>
            </a:r>
            <a:endParaRPr b="0" lang="en-US" sz="2400" spc="-1" strike="noStrike">
              <a:solidFill>
                <a:srgbClr val="ffffff"/>
              </a:solidFill>
              <a:latin typeface="Times New Roman"/>
            </a:endParaRPr>
          </a:p>
          <a:p>
            <a:pPr marL="338040" indent="-33804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افظة على رأس المال المادى.</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إن الأرباح يتم اكتسابها عندما تزيد القدرة الإنتاجية الفعلية للنشاط فى نهاية الفترة المحاسبية عنها فى بداية الفترة المحاسبية. ويتطلب هذا المفهوم استخدام طريقة التكلفة الجارية كأساس لقياس عناصر القوائم المالية.</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حدد كل من أساس القياس وكذا مفهوم المحافظة على رأس المال المعالجة المحاسبية التى تستخدم عند إعداد القوائم المالية.</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5" name=""/>
          <p:cNvSpPr/>
          <p:nvPr/>
        </p:nvSpPr>
        <p:spPr>
          <a:xfrm>
            <a:off x="1600200" y="113652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يار المحاسبة الدولى رقم (</a:t>
            </a:r>
            <a:r>
              <a:rPr b="1" lang="ar-SA" sz="2200" spc="-1" strike="noStrike">
                <a:solidFill>
                  <a:srgbClr val="fafd00"/>
                </a:solidFill>
                <a:latin typeface="Univers 45 Light"/>
                <a:ea typeface="Times New Roman (Arabic)"/>
              </a:rPr>
              <a:t>1</a:t>
            </a:r>
            <a:r>
              <a:rPr b="1" lang="ar-SA" sz="2200" spc="-1" strike="noStrike">
                <a:solidFill>
                  <a:srgbClr val="fafd00"/>
                </a:solidFill>
                <a:latin typeface="Univers 45 Light"/>
                <a:ea typeface="Times New Roman (Arabic)"/>
              </a:rPr>
              <a:t>) ”المعدل“ عرض القوائم المالية</a:t>
            </a:r>
            <a:endParaRPr b="0" lang="en-US" sz="2200" spc="-1" strike="noStrike">
              <a:solidFill>
                <a:srgbClr val="ffffff"/>
              </a:solidFill>
              <a:latin typeface="Times New Roman"/>
            </a:endParaRPr>
          </a:p>
        </p:txBody>
      </p:sp>
      <p:sp>
        <p:nvSpPr>
          <p:cNvPr id="266" name=""/>
          <p:cNvSpPr/>
          <p:nvPr/>
        </p:nvSpPr>
        <p:spPr>
          <a:xfrm>
            <a:off x="533520" y="2579760"/>
            <a:ext cx="7924680" cy="2440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مقد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يتناول هذا المعيار فقط المفاهيم الأساسية للمحاسبة والإفصاح عن السياسات المحاسبية كما يتناول الأمور المتعلقة بعرض الأصول والالتزامات المتداولة فضلا عن المعلومات التي يتعين الإفصاح عنها في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7" name=""/>
          <p:cNvSpPr/>
          <p:nvPr/>
        </p:nvSpPr>
        <p:spPr>
          <a:xfrm>
            <a:off x="380880" y="762120"/>
            <a:ext cx="8382240" cy="679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مفاهيم الأساسية للمحاسب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فهوم الاستحقاق</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يعنى أن يتم الاعتراف بالعمليات والأحداث عند حدوثها وليس عند سداد أو تحصيل النقدية كما يتم الاعتراف بالمصروفات في قائمة الدخل على أساس الارتباط المباشر بين التكاليف التي حدثت واكتساب الإيراد المرتبط ب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فهوم الاستمرا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هو يعنى انه طالما أن إدارة المنشاة مقتنعة بأنه لا يوجد أي عدم تأكد جوهري عن قدرة المشاة على عدم الاستمرار في المستقبل المنظور فيجب إعداد القوائم المالية بفرض أن المنشاة مستم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مفهوم تجانس العرض</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محافظة على طريقة عرض وتبويب عناصر القوائم المالية من فترة إلى أخرى إلا إذ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ذا كان من الواضح أن التغيير سيؤدى إلى عرض اكثر ملائمة. أ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ن يكون التغيير مطلوبا من أحد المعايير الدولية أو تفسيراتها أو بموجب قانو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458200" cy="5456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فهوم الأهمية والتجميع</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كون العنصر مهم أو جوهري إذا ترتب على حذفه أو عرضه بطريقة غير ملائمة التأثير على القرارات الاقتصادية التي يتخذها مستخدم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مقا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ea typeface="Times New Roman (Arabic)"/>
              </a:rPr>
              <a:t> </a:t>
            </a:r>
            <a:r>
              <a:rPr b="0" lang="ar-SA" sz="2200" spc="-1" strike="noStrike">
                <a:solidFill>
                  <a:srgbClr val="fafd00"/>
                </a:solidFill>
                <a:latin typeface="Univers 45 Light"/>
                <a:cs typeface="Times New Roman (Arabic)"/>
              </a:rPr>
              <a:t>يجب عدم إجراء المقاصة بين الأصول والالتزامات إلا إذا كان هناك حق قانوني يسمح بالمقاصة أو كان ذلك مطلوبا من أحد معايير المحاسبة الدولية أو تفسيرات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معلومات المقارن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ea typeface="Times New Roman (Arabic)"/>
              </a:rPr>
              <a:t> </a:t>
            </a:r>
            <a:r>
              <a:rPr b="0" lang="ar-SA" sz="2200" spc="-1" strike="noStrike">
                <a:solidFill>
                  <a:srgbClr val="fafd00"/>
                </a:solidFill>
                <a:latin typeface="Univers 45 Light"/>
                <a:cs typeface="Times New Roman (Arabic)"/>
              </a:rPr>
              <a:t>يجب الإفصاح عن المعلومات المقارنة للفترة السابقة إلا إذا كان أحد المعايير المحاسبية الدولية يسمح أو يتطلب شيئا آخ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9" name=""/>
          <p:cNvSpPr/>
          <p:nvPr/>
        </p:nvSpPr>
        <p:spPr>
          <a:xfrm>
            <a:off x="533520" y="762120"/>
            <a:ext cx="8153280" cy="5456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سيا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على المنشاة اختيار وتطبيق سياسات محاسبية ملائمة حتى تتفق القوائم المالية مع معايير المحاسبة الدولية وتفسيراتها، وفى حالة عدم وجود متطلبات خاصة يجب اختيار السياسات التي تتصف بما ي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لائمة لاحتياجات المستخدمين ل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مكن الاعتماد عليها بحيث يتوافر فيها ما ي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تعبر بصدق عن نتائج الأعمال والمركز الما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تعكس الجوهر الاقتصادي للأحداث والمعاملات وليس شكلها القانون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محايدة وخالية من التحيز</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سياسة متحفظ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تتصف بالاكتمال في كل جوانبها الها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0" name=""/>
          <p:cNvSpPr/>
          <p:nvPr/>
        </p:nvSpPr>
        <p:spPr>
          <a:xfrm>
            <a:off x="533520" y="838080"/>
            <a:ext cx="8229600" cy="5121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فسير لجنة التفسيرات الدائمة رقم (</a:t>
            </a:r>
            <a:r>
              <a:rPr b="1" lang="ar-SA" sz="2200" spc="-1" strike="noStrike">
                <a:solidFill>
                  <a:srgbClr val="fafd00"/>
                </a:solidFill>
                <a:latin typeface="Univers 45 Light"/>
                <a:ea typeface="Times New Roman (Arabic)"/>
              </a:rPr>
              <a:t>8</a:t>
            </a:r>
            <a:r>
              <a:rPr b="1"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اول فترة تطبق فيها معايير المحاسبة الدولية فى إعداد القوائم المالية، يجب إعداد القوائم المالية كما لو كانت تلك القوائم تعد دائما طبقا لمعايير المحاسبة الدولية إلا إذا كانت مبالغ التسويات المطلوب إجرائها للفترات السابقة من الصعب تحديدها ففى هذه الحالة يلزم الافصاح عن تلك الحقيق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فسير لجنة التفسيرات الدائمة رقم (</a:t>
            </a:r>
            <a:r>
              <a:rPr b="1" lang="ar-SA" sz="2200" spc="-1" strike="noStrike">
                <a:solidFill>
                  <a:srgbClr val="fafd00"/>
                </a:solidFill>
                <a:latin typeface="Univers 45 Light"/>
                <a:ea typeface="Times New Roman (Arabic)"/>
              </a:rPr>
              <a:t>18</a:t>
            </a:r>
            <a:r>
              <a:rPr b="1"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ندما توجد اكثر من طريقة مسموح بها طبقا للمعايير الدولية  للمحاسبة عن عنصر ما يجب على المنشاة اختيار واستخدام نفس الطريقة المحاسبية بصفة مستمرة على ان يتم اختيار السياسة الاكثر ملائ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1" name=""/>
          <p:cNvSpPr/>
          <p:nvPr/>
        </p:nvSpPr>
        <p:spPr>
          <a:xfrm>
            <a:off x="380880" y="990720"/>
            <a:ext cx="822960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تحديد القوائم المال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ن تكون القوائم المالية محددة بوضوح ومميزة عن المعلومات الاخرى المنشورة فى نفس التقري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تحديد كل مكون من مكونات القوائم المالية بوضوح.</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أسم المنشاة التى يتم التقرير عن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ما إذا كانت القوائم المالية تغطى منشاة واحدة أو مجموعة منشآ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تاريخ الميزانية و الفترة التى تغطيها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العملة التى يتم التقرير ب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مستوى الدقة المستخدمة فى عرض أرقام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2" name=""/>
          <p:cNvSpPr/>
          <p:nvPr/>
        </p:nvSpPr>
        <p:spPr>
          <a:xfrm>
            <a:off x="228600" y="762120"/>
            <a:ext cx="8686800" cy="6462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فترة التى تغطيها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أن تعرض القوائم المالية على الاقل سنويا، وعندما تعرض القوائم المالية عن فترة أطول من او اقل من سنة يجب الافصاح عن ذلك وأسبابه وحقيقة ان ارقام المقارنة بالنسبة لقائمة الدخل ، التغير فى حقوق المساهمين، قائمة التدفقات النقدية والايضاحات المتممة غير قابلة للمقارنة.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صنيف العناصر المتداولة وغير المتداولة بالميزا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لم يتطلب المعيار المعدل معالجات خاصة على الرغم من ان النماذج المرفقة بالمعيار فيما يخص عرض بنود الميزانية تضمنت الفصل بين العناصر المتداولة وغير ال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ذا لم يتم الفصل بين العناصر المتداولة وغير المتداولة عندئذ فإن الاصول والالتزامات يجب ان تعرض بشكل أوسع حسب درجة سيولتها وفى جميع الاحوال يجب على المنشاة ان توضح بالنسبة لكل عنصر من عناصر الاصول والالتزامات المبالغ المتوقع ان يتم تسويتها أو استردادها قبل أو بعد اثنى عشر شهرا من تاريخ الميزا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3" name=""/>
          <p:cNvSpPr/>
          <p:nvPr/>
        </p:nvSpPr>
        <p:spPr>
          <a:xfrm>
            <a:off x="228600" y="380880"/>
            <a:ext cx="8686800" cy="679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صنيف الاصول كأصول 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كون من المتوقع أن يتحقق او ان يتم الاحتفاظ بها للبيع أو يستهلك خلال الدورة التشغيلية العادية للمنشاة. ا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تم الاحتفاظ به مبدئيا بهدف المتاجرة أو لفترة قصيرة (اثنى عشر شهرا من تاريخ الميزانية) أ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نقدية أو ما فى حكمها غير المشروطة ولا يكون استخدامها مقيد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تصنيف الالتزامات ال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كون من المتوقع ان يتم تسويتها خلال الدورة التشغيلية العادية للمنشاة. أ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نه من المتوقع أن يتم تسويتها خلال اثنى عشر شهرا من تاريخ الميزا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يمكن تصنيف الالتزامات المتداولة باعتبارها التزامات غير متداولة عندم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نوى المنشاة إعادة جدولة التزاماتها المتداولة أو إعادة التمويل على اساس طويل الاجل. 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هذه النية مؤيدة باتفاق لإعادة الجدولة للمدفوعات أو لإعادة التمويل والتى يتم الاتفاق عليها قبل اعتماد القوائم المالي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4" name=""/>
          <p:cNvSpPr/>
          <p:nvPr/>
        </p:nvSpPr>
        <p:spPr>
          <a:xfrm>
            <a:off x="457200" y="609480"/>
            <a:ext cx="830592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لومات يم الافصاح عنها فى صلب الميزانية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عقارات والآلات والمعد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صول غير الملموس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صول المالية (بخلاف الاستثمارات طويلة الاجل، والعملاء والنقدية وما فى حكم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ستثمارات يتم المحاسبة عنها بطريقة حقوق الملك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خزو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ملاء.</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نقدية وما فى حكم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وردو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تزامات وأصول ضريبية الجارية والمؤج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خصص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تزامات غير 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قوق الاق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رأس المال والاحتياطيات والارباح المحتجز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457200" y="574560"/>
            <a:ext cx="81532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إجراءات إعداد معيار محاسبة دولى</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بموجب موافقة </a:t>
            </a:r>
            <a:r>
              <a:rPr b="0" lang="ar-SA" sz="2400" spc="-1" strike="noStrike">
                <a:solidFill>
                  <a:srgbClr val="fafd00"/>
                </a:solidFill>
                <a:latin typeface="Times New Roman"/>
                <a:cs typeface="Times New Roman (Arabic)"/>
              </a:rPr>
              <a:t>ثلثى</a:t>
            </a:r>
            <a:r>
              <a:rPr b="0" lang="ar-SA" sz="2400" spc="-1" strike="noStrike">
                <a:solidFill>
                  <a:srgbClr val="fafd00"/>
                </a:solidFill>
                <a:latin typeface="Times New Roman"/>
              </a:rPr>
              <a:t> أعضاء المجلس على المسودة، يتم نشرها ودعوة الجهات المهتمة إلى تقديم آرائها ومقترحاتها.</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بعد المراجعة النهائية لمسودة المناقشة يتم نشر هذه المسودة كمعيار وذلك بعد موافقة ثلاثة أرباع أعضاء المجلس على الاق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5" name=""/>
          <p:cNvSpPr/>
          <p:nvPr/>
        </p:nvSpPr>
        <p:spPr>
          <a:xfrm>
            <a:off x="533520" y="685800"/>
            <a:ext cx="8283600" cy="5456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معلومات يتم عرضها إما فى صلب الميزانية او فى الايضاحات المتممة للقوائم الما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بالغ التى سيتم سدادها بواسطة الشركة الام والشركات التابعة أو الشركات الشقيقة او أى أطراف ذات علاقة اخرى.</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دد الاسهم المصرح بها والمصدرة والمدفوعة بالكامل والمصدرة وغير مدفوع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قيمة الاسمية للسهم</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سوية عدد الاسهم القائمة فى بداية ونهاية السن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حقوق والامتياز والقيود المتصلة بالاسهم.</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سهم حقوق الاختيار</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سهم الخزانة للشركة </a:t>
            </a:r>
            <a:r>
              <a:rPr b="0" lang="ar-EG" sz="2200" spc="-1" strike="noStrike">
                <a:solidFill>
                  <a:srgbClr val="fafd00"/>
                </a:solidFill>
                <a:latin typeface="Univers 45 Light"/>
                <a:cs typeface="Times New Roman (Arabic)"/>
              </a:rPr>
              <a:t>أو</a:t>
            </a:r>
            <a:r>
              <a:rPr b="0" lang="ar-SA" sz="2200" spc="-1" strike="noStrike">
                <a:solidFill>
                  <a:srgbClr val="fafd00"/>
                </a:solidFill>
                <a:latin typeface="Univers 45 Light"/>
                <a:ea typeface="Times New Roman (Arabic)"/>
              </a:rPr>
              <a:t> الشركات المرتبطة ب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صف الاحتياطيات وطبيعت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قتراح التوزيعات التى لم يتم إقرارها بعد.</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6" name=""/>
          <p:cNvSpPr/>
          <p:nvPr/>
        </p:nvSpPr>
        <p:spPr>
          <a:xfrm>
            <a:off x="304920" y="914400"/>
            <a:ext cx="8458200" cy="411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لومات يم الافصاح عنها فى صلب قائمة الدخ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يرادات</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نتائج وانشطة التشغي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كاليف التموي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صة الشركة فى الارباح والخسائر للشركات الشقيقة أو المشروعات المشترك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صروفات الضرائب</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رباح والخسائر من الانشطة العا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عناصر غير العا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قوق الاقلية فى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صافة الارباح او الخسائر للفتر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7" name=""/>
          <p:cNvSpPr/>
          <p:nvPr/>
        </p:nvSpPr>
        <p:spPr>
          <a:xfrm>
            <a:off x="228600" y="762120"/>
            <a:ext cx="8686800" cy="5791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لومات يتم عرضها إما فى صلب قائمة الدخل او فى الايضاحات المتممة للقوائم الما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تم العرض فى صلب قائمة الدخل او فى الايضاحات المتممة تحليل المصروفات إما على اساس طبيعة المصروف أو على الاساس الوظيفى داخل الشرك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ظل طريقة التصنيف على اساس طبيعة المصروف يتم تجميع المصروفات فى قائمة الدخل تبعا لطبيعتها (الاهلاك ، مشتريات المواد الخام، تكاليف الانتقال، مرتبات واجور، تكاليف الاعلان) ولا يتم تخصيصها على الوظائف الرئيسية للمنشاة</a:t>
            </a:r>
            <a:r>
              <a:rPr b="0" lang="ar-EG"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ظل طريقة التصنيف على الأساس الوظيفي للمصروف ف‘نه يتم تصنيف المصروفات تبعا لوظيفتها كجزء من تكلفة المبيعات والعملية البيعية والأنشطة الإدار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8" name=""/>
          <p:cNvSpPr/>
          <p:nvPr/>
        </p:nvSpPr>
        <p:spPr>
          <a:xfrm>
            <a:off x="380880" y="838080"/>
            <a:ext cx="838224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قائمة التغير فى حقوق الملك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صافى الربح والخسارة للفتر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كل عناصر الدخل والمكاسب والمصروفات والخسائر التي تتطلب المعايير المحاسبية الدولية أن يتم الاعتراف بها مباشرة في حقوق الملك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تأثير التجميعي للتغيرات في السياسات المحاسبية وتصحيح الأخطاء</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مليات راس المال مع المساهمين وتوزيعات المساهمي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ركة ورصيد أي حسابات أخرى من حسابات حقوق الملك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9" name=""/>
          <p:cNvSpPr/>
          <p:nvPr/>
        </p:nvSpPr>
        <p:spPr>
          <a:xfrm>
            <a:off x="380880" y="609480"/>
            <a:ext cx="8382240" cy="5121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إفصاحات أخرى</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أن يصف قسم السياسات المحاسبية في الإيضاحات المتممة للقوائم المالية أساس أو أسس القياس المستخدمة لإعداد القوائم المالية وكذا كل السياسات المحاسبية الهامة المستخد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وطن المنشاة وشكلها القانوني وبلد التسجيل وعنوان المكتب المسجلة به المنشاة فى بلد التأسيس.</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شرح لطبيعة عمليات المنشاة وأنشطتها الرئيس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سم الشركة الام الرئيسية للمجموع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ما عدد العاملين في نهاية الفترة أو متوسط عددهم خلال الفت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80" name=""/>
          <p:cNvSpPr/>
          <p:nvPr/>
        </p:nvSpPr>
        <p:spPr>
          <a:xfrm>
            <a:off x="380880" y="762120"/>
            <a:ext cx="838224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محاسبة عن الشركات الصغي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برغم الجدل الدائر عن مدى تطبيق معايير المحاسبة الدولية على المنشآت الصغيرة فإن لجن</a:t>
            </a:r>
            <a:r>
              <a:rPr b="0" lang="ar-EG" sz="2200" spc="-1" strike="noStrike">
                <a:solidFill>
                  <a:srgbClr val="fafd00"/>
                </a:solidFill>
                <a:latin typeface="Univers 45 Light"/>
                <a:cs typeface="Times New Roman (Arabic)"/>
              </a:rPr>
              <a:t>ة</a:t>
            </a:r>
            <a:r>
              <a:rPr b="0" lang="ar-SA" sz="2200" spc="-1" strike="noStrike">
                <a:solidFill>
                  <a:srgbClr val="fafd00"/>
                </a:solidFill>
                <a:latin typeface="Univers 45 Light"/>
                <a:ea typeface="Times New Roman (Arabic)"/>
              </a:rPr>
              <a:t> معايير المحاسبة الدولية لا زالت ترى أن مجموعة واحدة من المعايير المحاسبية الدولية يجب ان تكون إلزامية لكل من الشركات الصغيرة والكبي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قام مجلس المعايير المحاسبية بإنجلترا بإصدار معايير للتقارير المالية للمنشآت الصغيرة والتى تمثل متطلبات مبسطة من كل من المعايير المحاسبية المستخد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هناك تأييد متزايد وقوى نحو ضرورة تخفيض متطلبات التقرير العامة بالنسبة للمنشآت الصغيرة تطبيقا لمبدأ التكلفة والعائد</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685800"/>
            <a:ext cx="8153640" cy="55803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لجنة الدائمة لتفسير معايير المحاسبة الدو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مت لجنة معايير المحاسبة الدولية عام</a:t>
            </a:r>
            <a:r>
              <a:rPr b="0" lang="ar-SA" sz="2400" spc="-1" strike="noStrike">
                <a:solidFill>
                  <a:srgbClr val="fafd00"/>
                </a:solidFill>
                <a:latin typeface="Times New Roman"/>
              </a:rPr>
              <a:t>19</a:t>
            </a:r>
            <a:r>
              <a:rPr b="0" lang="ar-SA" sz="2400" spc="-1" strike="noStrike">
                <a:solidFill>
                  <a:srgbClr val="fafd00"/>
                </a:solidFill>
                <a:latin typeface="Times New Roman"/>
                <a:ea typeface="Times New Roman (Arabic)"/>
              </a:rPr>
              <a:t>9</a:t>
            </a:r>
            <a:r>
              <a:rPr b="0" lang="ar-SA" sz="2400" spc="-1" strike="noStrike">
                <a:solidFill>
                  <a:srgbClr val="fafd00"/>
                </a:solidFill>
                <a:latin typeface="Times New Roman"/>
              </a:rPr>
              <a:t>7</a:t>
            </a:r>
            <a:r>
              <a:rPr b="0" lang="ar-SA" sz="2400" spc="-1" strike="noStrike">
                <a:solidFill>
                  <a:srgbClr val="fafd00"/>
                </a:solidFill>
                <a:latin typeface="Times New Roman"/>
              </a:rPr>
              <a:t> بتشكيل لجنة التفسير الدائمة يكون الهدف منها التأكد من الالتزام الصحيح بمعايير المحاسبة الدول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قوم هذه اللجنة بعملها عن طريق بحث نقاط الخلاف الناتجة عن التفسيرات المخالفة وإصدار تفسير معتمد (تم إصدار حوالى </a:t>
            </a:r>
            <a:r>
              <a:rPr b="0" lang="ar-SA" sz="2400" spc="-1" strike="noStrike">
                <a:solidFill>
                  <a:srgbClr val="fafd00"/>
                </a:solidFill>
                <a:latin typeface="Times New Roman"/>
              </a:rPr>
              <a:t>33</a:t>
            </a:r>
            <a:r>
              <a:rPr b="0" lang="ar-SA" sz="2400" spc="-1" strike="noStrike">
                <a:solidFill>
                  <a:srgbClr val="fafd00"/>
                </a:solidFill>
                <a:latin typeface="Times New Roman"/>
              </a:rPr>
              <a:t> تفسيرا حتى الآن).</a:t>
            </a:r>
            <a:r>
              <a:rPr b="0" lang="ar-SA" sz="2400" spc="-1" strike="noStrike">
                <a:solidFill>
                  <a:srgbClr val="fafd00"/>
                </a:solidFill>
                <a:latin typeface="Times New Roman"/>
                <a:cs typeface="Times New Roman (Arabic)"/>
              </a:rPr>
              <a:t>وتعتبر هذه التفسيرات هامة لأن المعيار المحاسبى الدولى رقم (</a:t>
            </a:r>
            <a:r>
              <a:rPr b="0" lang="ar-SA" sz="2400" spc="-1" strike="noStrike">
                <a:solidFill>
                  <a:srgbClr val="fafd00"/>
                </a:solidFill>
                <a:latin typeface="Times New Roman"/>
                <a:ea typeface="Times New Roman (Arabic)"/>
              </a:rPr>
              <a:t>1</a:t>
            </a:r>
            <a:r>
              <a:rPr b="0" lang="ar-SA" sz="2400" spc="-1" strike="noStrike">
                <a:solidFill>
                  <a:srgbClr val="fafd00"/>
                </a:solidFill>
                <a:latin typeface="Times New Roman"/>
                <a:ea typeface="Times New Roman (Arabic)"/>
              </a:rPr>
              <a:t>) نص على انه لا يمكن وصف القوائم المالية بأنها وفق معايير المحاسبة الدولية إلا إذا طبقت كل معيار محاسبى دولى وكل تفسير من اللجنة الدائمة لتفسير معايير المحاسبة الدو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574560"/>
            <a:ext cx="8458200" cy="7409160"/>
          </a:xfrm>
          <a:prstGeom prst="rect">
            <a:avLst/>
          </a:prstGeom>
          <a:noFill/>
          <a:ln w="0">
            <a:noFill/>
          </a:ln>
        </p:spPr>
        <p:style>
          <a:lnRef idx="0"/>
          <a:fillRef idx="0"/>
          <a:effectRef idx="0"/>
          <a:fontRef idx="minor"/>
        </p:style>
        <p:txBody>
          <a:bodyPr lIns="90000" rIns="90000" tIns="46800" bIns="46800" anchor="t">
            <a:spAutoFit/>
          </a:bodyPr>
          <a:p>
            <a:pPr marL="798480" indent="-60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دستور الجديد للجنة معايير المحاسبة الدولية</a:t>
            </a:r>
            <a:endParaRPr b="0" lang="en-US" sz="2400" spc="-1" strike="noStrike">
              <a:solidFill>
                <a:srgbClr val="ffffff"/>
              </a:solidFill>
              <a:latin typeface="Times New Roman"/>
            </a:endParaRPr>
          </a:p>
          <a:p>
            <a:pPr marL="798480" indent="-60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م مجلس لجنة معايير المحاسبة الدولية باعتماد دستور جديد يتم تطبيقه اعتبارا من عام </a:t>
            </a:r>
            <a:r>
              <a:rPr b="0" lang="ar-SA" sz="2400" spc="-1" strike="noStrike">
                <a:solidFill>
                  <a:srgbClr val="fafd00"/>
                </a:solidFill>
                <a:latin typeface="Times New Roman"/>
              </a:rPr>
              <a:t>2001</a:t>
            </a:r>
            <a:r>
              <a:rPr b="0" lang="ar-SA" sz="2400" spc="-1" strike="noStrike">
                <a:solidFill>
                  <a:srgbClr val="fafd00"/>
                </a:solidFill>
                <a:latin typeface="Times New Roman"/>
              </a:rPr>
              <a:t>.</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أصبحت لجنة معايير المحاسبة الدولية منذ ذلك التاريخ منظمة مستقلة تتكون من الهيئتين التاليتين:</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مجلس الأمناء</a:t>
            </a:r>
            <a:r>
              <a:rPr b="0" lang="ar-SA" sz="2400" spc="-1" strike="noStrike">
                <a:solidFill>
                  <a:srgbClr val="fafd00"/>
                </a:solidFill>
                <a:latin typeface="Times New Roman"/>
              </a:rPr>
              <a:t>: الذى يقوم بتعيين أعضاء مجلس الإدارة ويتابع مدى فاعلية مجلس معايير المحاسبة الدولية وكذا مراقبة الموازنة.</a:t>
            </a:r>
            <a:endParaRPr b="0" lang="en-US" sz="2400" spc="-1" strike="noStrike">
              <a:solidFill>
                <a:srgbClr val="ffffff"/>
              </a:solidFill>
              <a:latin typeface="Times New Roman"/>
            </a:endParaRPr>
          </a:p>
          <a:p>
            <a:pPr marL="798480" indent="-6012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لجنة معايير المحاسبة الدولية</a:t>
            </a:r>
            <a:r>
              <a:rPr b="0" lang="ar-SA" sz="2400" spc="-1" strike="noStrike">
                <a:solidFill>
                  <a:srgbClr val="fafd00"/>
                </a:solidFill>
                <a:latin typeface="Times New Roman"/>
              </a:rPr>
              <a:t> (التى تقوم بإصدار معايير المحاسبة الدولية)</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ستمر الجنة الدائمة لتفسير المعايير فى عملها الخاص بإصدار التفسيرات.</a:t>
            </a: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جلس الاستشارى للمعايير (يتكون من اعضاء من مناطق جغرافية مختلفة ويقوم بتقديم الاستشارات لمجلس معايير المحاسبة الدولية)</a:t>
            </a:r>
            <a:endParaRPr b="0" lang="en-US" sz="2400" spc="-1" strike="noStrike">
              <a:solidFill>
                <a:srgbClr val="ffffff"/>
              </a:solidFill>
              <a:latin typeface="Times New Roman"/>
            </a:endParaRPr>
          </a:p>
          <a:p>
            <a:pPr marL="798480" indent="-6012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152280" y="270000"/>
            <a:ext cx="8839440" cy="8140680"/>
          </a:xfrm>
          <a:prstGeom prst="rect">
            <a:avLst/>
          </a:prstGeom>
          <a:noFill/>
          <a:ln w="0">
            <a:noFill/>
          </a:ln>
        </p:spPr>
        <p:style>
          <a:lnRef idx="0"/>
          <a:fillRef idx="0"/>
          <a:effectRef idx="0"/>
          <a:fontRef idx="minor"/>
        </p:style>
        <p:txBody>
          <a:bodyPr lIns="90000" rIns="90000" tIns="46800" bIns="46800" anchor="t">
            <a:spAutoFit/>
          </a:bodyPr>
          <a:p>
            <a:pPr marL="457200" indent="-349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علاقة بين لجنة معايير المحاسبة الدولية والمنظمة الدولية لهيئات أسوق المال</a:t>
            </a:r>
            <a:endParaRPr b="0" lang="en-US" sz="2400" spc="-1" strike="noStrike">
              <a:solidFill>
                <a:srgbClr val="ffffff"/>
              </a:solidFill>
              <a:latin typeface="Times New Roman"/>
            </a:endParaRPr>
          </a:p>
          <a:p>
            <a:pPr marL="457200" indent="-349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م إبرام اتفاق عام </a:t>
            </a:r>
            <a:r>
              <a:rPr b="0" lang="ar-SA" sz="2400" spc="-1" strike="noStrike">
                <a:solidFill>
                  <a:srgbClr val="fafd00"/>
                </a:solidFill>
                <a:latin typeface="Times New Roman"/>
              </a:rPr>
              <a:t>1995</a:t>
            </a:r>
            <a:r>
              <a:rPr b="0" lang="ar-SA" sz="2400" spc="-1" strike="noStrike">
                <a:solidFill>
                  <a:srgbClr val="fafd00"/>
                </a:solidFill>
                <a:latin typeface="Times New Roman"/>
              </a:rPr>
              <a:t> بين لجنة معايير المحاسبة الدولية والمنظمة الدولية لهيئات أسواق المال ينص على  قيام لجنة معايير المحاسبة الدولية بتطوير مجموعة من المعايير الأساسية على أن تقوم المنظمة الدولية لهيئات أسواق المال بالتوصية بتطبيق هذه المعايير وأنها تمثل أسس محاسبية مقبولة عند إصدار رؤوس الأموال عبر الحدود وكذا عند قيد الاوراق المالية فى البورصات العالمية ومنها بورصات الولايات المتحدة.</a:t>
            </a:r>
            <a:endParaRPr b="0" lang="en-US" sz="2400" spc="-1" strike="noStrike">
              <a:solidFill>
                <a:srgbClr val="ffffff"/>
              </a:solidFill>
              <a:latin typeface="Times New Roman"/>
            </a:endParaRPr>
          </a:p>
          <a:p>
            <a:pPr marL="457200" indent="-349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بناء عليه، قامت لجنة معايير المحاسبة الدولية باستكمال المعايير الاساسية وكذا إصدار معيار المحاسبة الدولى رقم </a:t>
            </a:r>
            <a:r>
              <a:rPr b="0" lang="ar-SA" sz="2400" spc="-1" strike="noStrike">
                <a:solidFill>
                  <a:srgbClr val="fafd00"/>
                </a:solidFill>
                <a:latin typeface="Times New Roman"/>
              </a:rPr>
              <a:t>39</a:t>
            </a:r>
            <a:r>
              <a:rPr b="0" lang="ar-SA" sz="2400" spc="-1" strike="noStrike">
                <a:solidFill>
                  <a:srgbClr val="fafd00"/>
                </a:solidFill>
                <a:latin typeface="Times New Roman"/>
              </a:rPr>
              <a:t> وتم تقديمه للمنظمة الدولية لهيئات أسواق المال لاعتماده.</a:t>
            </a: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مت المنظمة الدولية لهيئات أسواق المال فى مايو </a:t>
            </a:r>
            <a:r>
              <a:rPr b="0" lang="ar-SA" sz="2400" spc="-1" strike="noStrike">
                <a:solidFill>
                  <a:srgbClr val="fafd00"/>
                </a:solidFill>
                <a:latin typeface="Times New Roman"/>
              </a:rPr>
              <a:t>2000</a:t>
            </a:r>
            <a:r>
              <a:rPr b="0" lang="ar-SA" sz="2400" spc="-1" strike="noStrike">
                <a:solidFill>
                  <a:srgbClr val="fafd00"/>
                </a:solidFill>
                <a:latin typeface="Times New Roman"/>
              </a:rPr>
              <a:t> باعتماد المعايير المحاسبية والتوصية لأعضائها أن يقرروا 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أسواق أو التى ترفق مع نشرات الاكتتاب لدى هذه الاسواق.</a:t>
            </a:r>
            <a:endParaRPr b="0" lang="en-US" sz="2400" spc="-1" strike="noStrike">
              <a:solidFill>
                <a:srgbClr val="ffffff"/>
              </a:solidFill>
              <a:latin typeface="Times New Roman"/>
            </a:endParaRPr>
          </a:p>
          <a:p>
            <a:pPr marL="457200" indent="-349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80880" y="685800"/>
            <a:ext cx="8458200" cy="7132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دور لجنة معايير المحاسبة الدولية المتغير والمتطور</a:t>
            </a:r>
            <a:endParaRPr b="0" lang="en-US" sz="2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يمكن تقسيم الفلسفة التى تقوم عليها لجنة معايير المحاسبة الدولية الى ثلاث مراحل زم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عندما بدأت اللجنة عملها كانت حريصة على ان تكون معاييرها شاملة بالقدر المستطاع حتى يتمكن اكبر عدد ممكن من الدول من الموافقة على الالتزام بها ومن ثم شملت على العديد من الاختيارات فى المعالج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نذ عام </a:t>
            </a:r>
            <a:r>
              <a:rPr b="1" lang="ar-SA" sz="2200" spc="-1" strike="noStrike">
                <a:solidFill>
                  <a:srgbClr val="fafd00"/>
                </a:solidFill>
                <a:latin typeface="Univers 45 Light"/>
                <a:ea typeface="Times New Roman (Arabic)"/>
              </a:rPr>
              <a:t>1990</a:t>
            </a:r>
            <a:r>
              <a:rPr b="1" lang="ar-SA" sz="2200" spc="-1" strike="noStrike">
                <a:solidFill>
                  <a:srgbClr val="fafd00"/>
                </a:solidFill>
                <a:latin typeface="Univers 45 Light"/>
                <a:ea typeface="Times New Roman (Arabic)"/>
              </a:rPr>
              <a:t> وبعد ان اصبحت المعايير المحاسبية الدولية مقبولة بصفة عامة بدأت اللجنة فى تخفيض الاختيارات المسموح بها فى معايير المحاسبة الدولية عن كريق تحديد معالجة قياسية مفضلة ومعالجات بديلة مسموح ب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عتبارا من عام </a:t>
            </a:r>
            <a:r>
              <a:rPr b="1" lang="ar-SA" sz="2200" spc="-1" strike="noStrike">
                <a:solidFill>
                  <a:srgbClr val="fafd00"/>
                </a:solidFill>
                <a:latin typeface="Univers 45 Light"/>
                <a:ea typeface="Times New Roman (Arabic)"/>
              </a:rPr>
              <a:t>2000</a:t>
            </a:r>
            <a:r>
              <a:rPr b="1" lang="ar-SA" sz="2200" spc="-1" strike="noStrike">
                <a:solidFill>
                  <a:srgbClr val="fafd00"/>
                </a:solidFill>
                <a:latin typeface="Univers 45 Light"/>
                <a:ea typeface="Times New Roman (Arabic)"/>
              </a:rPr>
              <a:t> وصلت لجنة المعايير الى المعايير المصدق عليها من المنظمة الدولية للأوراق المالية وأصبحت كل من السلطات الامريكية والاوروبية تدعم المعايير الدولية حيث أعلنت المفوضية الاوروبية ان جميع الشركات المدرجة فى أسواق المال للاتحاد الاوروبى يجب عليها أن تعد قوائمها المالية باستخدام معايير المحاسبة الدولية اعتبارا من عام </a:t>
            </a:r>
            <a:r>
              <a:rPr b="1" lang="ar-SA" sz="2200" spc="-1" strike="noStrike">
                <a:solidFill>
                  <a:srgbClr val="fafd00"/>
                </a:solidFill>
                <a:latin typeface="Univers 45 Light"/>
                <a:ea typeface="Times New Roman (Arabic)"/>
              </a:rPr>
              <a:t>2005</a:t>
            </a:r>
            <a:r>
              <a:rPr b="1"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1:49:02Z</dcterms:created>
  <dc:creator>Administrator</dc:creator>
  <dc:description/>
  <dc:language>en-US</dc:language>
  <cp:lastModifiedBy>KPMG</cp:lastModifiedBy>
  <dcterms:modified xsi:type="dcterms:W3CDTF">2005-08-27T15:52:10Z</dcterms:modified>
  <cp:revision>57</cp:revision>
  <dc:subject/>
  <dc:title>PowerPoint Presentation</dc:title>
</cp:coreProperties>
</file>