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2286000" y="1258920"/>
            <a:ext cx="4572000" cy="444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2" name=""/>
          <p:cNvSpPr/>
          <p:nvPr/>
        </p:nvSpPr>
        <p:spPr>
          <a:xfrm>
            <a:off x="1066680" y="1371600"/>
            <a:ext cx="75438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الفصل الثامن : التقرير عن الآداء المالى</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متطلبات معيار المحاسبة الدولى رقم (</a:t>
            </a:r>
            <a:r>
              <a:rPr b="0" lang="ar-SA" sz="2400" spc="-1" strike="noStrike">
                <a:solidFill>
                  <a:srgbClr val="ffffff"/>
                </a:solidFill>
                <a:latin typeface="Times New Roman"/>
                <a:ea typeface="Times New Roman (Arabic)"/>
              </a:rPr>
              <a:t>1</a:t>
            </a:r>
            <a:r>
              <a:rPr b="0" lang="ar-SA" sz="2400" spc="-1" strike="noStrike">
                <a:solidFill>
                  <a:srgbClr val="ffffff"/>
                </a:solidFill>
                <a:latin typeface="Times New Roman"/>
                <a:ea typeface="Times New Roman (Arabic)"/>
              </a:rPr>
              <a:t>) ”عرض القوائم الما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عيار المحاسبة الدولى رقم (</a:t>
            </a:r>
            <a:r>
              <a:rPr b="0" lang="ar-SA" sz="2400" spc="-1" strike="noStrike">
                <a:solidFill>
                  <a:srgbClr val="ffffff"/>
                </a:solidFill>
                <a:latin typeface="Times New Roman"/>
                <a:ea typeface="Times New Roman (Arabic)"/>
              </a:rPr>
              <a:t>35</a:t>
            </a:r>
            <a:r>
              <a:rPr b="0" lang="ar-SA" sz="2400" spc="-1" strike="noStrike">
                <a:solidFill>
                  <a:srgbClr val="ffffff"/>
                </a:solidFill>
                <a:latin typeface="Times New Roman"/>
                <a:ea typeface="Times New Roman (Arabic)"/>
              </a:rPr>
              <a:t>) ” العمليات غير المستمر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معيار المحاسبة الدولى رقم (</a:t>
            </a:r>
            <a:r>
              <a:rPr b="0" lang="ar-SA" sz="2400" spc="-1" strike="noStrike">
                <a:solidFill>
                  <a:srgbClr val="ffffff"/>
                </a:solidFill>
                <a:latin typeface="Times New Roman"/>
                <a:ea typeface="Times New Roman (Arabic)"/>
              </a:rPr>
              <a:t>34</a:t>
            </a:r>
            <a:r>
              <a:rPr b="0" lang="ar-SA" sz="2400" spc="-1" strike="noStrike">
                <a:solidFill>
                  <a:srgbClr val="ffffff"/>
                </a:solidFill>
                <a:latin typeface="Times New Roman"/>
                <a:ea typeface="Times New Roman (Arabic)"/>
              </a:rPr>
              <a:t>) ” القوائم المالية المرح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152280" y="457200"/>
            <a:ext cx="8763120" cy="76600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يار المحاسبى الدولى رقم (</a:t>
            </a:r>
            <a:r>
              <a:rPr b="1" lang="ar-SA" sz="2400" spc="-1" strike="noStrike">
                <a:solidFill>
                  <a:srgbClr val="ffffff"/>
                </a:solidFill>
                <a:latin typeface="Times New Roman"/>
              </a:rPr>
              <a:t>34</a:t>
            </a:r>
            <a:r>
              <a:rPr b="1" lang="ar-SA" sz="2400" spc="-1" strike="noStrike">
                <a:solidFill>
                  <a:srgbClr val="ffffff"/>
                </a:solidFill>
                <a:latin typeface="Times New Roman"/>
              </a:rPr>
              <a:t>) القوائم المالية المرحلية</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لومات التى تتضمنها الإيضاحات الخاصة بالقوائم المالية المرحل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ن السياسات المستخدمة هى نفسها التى تستخدم فى القوائم المالية السنوية. مع الإفصاح عن أى تغيير فى السياسات المحاسبية إن وجدت.</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يضاح تفسيرى عن موسمية أو دورية عمليات التشغيل. </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طبيعة وقيمة البنود غير العادية التى أثرت فى القوائم المال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طبيعة وقيمة التغييرات فى التقديرات المحاسب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صدار أو شراء أو إعادة سداد الديون او حقوق الملكية وكذا توزيعات الأرباح.</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إيرادات ونتائج أعمال القطاعات إذا </a:t>
            </a:r>
            <a:r>
              <a:rPr b="0" lang="ar-EG" sz="2400" spc="-1" strike="noStrike">
                <a:solidFill>
                  <a:srgbClr val="ffffff"/>
                </a:solidFill>
                <a:latin typeface="Times New Roman"/>
                <a:cs typeface="Times New Roman (Arabic)"/>
              </a:rPr>
              <a:t>إ</a:t>
            </a:r>
            <a:r>
              <a:rPr b="0" lang="ar-SA" sz="2400" spc="-1" strike="noStrike">
                <a:solidFill>
                  <a:srgbClr val="ffffff"/>
                </a:solidFill>
                <a:latin typeface="Times New Roman"/>
              </a:rPr>
              <a:t>نطبق المعيار الخاص بعرض معلومات القطاعات.</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الأحداث الهامة اللاحقة لتاريخ القوائم المالية المرحلية والتغيرات فى الالتزامات العرض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685800" y="914400"/>
            <a:ext cx="7620120" cy="6547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يار المحاسبى الدولى رقم (</a:t>
            </a:r>
            <a:r>
              <a:rPr b="1" lang="ar-SA" sz="2400" spc="-1" strike="noStrike">
                <a:solidFill>
                  <a:srgbClr val="ffffff"/>
                </a:solidFill>
                <a:latin typeface="Times New Roman"/>
              </a:rPr>
              <a:t>34</a:t>
            </a:r>
            <a:r>
              <a:rPr b="1" lang="ar-SA" sz="2400" spc="-1" strike="noStrike">
                <a:solidFill>
                  <a:srgbClr val="ffffff"/>
                </a:solidFill>
                <a:latin typeface="Times New Roman"/>
              </a:rPr>
              <a:t>) القوائم المالية المرح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يرادات المستلمة أو التكاليف المحملة موسميا أو بطريقة سنو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جب تأجيل أو تقدير هذه العناصر وإدراجها بالقوائم المالية المرحل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غييرات فى السياسات المحاسب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ذا حدث تغيير فى السياسة المحاسبية فإن المعلومات المقارنة للفترة المرحلية السابقة والمعروضة مع الفترة المرحلية الجارية يجب تعديلها كما لو</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كانت السياسة المحاسبية مطبقة من قب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04920" y="304920"/>
            <a:ext cx="8534160" cy="708876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ائمة الدخل</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ان تظهر قائمة الدخل بندا مستقلا (كحد ادنى) لكل من  الإيرادات من نتائج أنشطة التشغيل ، تكلفة التمويل، نصيب الشركة القابضة فى أرباح شركاتها التابعة ، مصروف الضريبة ، البنود غير العادية ، حقوق الأقلية فى حالة القوائم المالية المجمعة وكذا صافى ارباح وخسائر الفترة. </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عرض قائمة الدخل طبقا لطبيعة المصروف.</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تجميع المصروفات وفقا لطبيعتها ولا يتم تخصيصها على الوظائف المختلفة داخل المنشا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عرض قائمة الدخل وفقا لطريقة وظيفة المصروف أو تكلفة المبيعات</a:t>
            </a:r>
            <a:r>
              <a:rPr b="0" lang="ar-SA" sz="2400" spc="-1" strike="noStrike">
                <a:solidFill>
                  <a:srgbClr val="ffffff"/>
                </a:solidFill>
                <a:latin typeface="Times New Roman"/>
              </a:rPr>
              <a:t> </a:t>
            </a:r>
            <a:r>
              <a:rPr b="1" lang="ar-SA" sz="2400" spc="-1" strike="noStrike">
                <a:solidFill>
                  <a:srgbClr val="ffffff"/>
                </a:solidFill>
                <a:latin typeface="Times New Roman"/>
              </a:rPr>
              <a:t>( طريقة مفضل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تبويب المصروفات وفقا لوظائفها كجزء من انشطة تكلفة البضاعة المباعة ومصروفات كل من البيع والتوزيع ومصروفات الادارة. وهنا يجب الإفصاح عن الإهلاك وتكلفة العمالة ومبالغ الأرباح المقترح توزيعها. </a:t>
            </a:r>
            <a:endParaRPr b="0" lang="en-US" sz="2400" spc="-1" strike="noStrike">
              <a:solidFill>
                <a:srgbClr val="ffffff"/>
              </a:solidFill>
              <a:latin typeface="Times New Roman"/>
            </a:endParaRPr>
          </a:p>
          <a:p>
            <a:pPr marL="108000" indent="-1080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685800" y="380880"/>
            <a:ext cx="7848720" cy="5560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رض قائمة الدخل طبقا لطريقة طبيعة المصروف</a:t>
            </a:r>
            <a:endParaRPr b="0" lang="en-US" sz="24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إيـــــراد</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يرادات تشغيل أخرى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غيرات فى قيمة المخزون التام وتحت التشغيل</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واد خام مستخدم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رتبات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هلاك واستهلاك</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تشغيلية اخرى</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جمالى مصروفات التشغيل</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______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رباح من الأنشطة العادي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228600"/>
            <a:ext cx="8458200" cy="6482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رض قائمة الدخل طبقا لطريقة وظيفة المصروف أو طريقة تكلفة المبيعا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إيرادات</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لفة المبيعات</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_______</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جمل الربح</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يرادات تشغيلية أخرى</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بيع وتوزيع</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إداري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تشغيلية أخرى</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________</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رباح من الأنشطة العادية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57200" y="457200"/>
            <a:ext cx="8077320" cy="667764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ائمة التغيرات فى حقوق الملكية</a:t>
            </a:r>
            <a:endParaRPr b="0" lang="en-US" sz="2400" spc="-1" strike="noStrike">
              <a:solidFill>
                <a:srgbClr val="ffffff"/>
              </a:solidFill>
              <a:latin typeface="Times New Roman"/>
            </a:endParaRPr>
          </a:p>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صافى أرباح أو خسائر الفترة.</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كافة بنود الإيرادات والمصروفات والأرباح والخسائر التى يتطلب الأمر إدراجها مباشرة ضمن حقوق الملكية. </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أثير التراكمى للتغيرات فى السياسات المحاسبية وتصحيح الأخطاء الجوهرية التى تم معالجتها طبقا للمعالجة القياسية الواردة بالمعيار المتعلق بذلك.</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عاملات الخاصة برأس المال وتوزيعات الأرباح.</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رصيد الارباح أو الخسائر التراكمى فى بداية ونهاية الفترة (الأرباح المحتجزة).</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سوية بين رصيد بداية ونهاية الفترة لكل رصيد من ارصدة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762120" y="228600"/>
            <a:ext cx="784836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نود غير العاد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بنود غير العادية هي الإيرادات والمصروفات الناتجة عن أحداث أو معاملات تختلف بوضوح عن الأنشطة العادية للمنشاة كما أنه ليس من المتوقع تكرار حدوثها أو القيام بها بطريقة معتاد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مثلة : نزع ملكية الأصول أو الخسائر الناتجة عن حدوث زلزال أو كوارث كونية أخرى.</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إفصاح: يجب عرض البنود غير العادية بصورة مستقلة بقائمة الدخل مع الإفصاح عن طبيعتها وتظهر فى قائمة الدخل بقيمتها الصافية اى بعد خصم الضرائب المتعلقة ب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533520" y="304920"/>
            <a:ext cx="8076960" cy="59461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نود الهامة أو غير الاعتيادية من خلال الأنشطة العاد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خفيض قيمة المخزون الى صافى القيمة البيعية او تخفيض الأصول الثابتة الى القيمة الممكن استردادها.</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إعادة هيكلة أنشطة المشروع.</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رباح او خسائر بيع الاصول الثابتة او الاستثمارات طويلة الأج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العمليات التى توقفت.</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تسويات القضائية والإلغاء الكلى او الجزئى للمخصص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80880" y="152280"/>
            <a:ext cx="8305920" cy="77749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مليات التى توقفت</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أنشطة او العمليات التى توقفت هى التى تنشأ عن بيع أو استبعاد جزء منفصلا وجوهريا من انشطة المنشاة والتى يمكن فصل أصولها وصافى ربحها او خسارتها عن باقى أعمال المنشاة ماديا وتشغيليا وذلك لأغراض إعداد التقارير المالية ، ومن ثم يجب الإفصاح بصورة مستقلة فى قائمة الدخل عن اية ارباح أو خسائر خاصة بالعمليات التى توقفت. </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عرف تاريخ التوقف بأنه ذلك التاريخ الذى توقفت فيه المنشاة عن رقابة التشغيل على العملية أو القطاع او النشاط.</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شمل نتائج العمليات التى توقفت والتى يجب الإفصاح عنها بصورة مستقلة ما</a:t>
            </a:r>
            <a:r>
              <a:rPr b="0" lang="en-US" sz="2400" spc="-1" strike="noStrike">
                <a:solidFill>
                  <a:srgbClr val="ffffff"/>
                </a:solidFill>
                <a:latin typeface="Times New Roman"/>
              </a:rPr>
              <a:t> </a:t>
            </a:r>
            <a:r>
              <a:rPr b="0" lang="ar-SA" sz="2400" spc="-1" strike="noStrike">
                <a:solidFill>
                  <a:srgbClr val="ffffff"/>
                </a:solidFill>
                <a:latin typeface="Times New Roman"/>
              </a:rPr>
              <a:t>يلى:</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أرباح أو خسائر العملية منذ بداية الفترة المالية وحتى تاريخ التوقف. و</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الأرباح والخسائر الناتجة من عملية بيع العملية التى توقف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04920" y="228600"/>
            <a:ext cx="8153280" cy="7279200"/>
          </a:xfrm>
          <a:prstGeom prst="rect">
            <a:avLst/>
          </a:prstGeom>
          <a:noFill/>
          <a:ln w="0">
            <a:noFill/>
          </a:ln>
        </p:spPr>
        <p:style>
          <a:lnRef idx="0"/>
          <a:fillRef idx="0"/>
          <a:effectRef idx="0"/>
          <a:fontRef idx="minor"/>
        </p:style>
        <p:txBody>
          <a:bodyPr lIns="90000" rIns="90000" tIns="46800" bIns="46800" anchor="t">
            <a:spAutoFit/>
          </a:bodyPr>
          <a:p>
            <a:pPr marL="338040" indent="-338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يار المحاسبى الدولى رقم (</a:t>
            </a:r>
            <a:r>
              <a:rPr b="1" lang="ar-SA" sz="2400" spc="-1" strike="noStrike">
                <a:solidFill>
                  <a:srgbClr val="ffffff"/>
                </a:solidFill>
                <a:latin typeface="Times New Roman"/>
              </a:rPr>
              <a:t>34</a:t>
            </a:r>
            <a:r>
              <a:rPr b="1" lang="ar-SA" sz="2400" spc="-1" strike="noStrike">
                <a:solidFill>
                  <a:srgbClr val="ffffff"/>
                </a:solidFill>
                <a:latin typeface="Times New Roman"/>
              </a:rPr>
              <a:t>) القوائم المالية المرحلية</a:t>
            </a:r>
            <a:endParaRPr b="0" lang="en-US" sz="2400" spc="-1" strike="noStrike">
              <a:solidFill>
                <a:srgbClr val="ffffff"/>
              </a:solidFill>
              <a:latin typeface="Times New Roman"/>
            </a:endParaRPr>
          </a:p>
          <a:p>
            <a:pPr marL="338040" indent="-338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الحد الادنى لمحتويات القوائم المالية المرحلي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ميزانية مختصرة مع المعلومات المقارنة فى نهاية السنة المالية السابق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قائمة دخل مختصرة للفترة المرحلية بصورة متراكمة حتى تاريخ الميزانية مع المعلومات المقارن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3</a:t>
            </a:r>
            <a:r>
              <a:rPr b="0" lang="ar-SA" sz="2400" spc="-1" strike="noStrike">
                <a:solidFill>
                  <a:srgbClr val="ffffff"/>
                </a:solidFill>
                <a:latin typeface="Times New Roman"/>
              </a:rPr>
              <a:t>. قائمة مختصرة للتغير فى حقوق الملكية خلال الفترة المرحلية بصورة متراكمة أو للتغيرات فى حقوق الملكية بخلاف المتعلقة بمعاملات رأس المال وتوزيع الارباح بصورة متراكم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4</a:t>
            </a:r>
            <a:r>
              <a:rPr b="0" lang="ar-SA" sz="2400" spc="-1" strike="noStrike">
                <a:solidFill>
                  <a:srgbClr val="ffffff"/>
                </a:solidFill>
                <a:latin typeface="Times New Roman"/>
              </a:rPr>
              <a:t>. قائمة مختصرة للتدفقات النقدية خلال الفترة المرحلية بصورة متراكمة حتى تاريخ القوائم المالية مع المعلومات المقارنة. </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يجب ان يلتزم شكل ومحتويات القوائم المالية المرحلية مع معايير المحاسبة الدولية المتعلقة بإصدار مجموعة متكاملة من القوائم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0T21:57:05Z</dcterms:created>
  <dc:creator>Administrator</dc:creator>
  <dc:description/>
  <dc:language>en-US</dc:language>
  <cp:lastModifiedBy>KPMG</cp:lastModifiedBy>
  <dcterms:modified xsi:type="dcterms:W3CDTF">2005-03-14T21:10:33Z</dcterms:modified>
  <cp:revision>15</cp:revision>
  <dc:subject/>
  <dc:title>PowerPoint Presentation</dc:title>
</cp:coreProperties>
</file>