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40C9-3121-41A3-A91D-71FDF4CA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18EC-3CD6-4FB5-AA89-86365A94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E530-9807-4F7B-8F0F-935C0D654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E1B1-351A-4DAB-8FBB-190826DE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C6B5-C7E7-44C4-A0DA-DE962A76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4043-3759-42CA-B80B-8CA20E4D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F60C-C7A8-4C1E-A9D4-3FEF9475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FDB9-F81B-4ED5-AB7E-A09F8D70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71CB-CB19-43BF-AFE8-3FACEDCA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9177-DF87-443A-8A21-54A945A6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BC80-682E-4EE9-AEBC-B2DF78C1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E77C-A68D-454C-8E92-90EE0209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4CCD-581B-490E-969F-FB25ACDD6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28600"/>
            <a:ext cx="8610840" cy="60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عقود الانشاء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سن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سن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سن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س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إجمالى سعر بيع عقد الأنشاء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0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0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0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تكاليف المقدرة لإجمالى الاعمال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0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2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2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تكاليف التى تمت حتى تاريخه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5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4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6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تكاليف المتكبدة حتى تاريخه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5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4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6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إجمالى تكاليف العقد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0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2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2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نسبة الاتمام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5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%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75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%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%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إجمالى إيرادات العقد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0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0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0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ناقصا: إجمالى التكاليف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0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2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2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إجمالى الارباح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0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8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(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)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(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)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نسبة الاتمام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5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%     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75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%     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%   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ارباح المحققة حتى تاريخه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5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6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(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8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)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(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أرباح التى تخص العام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5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(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)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(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7T12:56:24Z</dcterms:created>
  <dc:creator>Administrator</dc:creator>
  <dc:description/>
  <dc:language>en-US</dc:language>
  <cp:lastModifiedBy>Administrator</cp:lastModifiedBy>
  <dcterms:modified xsi:type="dcterms:W3CDTF">2003-06-07T12:56:48Z</dcterms:modified>
  <cp:revision>1</cp:revision>
  <dc:subject/>
  <dc:title>PowerPoint Presentation</dc:title>
</cp:coreProperties>
</file>