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457200" y="1143000"/>
            <a:ext cx="838188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abic)"/>
              </a:rPr>
              <a:t>المراجعة للمنشآت التى لا تهدف الى الربح</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cs typeface="Times New Roman (Arabic)"/>
              </a:rPr>
              <a:t>يجب أن يغطى الدارس فى نهاية هذا الفصل ما يلى</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تطبيق أساليب المراجعة والفحص على المنشآت التى لا تهدف الى الربح.</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2</a:t>
            </a:r>
            <a:r>
              <a:rPr b="0" lang="ar-EG" sz="2400" spc="-1" strike="noStrike">
                <a:solidFill>
                  <a:srgbClr val="ffffff"/>
                </a:solidFill>
                <a:latin typeface="Times New Roman"/>
                <a:ea typeface="Times New Roman (Arabic)"/>
              </a:rPr>
              <a:t>) الأختلافات بين مراجعة وفحص المنشآت التى لا تهدف الى الربح ومراجعة المنشآت التى تهدف الى الربح.</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648320" y="2666880"/>
            <a:ext cx="1839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تا</a:t>
            </a:r>
            <a:endParaRPr b="0" lang="en-US" sz="2400" spc="-1" strike="noStrike">
              <a:solidFill>
                <a:srgbClr val="ffffff"/>
              </a:solidFill>
              <a:latin typeface="Times New Roman"/>
            </a:endParaRPr>
          </a:p>
        </p:txBody>
      </p:sp>
      <p:sp>
        <p:nvSpPr>
          <p:cNvPr id="93" name=""/>
          <p:cNvSpPr/>
          <p:nvPr/>
        </p:nvSpPr>
        <p:spPr>
          <a:xfrm>
            <a:off x="457200" y="609480"/>
            <a:ext cx="8305920" cy="5450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وجه الشبه بين مراجعة المنشآت التى لا تهدف الى الربح والتى تهدف الى الربح</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تباع نفس الأسلوب فى عملية المراجع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التخطيط والاشراف بما فى ذلك تفهم النشاط وتحديد المخاطر والأهمية النسب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دراسة وفهم أنظمة الرقابة الداخ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3</a:t>
            </a:r>
            <a:r>
              <a:rPr b="0" lang="ar-SA" sz="2400" spc="-1" strike="noStrike">
                <a:solidFill>
                  <a:srgbClr val="ffffff"/>
                </a:solidFill>
                <a:latin typeface="Times New Roman"/>
              </a:rPr>
              <a:t>) الحصول على أدلة المراجعة الكافية والسليم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4</a:t>
            </a:r>
            <a:r>
              <a:rPr b="0" lang="ar-SA" sz="2400" spc="-1" strike="noStrike">
                <a:solidFill>
                  <a:srgbClr val="ffffff"/>
                </a:solidFill>
                <a:latin typeface="Times New Roman"/>
              </a:rPr>
              <a:t>) إصدار التقارير.</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80880" y="609480"/>
            <a:ext cx="8458200" cy="521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لخص للأمور الهام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نشآت التى لا تهدف الى الربح</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تحتوى هذه المنشآت على مخاطر هامة بالنسبة للمراجع خاصة إذا كان الأمر يتعلق بإيراد هام.</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تحدث حالات غش فى هذه المنشآت بسبب ضعف أنظمة الرقابة الداخلية أو عدم الالتزام بها.</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عظم أعمال المراجعة متشابهة بين المنشآت التى لا تهدف الى الربح والمنشآت التى تهدف الى الربح.</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أن يستخدم المراجع حكمه الشخصى ومعلوماته عند إجراء المراجعة فى المنشآت التى لا تهدف الى الربح</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533520" y="609480"/>
            <a:ext cx="83055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ل الحالة العملية الاول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صعوبات المتوقعة لأعمال الفحص:</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حديد مستخدمى القوائم المالية. (الموافقة على وتوثيق شروط المراجعة)</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فهم لوائح وأهداف المنشأة. ( تم تمويلها بمعرفة شخص واحد وتريد حاليا التوسع فى التمويل مما قد يؤثر على إتساع أنشطتها وأهدافها).</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اعتماد على دور المتطوعين الذين لا يمكن الوصول اليهم بسهولة كما ان شعورهم بالمسئولية يكون اقل.</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صور فى إدراك المخاطر والرقابة مما يصعب من عمل المراج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685800" y="838080"/>
            <a:ext cx="7391520" cy="5450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حل الحالة العملية الأولى</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اهتمام بالموظفين الذين لم يسبق مراجعتهم ليكونوا متفهمين انطاق وحدود عملية المراجعة بالتالى يجب أن يتفهموا:</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دور المراجع وكيف سيقوم بآداء عملية المراجع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دور الذى سيلعبه الموظفون.</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ساعدة الموظفين لتفهم المخاطر والاخطاء التى يمكن ان تحدث واثرها.</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يعة الرقابة وأشكال تطبيقها.</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سس التى يمكن الرجوع ال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457200" y="762120"/>
            <a:ext cx="7772400" cy="6197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حل الحالة العملية الأولى</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خطوات المراجع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خطيط لأعمال المراجع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صدار شروط التعاقد والأتفاق (خطاب الأرتباط)</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حديد وتقييم مستويات وانواع المخاطر وإحتمالات حدوثها واثرها.</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ييم وإختبارإجراءات الرقابة الداخلية المستخدم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حصول على ادلة المراجعة الكافية والمناسب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وثيق النتائج وإعداد التوصيات ومناقشتها.</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صدار التقارير. </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228600" y="228600"/>
            <a:ext cx="8540640" cy="7409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حل الحالة العملية الأول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خاطر الرئيسية والرقابة التى يتوقع وجودها:</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فشل فى تحديد الأهداف بوضوح او تحقيق الاهداف التى سبق تحقيقها وكذا التنافس مع المنشآت الأخرى على تحقيق نفس النوعية من الاهداف.</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يجب أن تتضمن الرقاب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وثيق الاهداف</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حليل الانواع المماثلة من المنشآت.</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2</a:t>
            </a:r>
            <a:r>
              <a:rPr b="0" lang="ar-SA" sz="2400" spc="-1" strike="noStrike">
                <a:solidFill>
                  <a:srgbClr val="ffffff"/>
                </a:solidFill>
                <a:latin typeface="Times New Roman"/>
              </a:rPr>
              <a:t>) الخسائر المالية والغش فى المساعدات. ويجب أن تتضمن الرقاب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رقابة إحكام صناديق التبرعات</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الرقابة المزدوجة على فتح الصناديق</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إيداع المتحصلات اولا بأول.</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فحص الايداعات مع السجلات.</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مراجعة المنح مع الاتفاقيات.</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تسجيل المتلقين للخدمات.</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a:t>
            </a:r>
            <a:r>
              <a:rPr b="0" lang="ar-SA" sz="2400" spc="-1" strike="noStrike">
                <a:solidFill>
                  <a:srgbClr val="ffffff"/>
                </a:solidFill>
                <a:latin typeface="Times New Roman"/>
              </a:rPr>
              <a:t>) فقدان الاصول ( إمساك سجل للاصول وفحص طرق الحراسة وطرق الحما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4</a:t>
            </a:r>
            <a:r>
              <a:rPr b="0" lang="ar-SA" sz="2400" spc="-1" strike="noStrike">
                <a:solidFill>
                  <a:srgbClr val="ffffff"/>
                </a:solidFill>
                <a:latin typeface="Times New Roman"/>
              </a:rPr>
              <a:t>) إختراق اللوائح (تقييم معايير الصحة والامان والتدريب المستمر وتفهم اللوائح والتغطية التامينية).</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04920" y="914400"/>
            <a:ext cx="8305560" cy="4513320"/>
          </a:xfrm>
          <a:prstGeom prst="rect">
            <a:avLst/>
          </a:prstGeom>
          <a:noFill/>
          <a:ln w="0">
            <a:noFill/>
          </a:ln>
        </p:spPr>
        <p:style>
          <a:lnRef idx="0"/>
          <a:fillRef idx="0"/>
          <a:effectRef idx="0"/>
          <a:fontRef idx="minor"/>
        </p:style>
        <p:txBody>
          <a:bodyPr lIns="90000" rIns="90000" tIns="46800" bIns="46800" anchor="t">
            <a:spAutoFit/>
          </a:bodyPr>
          <a:p>
            <a:pPr marL="230040" indent="-23004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المنشآت التى لا تهدف الى الربح ( الجمعيات والمنشآت الأجتماعية)</a:t>
            </a:r>
            <a:endParaRPr b="0" lang="en-US" sz="2400" spc="-1" strike="noStrike">
              <a:solidFill>
                <a:srgbClr val="ffffff"/>
              </a:solidFill>
              <a:latin typeface="Times New Roman"/>
            </a:endParaRPr>
          </a:p>
          <a:p>
            <a:pPr marL="230040" indent="-23004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يتم تأسيس الجمعيات والمنشآت الأجتماعية طبقا لأحكام قانون الجمعيات والمؤسسات الأهلية رقم </a:t>
            </a:r>
            <a:r>
              <a:rPr b="0" lang="ar-SA" sz="2400" spc="-1" strike="noStrike">
                <a:solidFill>
                  <a:srgbClr val="ffffff"/>
                </a:solidFill>
                <a:latin typeface="Times New Roman"/>
                <a:ea typeface="Times New Roman (Arabic)"/>
              </a:rPr>
              <a:t>84</a:t>
            </a:r>
            <a:r>
              <a:rPr b="0" lang="ar-SA" sz="2400" spc="-1" strike="noStrike">
                <a:solidFill>
                  <a:srgbClr val="ffffff"/>
                </a:solidFill>
                <a:latin typeface="Times New Roman"/>
                <a:ea typeface="Times New Roman (Arabic)"/>
              </a:rPr>
              <a:t> لسنة </a:t>
            </a:r>
            <a:r>
              <a:rPr b="0" lang="ar-SA" sz="2400" spc="-1" strike="noStrike">
                <a:solidFill>
                  <a:srgbClr val="ffffff"/>
                </a:solidFill>
                <a:latin typeface="Times New Roman"/>
                <a:ea typeface="Times New Roman (Arabic)"/>
              </a:rPr>
              <a:t>2002</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30040" indent="-23004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فى جميع الاحوال يجب على المراجع معرفة أهداف الجمعية وأنشطتها وأية متطلبات قانونية أخرى من خلال الاطلاع على نظامها الاساسى ولائحتها الأساسية.</a:t>
            </a:r>
            <a:endParaRPr b="0" lang="en-US" sz="2400" spc="-1" strike="noStrike">
              <a:solidFill>
                <a:srgbClr val="ffffff"/>
              </a:solidFill>
              <a:latin typeface="Times New Roman"/>
            </a:endParaRPr>
          </a:p>
          <a:p>
            <a:pPr marL="230040" indent="-23004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يجب على المراجع أن يطبق نفس المعايير المهنية، وبالتالى تتم أعمال المراجعة طبقا لمعايير المراجعة الدولية والمصرية وذلك حتى لو لم تكن هناك أتعاب أو كانت الأتعاب رمز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914400" y="838080"/>
            <a:ext cx="7162920" cy="6166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بعض المشاكل المحاسبية</a:t>
            </a:r>
            <a:endParaRPr b="0" lang="en-US" sz="2400" spc="-1" strike="noStrike">
              <a:solidFill>
                <a:srgbClr val="ffffff"/>
              </a:solidFill>
              <a:latin typeface="Times New Roman"/>
            </a:endParaRPr>
          </a:p>
          <a:p>
            <a:pPr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مستوى أنظمة الرقابة الداخل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ن الصعب ان تعين المنشاة الأجتماعية مستشارين وعاملين كل الوقت لذا فإن مستوى أنظمة الرقابة الداخلية يكون منخفضا ويصعب على المراجع الأعتماد عليه عند تحديد طبيعة وتوقيت ومدى إجراءات المراجعة. وإن كان يجب ان يوضح للمنشأة ضرورة إتباعه.</a:t>
            </a:r>
            <a:endParaRPr b="0" lang="en-US" sz="2400" spc="-1" strike="noStrike">
              <a:solidFill>
                <a:srgbClr val="ffffff"/>
              </a:solidFill>
              <a:latin typeface="Times New Roman"/>
            </a:endParaRPr>
          </a:p>
          <a:p>
            <a:pPr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القوائم المال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ادة ما ترغب تلك المنشآت فى تقديم صورة مرضية عنها للحصول على مزيد من التبرعات وبالتالى يجب على المراجع أن يكون حذر لمنع محاولة تحسين صورة القوائم المالية.</a:t>
            </a:r>
            <a:endParaRPr b="0" lang="en-US" sz="2400" spc="-1" strike="noStrike">
              <a:solidFill>
                <a:srgbClr val="ffffff"/>
              </a:solidFill>
              <a:latin typeface="Times New Roman"/>
            </a:endParaRPr>
          </a:p>
          <a:p>
            <a:pPr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إختلاف إطار إعداد القوائم المالية عن المنشآت التى تهدف الى الربح.</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380880"/>
            <a:ext cx="8534160" cy="7279200"/>
          </a:xfrm>
          <a:prstGeom prst="rect">
            <a:avLst/>
          </a:prstGeom>
          <a:noFill/>
          <a:ln w="0">
            <a:noFill/>
          </a:ln>
        </p:spPr>
        <p:style>
          <a:lnRef idx="0"/>
          <a:fillRef idx="0"/>
          <a:effectRef idx="0"/>
          <a:fontRef idx="minor"/>
        </p:style>
        <p:txBody>
          <a:bodyPr lIns="90000" rIns="90000" tIns="46800" bIns="46800" anchor="t">
            <a:spAutoFit/>
          </a:bodyPr>
          <a:p>
            <a:pPr marL="568440" indent="-5065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إجراءات المراجعة</a:t>
            </a:r>
            <a:endParaRPr b="0" lang="en-US" sz="2400" spc="-1" strike="noStrike">
              <a:solidFill>
                <a:srgbClr val="ffffff"/>
              </a:solidFill>
              <a:latin typeface="Times New Roman"/>
            </a:endParaRPr>
          </a:p>
          <a:p>
            <a:pPr marL="568440" indent="-50652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خطيط والأشراف على أعمال المراجعة فى ضوء طبيعة المتطلبات المحاسبية للمنشآت الأجتماعية وكذا فى ضوء التقارير المزمع تقديمها وطبيعتها..</a:t>
            </a:r>
            <a:endParaRPr b="0" lang="en-US" sz="2400" spc="-1" strike="noStrike">
              <a:solidFill>
                <a:srgbClr val="ffffff"/>
              </a:solidFill>
              <a:latin typeface="Times New Roman"/>
            </a:endParaRPr>
          </a:p>
          <a:p>
            <a:pPr marL="568440" indent="-50652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ختبار صحة وإكتمال المقبوضات كما يلى:</a:t>
            </a:r>
            <a:endParaRPr b="0" lang="en-US" sz="2400" spc="-1" strike="noStrike">
              <a:solidFill>
                <a:srgbClr val="ffffff"/>
              </a:solidFill>
              <a:latin typeface="Times New Roman"/>
            </a:endParaRPr>
          </a:p>
          <a:p>
            <a:pPr marL="568440" indent="-5065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دراسة وتفهم وإختبار وجود نظام قوى صارم على صناديق جمع التبرعات والتى يجب أن يحكم إغلاقها لمنع فتحها من غير الأشخاص المرخص لهم بذلك.</a:t>
            </a:r>
            <a:endParaRPr b="0" lang="en-US" sz="2400" spc="-1" strike="noStrike">
              <a:solidFill>
                <a:srgbClr val="ffffff"/>
              </a:solidFill>
              <a:latin typeface="Times New Roman"/>
            </a:endParaRPr>
          </a:p>
          <a:p>
            <a:pPr marL="568440" indent="-5065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يجب أن يتأكد المراجع من أن صناديق التبرعات تجمع بصفة منتظمة ويتم عدها مرتين وأن يتم تسجيل محتوياتها بمعرفة شخصين على الاقل.</a:t>
            </a:r>
            <a:endParaRPr b="0" lang="en-US" sz="2400" spc="-1" strike="noStrike">
              <a:solidFill>
                <a:srgbClr val="ffffff"/>
              </a:solidFill>
              <a:latin typeface="Times New Roman"/>
            </a:endParaRPr>
          </a:p>
          <a:p>
            <a:pPr marL="568440" indent="-5065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التأكد أن هناك رقابة مزدوجة على فتح البريد وكل الحوالات البريدية وأنه يتم تسجيلها وتسويتها مع النقدية بالدفاتر.</a:t>
            </a:r>
            <a:endParaRPr b="0" lang="en-US" sz="2400" spc="-1" strike="noStrike">
              <a:solidFill>
                <a:srgbClr val="ffffff"/>
              </a:solidFill>
              <a:latin typeface="Times New Roman"/>
            </a:endParaRPr>
          </a:p>
          <a:p>
            <a:pPr marL="568440" indent="-5065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التأكد من تسليم المتبرعين إيصالات بما يفيد إستلام تبرعاتهم.</a:t>
            </a:r>
            <a:endParaRPr b="0" lang="en-US" sz="2400" spc="-1" strike="noStrike">
              <a:solidFill>
                <a:srgbClr val="ffffff"/>
              </a:solidFill>
              <a:latin typeface="Times New Roman"/>
            </a:endParaRPr>
          </a:p>
          <a:p>
            <a:pPr marL="568440" indent="-5065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التأكد من حفظ عقود الاتفاقيات بعناية وأنه يتم فحصها بإنتظام لمتابعة المتحصلات المعل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04920" y="533520"/>
            <a:ext cx="8534160" cy="635724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ابع إجراءات المراجعة</a:t>
            </a: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الربط بين التبرعات بملف المراسلات على أن يتم متابعة التبرعات المعلقة.</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فحص المنح الممنوحة من الجهات الحكومية وأية جهات مانحة أخرى لمتابعة المنح التى تم إستلامها وأنه يتم إستخدامها طبقا لشروطها.</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يجب أن تعد الفروع (إن وجدت) تقارير بصفة منتظمة لمركزها الرئيسى على أن يتأكد المراجع من أن كافة التقارير قد تم إستلامها كما يقوم بإختبارها وأنها قد ادرجت ضمن القوائم المالية.</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يجب على المراجع أن يأخذ فى إعتباره متطلبات المنشأة التى لا تهدف الى الربح أو المتبرعين فى تخصيص الأموال لأغراض محددة ( مخصصة – غير مخصصة) حيث يتعين وجود سجلات منفصلة تراعي طبيعة إيرادات وأصول هذه التبرعات.</a:t>
            </a: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533520"/>
            <a:ext cx="8382240" cy="5214600"/>
          </a:xfrm>
          <a:prstGeom prst="rect">
            <a:avLst/>
          </a:prstGeom>
          <a:noFill/>
          <a:ln w="0">
            <a:noFill/>
          </a:ln>
        </p:spPr>
        <p:style>
          <a:lnRef idx="0"/>
          <a:fillRef idx="0"/>
          <a:effectRef idx="0"/>
          <a:fontRef idx="minor"/>
        </p:style>
        <p:txBody>
          <a:bodyPr lIns="90000" rIns="90000" tIns="46800" bIns="46800" anchor="t">
            <a:spAutoFit/>
          </a:bodyPr>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ابع إجراءات المراجعة</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راجعة الاموال الممنوحة لمنتفعين مع المستندات والاعتماد من مجلس الادارة وأنها متمشية مع اهداف المنشا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إختبار ان الإيداع البنكى يتم فور إستلام النقدي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طابقة الايداعات البنكية مع سجلات الإستلام.</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راجعة مذكرات تسوية حسابات البنوك وأنها تعد بصفة منتظم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فحص الشيكات المرتدة من حيث التاريخ والتوقيعات والتظهير ...... إلخ.</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فحص المدفوعات خلال الفترة التالية لتاريخ الميزانية لإكتشاف أية مستحقات لم تسجل بالفاتر.</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أعمال المراجعة الاخرى ............ (كما فى أعمال مراجعة المنشآت التجار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380880"/>
            <a:ext cx="8534160" cy="616680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قرير المراجع</a:t>
            </a:r>
            <a:endParaRPr b="0" lang="en-US" sz="2400" spc="-1" strike="noStrike">
              <a:solidFill>
                <a:srgbClr val="ffffff"/>
              </a:solidFill>
              <a:latin typeface="Times New Roman"/>
            </a:endParaRPr>
          </a:p>
          <a:p>
            <a:pPr marL="168120" indent="-1681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يجب أن تكون تقارير المراجع متمشية مع المتطلبات المهنية مع ملاحظة أن القوانين المنظمة لعمل تلك المنشآت قد تتطلب من المراجع إبداء رأيه حول بعض النواحى الأدارية والتشغيلية أو الضبط الداخلى.</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نظرا لوجود صعوبة فى تطبيق الرقابة المناسبة على التبرعات قبل إدخالها فى السجلات (كما هو الحال بالنسبة للإيرادات فى المنشآت التجارية) لذلك يجب أن يكون المراجع مقتنعا بوجود نظم محاسبية كافية ورقابة مناسبة على العمليات وأنه لا يوجد ما يثير الشك فى صحة وإكتمال الأيرادات مما يمكن المراجع من إصدار تقرير غير متحفظ.</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228600" y="304920"/>
            <a:ext cx="8610480" cy="6532200"/>
          </a:xfrm>
          <a:prstGeom prst="rect">
            <a:avLst/>
          </a:prstGeom>
          <a:noFill/>
          <a:ln w="0">
            <a:noFill/>
          </a:ln>
        </p:spPr>
        <p:style>
          <a:lnRef idx="0"/>
          <a:fillRef idx="0"/>
          <a:effectRef idx="0"/>
          <a:fontRef idx="minor"/>
        </p:style>
        <p:txBody>
          <a:bodyPr lIns="90000" rIns="90000" tIns="46800" bIns="46800" anchor="t">
            <a:spAutoFit/>
          </a:bodyPr>
          <a:p>
            <a:pPr marL="291960" indent="-291960"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المنشآت الاخرى التى لا تهدف الى الربح (النوادى والاتحادات الرياضية والمنشآت السياسية والنقابية)</a:t>
            </a:r>
            <a:endParaRPr b="0" lang="en-US" sz="2200" spc="-1" strike="noStrike">
              <a:solidFill>
                <a:srgbClr val="ffffff"/>
              </a:solidFill>
              <a:latin typeface="Times New Roman"/>
            </a:endParaRPr>
          </a:p>
          <a:p>
            <a:pPr marL="291960" indent="-29196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  فيما يلى الأعتبارات الخاصة بأسلوب مراجعة تلك المنشآت:</a:t>
            </a:r>
            <a:endParaRPr b="0" lang="en-US" sz="2200" spc="-1" strike="noStrike">
              <a:solidFill>
                <a:srgbClr val="ffffff"/>
              </a:solidFill>
              <a:latin typeface="Times New Roman"/>
            </a:endParaRPr>
          </a:p>
          <a:p>
            <a:pPr marL="291960" indent="-291960" algn="just" rtl="1">
              <a:spcBef>
                <a:spcPts val="137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  ما هو نوع الراى (التاكيد) المطلوب من المراجع؟</a:t>
            </a:r>
            <a:endParaRPr b="0" lang="en-US" sz="2200" spc="-1" strike="noStrike">
              <a:solidFill>
                <a:srgbClr val="ffffff"/>
              </a:solidFill>
              <a:latin typeface="Times New Roman"/>
            </a:endParaRPr>
          </a:p>
          <a:p>
            <a:pPr marL="291960" indent="-2919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2</a:t>
            </a:r>
            <a:r>
              <a:rPr b="0" lang="ar-SA" sz="2200" spc="-1" strike="noStrike">
                <a:solidFill>
                  <a:srgbClr val="ffffff"/>
                </a:solidFill>
                <a:latin typeface="Times New Roman"/>
                <a:ea typeface="Times New Roman (Arabic)"/>
              </a:rPr>
              <a:t>) هل المنشأة كبيرة أم صغيرة؟ (معيار كفاءة وكفاية النظم المحاسبية وأنظمة الرقابة الداخلية).</a:t>
            </a:r>
            <a:endParaRPr b="0" lang="en-US" sz="2200" spc="-1" strike="noStrike">
              <a:solidFill>
                <a:srgbClr val="ffffff"/>
              </a:solidFill>
              <a:latin typeface="Times New Roman"/>
            </a:endParaRPr>
          </a:p>
          <a:p>
            <a:pPr marL="291960" indent="-2919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3</a:t>
            </a:r>
            <a:r>
              <a:rPr b="0" lang="ar-SA" sz="2200" spc="-1" strike="noStrike">
                <a:solidFill>
                  <a:srgbClr val="ffffff"/>
                </a:solidFill>
                <a:latin typeface="Times New Roman"/>
                <a:ea typeface="Times New Roman (Arabic)"/>
              </a:rPr>
              <a:t>) ما هى السجلات التى يجب ان تحتفظ بها المنشأة؟ ( سجل العضوية ، سجل الأيرادات والمصروفات ، سجل الأشتراكات ، دفتر الصندوق)</a:t>
            </a:r>
            <a:endParaRPr b="0" lang="en-US" sz="2200" spc="-1" strike="noStrike">
              <a:solidFill>
                <a:srgbClr val="ffffff"/>
              </a:solidFill>
              <a:latin typeface="Times New Roman"/>
            </a:endParaRPr>
          </a:p>
          <a:p>
            <a:pPr marL="291960" indent="-2919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4</a:t>
            </a:r>
            <a:r>
              <a:rPr b="0" lang="ar-SA" sz="2200" spc="-1" strike="noStrike">
                <a:solidFill>
                  <a:srgbClr val="ffffff"/>
                </a:solidFill>
                <a:latin typeface="Times New Roman"/>
                <a:ea typeface="Times New Roman (Arabic)"/>
              </a:rPr>
              <a:t>) ما هو المظهر الرئيسى للمنشأة؟ (هل لديها أصول طويلة الأجل).</a:t>
            </a:r>
            <a:endParaRPr b="0" lang="en-US" sz="2200" spc="-1" strike="noStrike">
              <a:solidFill>
                <a:srgbClr val="ffffff"/>
              </a:solidFill>
              <a:latin typeface="Times New Roman"/>
            </a:endParaRPr>
          </a:p>
          <a:p>
            <a:pPr marL="291960" indent="-2919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5</a:t>
            </a:r>
            <a:r>
              <a:rPr b="0" lang="ar-SA" sz="2200" spc="-1" strike="noStrike">
                <a:solidFill>
                  <a:srgbClr val="ffffff"/>
                </a:solidFill>
                <a:latin typeface="Times New Roman"/>
                <a:ea typeface="Times New Roman (Arabic)"/>
              </a:rPr>
              <a:t>) كيف تكونت المنشأة وهل توجد قيود تحدد انشطتها المسموح بها؟</a:t>
            </a:r>
            <a:endParaRPr b="0" lang="en-US" sz="2200" spc="-1" strike="noStrike">
              <a:solidFill>
                <a:srgbClr val="ffffff"/>
              </a:solidFill>
              <a:latin typeface="Times New Roman"/>
            </a:endParaRPr>
          </a:p>
          <a:p>
            <a:pPr marL="291960" indent="-2919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6</a:t>
            </a:r>
            <a:r>
              <a:rPr b="0" lang="ar-SA" sz="2200" spc="-1" strike="noStrike">
                <a:solidFill>
                  <a:srgbClr val="ffffff"/>
                </a:solidFill>
                <a:latin typeface="Times New Roman"/>
                <a:ea typeface="Times New Roman (Arabic)"/>
              </a:rPr>
              <a:t>) ما هى السياسات المحاسبية المتبعة وهل هى مناسبة؟</a:t>
            </a:r>
            <a:endParaRPr b="0" lang="en-US" sz="2200" spc="-1" strike="noStrike">
              <a:solidFill>
                <a:srgbClr val="ffffff"/>
              </a:solidFill>
              <a:latin typeface="Times New Roman"/>
            </a:endParaRPr>
          </a:p>
          <a:p>
            <a:pPr marL="291960" indent="-2919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7</a:t>
            </a:r>
            <a:r>
              <a:rPr b="0" lang="ar-SA" sz="2200" spc="-1" strike="noStrike">
                <a:solidFill>
                  <a:srgbClr val="ffffff"/>
                </a:solidFill>
                <a:latin typeface="Times New Roman"/>
                <a:ea typeface="Times New Roman (Arabic)"/>
              </a:rPr>
              <a:t>) ما هى القوائم المالية الالزامية وهل هى صحيحة؟</a:t>
            </a:r>
            <a:endParaRPr b="0" lang="en-US" sz="2200" spc="-1" strike="noStrike">
              <a:solidFill>
                <a:srgbClr val="ffffff"/>
              </a:solidFill>
              <a:latin typeface="Times New Roman"/>
            </a:endParaRPr>
          </a:p>
          <a:p>
            <a:pPr marL="291960" indent="-2919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8</a:t>
            </a:r>
            <a:r>
              <a:rPr b="0" lang="ar-SA" sz="2200" spc="-1" strike="noStrike">
                <a:solidFill>
                  <a:srgbClr val="ffffff"/>
                </a:solidFill>
                <a:latin typeface="Times New Roman"/>
                <a:ea typeface="Times New Roman (Arabic)"/>
              </a:rPr>
              <a:t>) يجب على المراجع ان يحصل على أدلة عن كافة تاكيدات القوائم المالية.</a:t>
            </a:r>
            <a:endParaRPr b="0" lang="en-US" sz="2200" spc="-1" strike="noStrike">
              <a:solidFill>
                <a:srgbClr val="ffffff"/>
              </a:solidFill>
              <a:latin typeface="Times New Roman"/>
            </a:endParaRPr>
          </a:p>
          <a:p>
            <a:pPr marL="291960" indent="-291960" algn="r" rtl="1">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228600"/>
            <a:ext cx="861048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وجه الأختلاف بين مراجعة المنشآت التى لا تهدف الى الربح والتى تهدف الى الربح</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9" name=""/>
          <p:cNvGraphicFramePr/>
          <p:nvPr/>
        </p:nvGraphicFramePr>
        <p:xfrm>
          <a:off x="380880" y="1143000"/>
          <a:ext cx="8458200" cy="4343040"/>
        </p:xfrm>
        <a:graphic>
          <a:graphicData uri="http://schemas.openxmlformats.org/drawingml/2006/table">
            <a:tbl>
              <a:tblPr/>
              <a:tblGrid>
                <a:gridCol w="2819520"/>
                <a:gridCol w="2819520"/>
                <a:gridCol w="2819160"/>
              </a:tblGrid>
              <a:tr h="6044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المنشآت التى لا تهدف الى الربح</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المنشآت التى تهدف الى الربح</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الموضوع</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464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أهداف إجتماعية وثقافية وسياسية ومن ثم الحفاظ على رأس المال.</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سهلة ومبسطة ومنخفضة المستوى</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زيادة الأرباح وأهداف تجارية وإقتصادية وتنمية رأس المال .</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كافية وملائمة ومعقدة فى بعض الأحوال</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التكوين والأهداف</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أنظمة الرقابة الداخل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96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قد يتحدد يالقانون أو بإتفاقية المراجعة فى بعض الأحوال.</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إستخدام الحكم الشخصى</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المخاطر ومستويات الأهمية النسب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عدد اقل لا يتتطلب فيهم القدرات المهنية العالية</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التبرعات والاشتراكات</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عدد كبير من ذوى الكفاءات والمؤهلات والخبرات</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رأس المال والقروض</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الهيكل الوظيفى وأهداف العاملين</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Univers 45 Light"/>
                        </a:rPr>
                        <a:t>أسس التمويل</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0" name=""/>
          <p:cNvSpPr/>
          <p:nvPr/>
        </p:nvSpPr>
        <p:spPr>
          <a:xfrm flipH="1">
            <a:off x="304920" y="28954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flipH="1">
            <a:off x="380520" y="49528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10:51:15Z</dcterms:created>
  <dc:creator>Administrator</dc:creator>
  <dc:description/>
  <dc:language>en-US</dc:language>
  <cp:lastModifiedBy>Administrator</cp:lastModifiedBy>
  <dcterms:modified xsi:type="dcterms:W3CDTF">2004-04-09T08:23:08Z</dcterms:modified>
  <cp:revision>10</cp:revision>
  <dc:subject/>
  <dc:title>PowerPoint Presentation</dc:title>
</cp:coreProperties>
</file>