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457200" y="685800"/>
            <a:ext cx="8381880" cy="631188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فصل الثالث:الأصول غير المتداولة الملموسة</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نطـــــــــاق</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16</a:t>
            </a:r>
            <a:r>
              <a:rPr b="0" lang="ar-SA" sz="2400" spc="-1" strike="noStrike">
                <a:solidFill>
                  <a:srgbClr val="ffffff"/>
                </a:solidFill>
                <a:latin typeface="Times New Roman"/>
                <a:ea typeface="Times New Roman (Arabic)"/>
              </a:rPr>
              <a:t>) " العقارات والآلات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لمعدات"</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3</a:t>
            </a:r>
            <a:r>
              <a:rPr b="0" lang="ar-SA" sz="2400" spc="-1" strike="noStrike">
                <a:solidFill>
                  <a:srgbClr val="ffffff"/>
                </a:solidFill>
                <a:latin typeface="Times New Roman"/>
                <a:ea typeface="Times New Roman (Arabic)"/>
              </a:rPr>
              <a:t>) " تكاليف الإقتراض"</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6</a:t>
            </a:r>
            <a:r>
              <a:rPr b="0" lang="ar-SA" sz="2400" spc="-1" strike="noStrike">
                <a:solidFill>
                  <a:srgbClr val="ffffff"/>
                </a:solidFill>
                <a:latin typeface="Times New Roman"/>
                <a:ea typeface="Times New Roman (Arabic)"/>
              </a:rPr>
              <a:t>) " الإنخفاض فى 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0</a:t>
            </a:r>
            <a:r>
              <a:rPr b="0" lang="ar-SA" sz="2400" spc="-1" strike="noStrike">
                <a:solidFill>
                  <a:srgbClr val="ffffff"/>
                </a:solidFill>
                <a:latin typeface="Times New Roman"/>
                <a:ea typeface="Times New Roman (Arabic)"/>
              </a:rPr>
              <a:t>) " المحاسبة عن المنح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حكومية والإفصاح عن المساعدات الحكومي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40</a:t>
            </a:r>
            <a:r>
              <a:rPr b="0" lang="ar-SA" sz="2400" spc="-1" strike="noStrike">
                <a:solidFill>
                  <a:srgbClr val="ffffff"/>
                </a:solidFill>
                <a:latin typeface="Times New Roman"/>
                <a:ea typeface="Times New Roman (Arabic)"/>
              </a:rPr>
              <a:t>) " الإستثمارات العقاري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80880" y="304920"/>
            <a:ext cx="8382240" cy="7857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حل المثـ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1/12/2007</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5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الإهلاك المحمل عن الستة أشهر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قبل التقييم)</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5000</a:t>
            </a:r>
            <a:r>
              <a:rPr b="1"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0/6/2008</a:t>
            </a:r>
            <a:r>
              <a:rPr b="1" lang="ar-SA" sz="2000" spc="-1" strike="noStrike">
                <a:solidFill>
                  <a:srgbClr val="ffffff"/>
                </a:solidFill>
                <a:latin typeface="Times New Roman"/>
                <a:ea typeface="Times New Roman (Arabic)"/>
              </a:rPr>
              <a:t> (قيل التقييم)</a:t>
            </a:r>
            <a:r>
              <a:rPr b="1" lang="ar-SA" sz="2000" spc="-1" strike="noStrike">
                <a:solidFill>
                  <a:srgbClr val="ffffff"/>
                </a:solidFill>
                <a:latin typeface="Times New Roman"/>
                <a:ea typeface="Times New Roman (Arabic)"/>
              </a:rPr>
              <a:t>	</a:t>
            </a: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3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ضاف: فائض إعادة التقييم فى </a:t>
            </a:r>
            <a:r>
              <a:rPr b="1" lang="ar-SA" sz="2000" spc="-1" strike="noStrike">
                <a:solidFill>
                  <a:srgbClr val="ffffff"/>
                </a:solidFill>
                <a:latin typeface="Times New Roman"/>
                <a:ea typeface="Times New Roman (Arabic)"/>
              </a:rPr>
              <a:t>30/6</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مستنتج)</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رصيد التكلفة المعدلة بنتيجة إعادة التقييم فى </a:t>
            </a:r>
            <a:r>
              <a:rPr b="1" lang="ar-SA" sz="2000" spc="-1" strike="noStrike">
                <a:solidFill>
                  <a:srgbClr val="ffffff"/>
                </a:solidFill>
                <a:latin typeface="Times New Roman"/>
                <a:ea typeface="Times New Roman (Arabic)"/>
              </a:rPr>
              <a:t>30/</a:t>
            </a:r>
            <a:r>
              <a:rPr b="1" lang="ar-EG" sz="2000" spc="-1" strike="noStrike">
                <a:solidFill>
                  <a:srgbClr val="ffffff"/>
                </a:solidFill>
                <a:latin typeface="Times New Roman"/>
                <a:ea typeface="Times New Roman (Arabic)"/>
              </a:rPr>
              <a:t>6</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إهلاك الستة أشهر التالية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على أساس القيمة المعدلة</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rPr>
              <a:t>X</a:t>
            </a:r>
            <a:r>
              <a:rPr b="1" lang="ar-SA" sz="2000" spc="-1" strike="noStrike">
                <a:solidFill>
                  <a:srgbClr val="ffffff"/>
                </a:solidFill>
                <a:latin typeface="Times New Roman"/>
                <a:ea typeface="Times New Roman (Arabic)"/>
              </a:rPr>
              <a:t>  نصف عام)</a:t>
            </a:r>
            <a:endParaRPr b="0" lang="en-US" sz="20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القيمة الدفترية فى </a:t>
            </a:r>
            <a:r>
              <a:rPr b="1" lang="ar-SA" sz="2400" spc="-1" strike="noStrike">
                <a:solidFill>
                  <a:srgbClr val="ffffff"/>
                </a:solidFill>
                <a:latin typeface="Times New Roman"/>
                <a:ea typeface="Times New Roman (Arabic)"/>
              </a:rPr>
              <a:t>31/12/2008</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1360000</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76212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تاريخ </a:t>
            </a:r>
            <a:r>
              <a:rPr b="0" lang="ar-SA" sz="2400" spc="-1" strike="noStrike">
                <a:solidFill>
                  <a:srgbClr val="ffffff"/>
                </a:solidFill>
                <a:latin typeface="Times New Roman"/>
              </a:rPr>
              <a:t>1/1/93</a:t>
            </a:r>
            <a:r>
              <a:rPr b="0" lang="ar-SA" sz="2400" spc="-1" strike="noStrike">
                <a:solidFill>
                  <a:srgbClr val="ffffff"/>
                </a:solidFill>
                <a:latin typeface="Times New Roman"/>
              </a:rPr>
              <a:t> اقتنت إحدى الشركات آلات ومعدات بلغت تكلفتها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ولا توجد لها قيمة تخريدية متوقعة ويبلغ العمر الافتراضى لتلك الآلات </a:t>
            </a:r>
            <a:r>
              <a:rPr b="0" lang="ar-SA" sz="2400" spc="-1" strike="noStrike">
                <a:solidFill>
                  <a:srgbClr val="ffffff"/>
                </a:solidFill>
                <a:latin typeface="Times New Roman"/>
              </a:rPr>
              <a:t>10</a:t>
            </a:r>
            <a:r>
              <a:rPr b="0" lang="ar-SA" sz="2400" spc="-1" strike="noStrike">
                <a:solidFill>
                  <a:srgbClr val="ffffff"/>
                </a:solidFill>
                <a:latin typeface="Times New Roman"/>
              </a:rPr>
              <a:t> سنوات وتهلك بطرقة القسط الثابت. وقد قامت الشركة فى بد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بإعادة تقييم الآلات المذكورة بإستخدام جد</a:t>
            </a:r>
            <a:r>
              <a:rPr b="0" lang="ar-SA" sz="2400" spc="-1" strike="noStrike">
                <a:solidFill>
                  <a:srgbClr val="ffffff"/>
                </a:solidFill>
                <a:latin typeface="Times New Roman"/>
                <a:cs typeface="Times New Roman (Arabic)"/>
              </a:rPr>
              <a:t>ا</a:t>
            </a:r>
            <a:r>
              <a:rPr b="0" lang="ar-SA" sz="2400" spc="-1" strike="noStrike">
                <a:solidFill>
                  <a:srgbClr val="ffffff"/>
                </a:solidFill>
                <a:latin typeface="Times New Roman"/>
              </a:rPr>
              <a:t>ول تكلفة الإستبدال وقد أشارت تلك الجداول الى أن معدل تكلفة الإستبدال فى تاريخ الإقتناء كان </a:t>
            </a:r>
            <a:r>
              <a:rPr b="0" lang="ar-SA" sz="2400" spc="-1" strike="noStrike">
                <a:solidFill>
                  <a:srgbClr val="ffffff"/>
                </a:solidFill>
                <a:latin typeface="Times New Roman"/>
              </a:rPr>
              <a:t>110</a:t>
            </a:r>
            <a:r>
              <a:rPr b="0" lang="ar-SA" sz="2400" spc="-1" strike="noStrike">
                <a:solidFill>
                  <a:srgbClr val="ffffff"/>
                </a:solidFill>
                <a:latin typeface="Times New Roman"/>
              </a:rPr>
              <a:t> فى حين بلغ فى تاريخ إعادة التقييم </a:t>
            </a:r>
            <a:r>
              <a:rPr b="0" lang="ar-SA" sz="2400" spc="-1" strike="noStrike">
                <a:solidFill>
                  <a:srgbClr val="ffffff"/>
                </a:solidFill>
                <a:latin typeface="Times New Roman"/>
              </a:rPr>
              <a:t>124.7</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لفة بعد إعادة التقييم </a:t>
            </a:r>
            <a:r>
              <a:rPr b="0" lang="ar-SA" sz="2400" spc="-1" strike="noStrike">
                <a:solidFill>
                  <a:srgbClr val="ffffff"/>
                </a:solidFill>
                <a:latin typeface="Times New Roman"/>
              </a:rPr>
              <a:t>	</a:t>
            </a:r>
            <a:r>
              <a:rPr b="0" lang="ar-SA" sz="2400" spc="-1" strike="noStrike">
                <a:solidFill>
                  <a:srgbClr val="ffffff"/>
                </a:solidFill>
                <a:latin typeface="Times New Roman"/>
              </a:rPr>
              <a:t>15000000</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EG" sz="2400" spc="-1" strike="noStrike">
                <a:solidFill>
                  <a:srgbClr val="ffffff"/>
                </a:solidFill>
                <a:latin typeface="Times New Roman"/>
              </a:rPr>
              <a:t>  14.7%</a:t>
            </a:r>
            <a:r>
              <a:rPr b="0" lang="ar-SA" sz="2400" spc="-1" strike="noStrike">
                <a:solidFill>
                  <a:srgbClr val="ffffff"/>
                </a:solidFill>
                <a:latin typeface="Times New Roman"/>
              </a:rPr>
              <a:t>	</a:t>
            </a:r>
            <a:r>
              <a:rPr b="0" lang="ar-SA" sz="2400" spc="-1" strike="noStrike">
                <a:solidFill>
                  <a:srgbClr val="ffffff"/>
                </a:solidFill>
                <a:latin typeface="Times New Roman"/>
              </a:rPr>
              <a:t>=   17</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جمع الإهلاك على أساس قيمة إعادة التقييم =  </a:t>
            </a:r>
            <a:r>
              <a:rPr b="0" lang="ar-SA" sz="2400" spc="-1" strike="noStrike">
                <a:solidFill>
                  <a:srgbClr val="ffffff"/>
                </a:solidFill>
                <a:latin typeface="Times New Roman"/>
              </a:rPr>
              <a:t>17000000</a:t>
            </a:r>
            <a:r>
              <a:rPr b="0" lang="ar-SA" sz="2400" spc="-1" strike="noStrike">
                <a:solidFill>
                  <a:srgbClr val="ffffff"/>
                </a:solidFill>
                <a:latin typeface="Times New Roman"/>
              </a:rPr>
              <a:t> / </a:t>
            </a:r>
            <a:r>
              <a:rPr b="0" lang="ar-SA" sz="2400" spc="-1" strike="noStrike">
                <a:solidFill>
                  <a:srgbClr val="ffffff"/>
                </a:solidFill>
                <a:latin typeface="Times New Roman"/>
              </a:rPr>
              <a:t>10</a:t>
            </a:r>
            <a:r>
              <a:rPr b="0" lang="ar-SA" sz="2400" spc="-1" strike="noStrike">
                <a:solidFill>
                  <a:srgbClr val="ffffff"/>
                </a:solidFill>
                <a:latin typeface="Times New Roman"/>
              </a:rPr>
              <a:t> سنوات </a:t>
            </a:r>
            <a:r>
              <a:rPr b="0" lang="en-US" sz="2400" spc="-1" strike="noStrike">
                <a:solidFill>
                  <a:srgbClr val="ffffff"/>
                </a:solidFill>
                <a:latin typeface="Times New Roman"/>
              </a:rPr>
              <a:t>X</a:t>
            </a:r>
            <a:r>
              <a:rPr b="0" lang="ar-SA" sz="2400" spc="-1" strike="noStrike">
                <a:solidFill>
                  <a:srgbClr val="ffffff"/>
                </a:solidFill>
                <a:latin typeface="Times New Roman"/>
              </a:rPr>
              <a:t> 3</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سنوات  =  </a:t>
            </a:r>
            <a:r>
              <a:rPr b="0" lang="ar-SA" sz="2400" spc="-1" strike="noStrike">
                <a:solidFill>
                  <a:srgbClr val="ffffff"/>
                </a:solidFill>
                <a:latin typeface="Times New Roman"/>
              </a:rPr>
              <a:t>5.1</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قيمة الدفترية بعد إعادة التقييم  =  </a:t>
            </a:r>
            <a:r>
              <a:rPr b="0" lang="ar-SA" sz="2400" spc="-1" strike="noStrike">
                <a:solidFill>
                  <a:srgbClr val="ffffff"/>
                </a:solidFill>
                <a:latin typeface="Times New Roman"/>
              </a:rPr>
              <a:t>11.9</a:t>
            </a:r>
            <a:r>
              <a:rPr b="0" lang="ar-SA" sz="2400" spc="-1" strike="noStrike">
                <a:solidFill>
                  <a:srgbClr val="ffffff"/>
                </a:solidFill>
                <a:latin typeface="Times New Roman"/>
              </a:rPr>
              <a:t> مليون جنيه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457200"/>
            <a:ext cx="8458200" cy="61668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راجعة الأعمار الإفتراضية الإقتصادية للأصو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معيار المحاسبة الدولى رقم (</a:t>
            </a:r>
            <a:r>
              <a:rPr b="0" lang="ar-SA" sz="2400" spc="-1" strike="noStrike">
                <a:solidFill>
                  <a:srgbClr val="ffffff"/>
                </a:solidFill>
                <a:latin typeface="Times New Roman"/>
              </a:rPr>
              <a:t>16</a:t>
            </a:r>
            <a:r>
              <a:rPr b="0" lang="ar-SA" sz="2400" spc="-1" strike="noStrike">
                <a:solidFill>
                  <a:srgbClr val="ffffff"/>
                </a:solidFill>
                <a:latin typeface="Times New Roman"/>
              </a:rPr>
              <a:t>) أن يتم مراجعة الأعمار الإفتراضية الإقتصادية لعناصر الأصول الملموسة دوريا، فإذا إختلفت التوقعات بشكل ملموس عن التقديرات السابقة فإنه يجب تعديل عبء الإهلاك عن الفترة الحالية والفترات المستقب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تم شراء أحد الأصول فى </a:t>
            </a:r>
            <a:r>
              <a:rPr b="0" lang="ar-SA" sz="2400" spc="-1" strike="noStrike">
                <a:solidFill>
                  <a:srgbClr val="ffffff"/>
                </a:solidFill>
                <a:latin typeface="Times New Roman"/>
              </a:rPr>
              <a:t>1/1/2005</a:t>
            </a:r>
            <a:r>
              <a:rPr b="0" lang="ar-SA" sz="2400" spc="-1" strike="noStrike">
                <a:solidFill>
                  <a:srgbClr val="ffffff"/>
                </a:solidFill>
                <a:latin typeface="Times New Roman"/>
              </a:rPr>
              <a:t> مقابل مبلغ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 بطريقة القسط الثابت على مدار خمس سنوات، وفى عام </a:t>
            </a:r>
            <a:r>
              <a:rPr b="0" lang="ar-SA" sz="2400" spc="-1" strike="noStrike">
                <a:solidFill>
                  <a:srgbClr val="ffffff"/>
                </a:solidFill>
                <a:latin typeface="Times New Roman"/>
              </a:rPr>
              <a:t>2007</a:t>
            </a:r>
            <a:r>
              <a:rPr b="0" lang="ar-SA" sz="2400" spc="-1" strike="noStrike">
                <a:solidFill>
                  <a:srgbClr val="ffffff"/>
                </a:solidFill>
                <a:latin typeface="Times New Roman"/>
              </a:rPr>
              <a:t> وبمراجعة العمر الإفتراضى للأصل المذكور وجد أن العمر الإفتراضى الإقتصادى المتبقى للأصل فى </a:t>
            </a:r>
            <a:r>
              <a:rPr b="0" lang="ar-SA" sz="2400" spc="-1" strike="noStrike">
                <a:solidFill>
                  <a:srgbClr val="ffffff"/>
                </a:solidFill>
                <a:latin typeface="Times New Roman"/>
              </a:rPr>
              <a:t>31/12/2007</a:t>
            </a:r>
            <a:r>
              <a:rPr b="0" lang="ar-SA" sz="2400" spc="-1" strike="noStrike">
                <a:solidFill>
                  <a:srgbClr val="ffffff"/>
                </a:solidFill>
                <a:latin typeface="Times New Roman"/>
              </a:rPr>
              <a:t> هو سبع سنوات، فما هى قيمة عبء الإهلاك عن عام </a:t>
            </a:r>
            <a:r>
              <a:rPr b="0" lang="ar-SA" sz="2400" spc="-1" strike="noStrike">
                <a:solidFill>
                  <a:srgbClr val="ffffff"/>
                </a:solidFill>
                <a:latin typeface="Times New Roman"/>
              </a:rPr>
              <a:t>2007</a:t>
            </a:r>
            <a:r>
              <a:rPr b="0" lang="ar-SA" sz="2400" spc="-1" strike="noStrike">
                <a:solidFill>
                  <a:srgbClr val="ffffff"/>
                </a:solidFill>
                <a:latin typeface="Times New Roman"/>
              </a:rPr>
              <a:t> علما بأنه لا توجد قيمة تخريدية للأصل فى نهاية عمره.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نخفاض فى قيمة الأصول (معيار المحاسبة الدولى رقم </a:t>
            </a:r>
            <a:r>
              <a:rPr b="1" lang="ar-SA" sz="2400" spc="-1" strike="noStrike">
                <a:solidFill>
                  <a:srgbClr val="ffffff"/>
                </a:solidFill>
                <a:latin typeface="Times New Roman"/>
              </a:rPr>
              <a:t>36</a:t>
            </a:r>
            <a:r>
              <a:rPr b="1" lang="ar-SA"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هدف المعيار الى عدم قيام المنشآت بإدراج الأصول بقيمة تزيد عن قيمتها الممكن إستردادها.</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الممكن إستردادها بأنها صافى القيمة البيعية أو القيمة فى الأستخدام أيهما أكبر.</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فى الإستخدام بأنها القيمة الحالية للتدفقات النقدية المقدرة المتوقع أن تنتج من إستخدام الأصل والتخلص منه فى نهاية عمره الإقتصادى.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خصم التدفقات النقدية للوصول الى القيمة فى الإستخدام، يكون معدل الخصم المستخدم هو المعدل المحدد سوقيا قبل الضرائب والذى يسمح بتغطية المخاطر المتعلقة بالأصل.</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727200"/>
            <a:ext cx="8153280" cy="594612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شرات إنخفاض قيمة الأصو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خارج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إنخفاض القيمة السوقية للأصل بصورة كبير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وجود تغييرات عكسية فى البيئه التكنولوجية أو السوقية أو الإقتصادية أو </a:t>
            </a:r>
            <a:r>
              <a:rPr b="0" lang="en-US" sz="2400" spc="-1" strike="noStrike">
                <a:solidFill>
                  <a:srgbClr val="ffffff"/>
                </a:solidFill>
                <a:latin typeface="Times New Roman"/>
              </a:rPr>
              <a:t>        </a:t>
            </a:r>
            <a:r>
              <a:rPr b="0" lang="ar-SA" sz="2400" spc="-1" strike="noStrike">
                <a:solidFill>
                  <a:srgbClr val="ffffff"/>
                </a:solidFill>
                <a:latin typeface="Times New Roman"/>
              </a:rPr>
              <a:t>القانون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وث زيادة فى معدلات الفائدة السوقية مما يؤدى الى إنخفاض القيمة </a:t>
            </a:r>
            <a:r>
              <a:rPr b="0" lang="en-US" sz="2400" spc="-1" strike="noStrike">
                <a:solidFill>
                  <a:srgbClr val="ffffff"/>
                </a:solidFill>
                <a:latin typeface="Times New Roman"/>
              </a:rPr>
              <a:t>          </a:t>
            </a:r>
            <a:r>
              <a:rPr b="0" lang="ar-SA" sz="2400" spc="-1" strike="noStrike">
                <a:solidFill>
                  <a:srgbClr val="ffffff"/>
                </a:solidFill>
                <a:latin typeface="Times New Roman"/>
              </a:rPr>
              <a:t>الممكن إستردادها من الأص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م القيمة الصافية للأصل بالدفاتر أكثر من القيمة السوقيه ل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داخل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وافر أدلة على التقادم أو التلف.</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هناك إنخفاض جوهرى فى الإستخدام.</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آداء الإقتصادى للأصل أسوء مما هو متوقع.</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304920"/>
            <a:ext cx="8458200" cy="6342120"/>
          </a:xfrm>
          <a:prstGeom prst="rect">
            <a:avLst/>
          </a:prstGeom>
          <a:noFill/>
          <a:ln w="0">
            <a:noFill/>
          </a:ln>
        </p:spPr>
        <p:style>
          <a:lnRef idx="0"/>
          <a:fillRef idx="0"/>
          <a:effectRef idx="0"/>
          <a:fontRef idx="minor"/>
        </p:style>
        <p:txBody>
          <a:bodyPr lIns="90000" rIns="90000" tIns="46800" bIns="46800" anchor="t">
            <a:spAutoFit/>
          </a:bodyPr>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وحدات المولدة للنقدية</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محاولة تقدير القيمة فى الإستخدام لأصل ما قد يكون من الصعب القيام بذلك لأن الأصل لا يولد الدخل أو التدفقات النقدية بذاته ولكن كجزء من وحدة ككل. ويكون الحل هنا هو أن يتم تقدير القيمة الممكن إستردادها للوحدة ككل ويتم الإعتراف بالإنخفاض فى القيمة إذا وجدنا أن قيمة الوحدة ككل أقل من قيمتها التى تظهر فى الدفاتر.</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نشأ مشكلة فى حالة وجود شهرة محل أو أصول أخرى والتى يجب توزيعها على وحدات الأصول لتحديد الإنخفاض فى قيمتها.</a:t>
            </a:r>
            <a:endParaRPr b="0" lang="en-US" sz="2400" spc="-1" strike="noStrike">
              <a:solidFill>
                <a:srgbClr val="ffffff"/>
              </a:solidFill>
              <a:latin typeface="Times New Roman"/>
            </a:endParaRPr>
          </a:p>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625320" indent="-6253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ثـال</a:t>
            </a:r>
            <a:r>
              <a:rPr b="0" lang="ar-SA" sz="2400" spc="-1" strike="noStrike">
                <a:solidFill>
                  <a:srgbClr val="ffffff"/>
                </a:solidFill>
                <a:latin typeface="Times New Roman"/>
              </a:rPr>
              <a:t>: منشأة لها ثلاثة أصول تدر الدخل وتبلغ قيمة صافى تلك الأصول </a:t>
            </a:r>
            <a:r>
              <a:rPr b="0" lang="ar-SA" sz="2400" spc="-1" strike="noStrike">
                <a:solidFill>
                  <a:srgbClr val="ffffff"/>
                </a:solidFill>
                <a:latin typeface="Times New Roman"/>
              </a:rPr>
              <a:t>10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200</a:t>
            </a:r>
            <a:r>
              <a:rPr b="0" lang="ar-SA" sz="2400" spc="-1" strike="noStrike">
                <a:solidFill>
                  <a:srgbClr val="ffffff"/>
                </a:solidFill>
                <a:latin typeface="Times New Roman"/>
              </a:rPr>
              <a:t> مليون جنيها ، بالإضافة الى ذلك كانت هناك أصول للمركز الرئيسى قيمتها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جنيها. و</a:t>
            </a:r>
            <a:r>
              <a:rPr b="0" lang="ar-SA" sz="2400" spc="-1" strike="noStrike">
                <a:solidFill>
                  <a:srgbClr val="ffffff"/>
                </a:solidFill>
                <a:latin typeface="Times New Roman"/>
                <a:cs typeface="Times New Roman (Arabic)"/>
              </a:rPr>
              <a:t>تعتبر</a:t>
            </a:r>
            <a:r>
              <a:rPr b="0" lang="ar-SA" sz="2400" spc="-1" strike="noStrike">
                <a:solidFill>
                  <a:srgbClr val="ffffff"/>
                </a:solidFill>
                <a:latin typeface="Times New Roman"/>
              </a:rPr>
              <a:t> القيم النسبية لصافى الأصول مؤشر معقول لنسب موارد المركز الرئيسى </a:t>
            </a:r>
            <a:r>
              <a:rPr b="0" lang="ar-SA" sz="2400" spc="-1" strike="noStrike">
                <a:solidFill>
                  <a:srgbClr val="ffffff"/>
                </a:solidFill>
                <a:latin typeface="Times New Roman"/>
                <a:cs typeface="Times New Roman (Arabic)"/>
              </a:rPr>
              <a:t>المخصصة</a:t>
            </a:r>
            <a:r>
              <a:rPr b="0" lang="ar-SA" sz="2400" spc="-1" strike="noStrike">
                <a:solidFill>
                  <a:srgbClr val="ffffff"/>
                </a:solidFill>
                <a:latin typeface="Times New Roman"/>
              </a:rPr>
              <a:t> لكل أصل من الأصول</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533520" y="1031760"/>
            <a:ext cx="8229600" cy="3385800"/>
          </a:xfrm>
          <a:prstGeom prst="rect">
            <a:avLst/>
          </a:prstGeom>
          <a:noFill/>
          <a:ln w="0">
            <a:noFill/>
          </a:ln>
        </p:spPr>
        <p:style>
          <a:lnRef idx="0"/>
          <a:fillRef idx="0"/>
          <a:effectRef idx="0"/>
          <a:fontRef idx="minor"/>
        </p:style>
        <p:txBody>
          <a:bodyPr lIns="90000" rIns="90000" tIns="46800" bIns="46800" anchor="t">
            <a:spAutoFit/>
          </a:bodyPr>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خصيص خسارة الإنخفاض فى القيمة داخل الوحدة المولدة للنقد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خسارة فى القيمة بالنسبة لوحدة مولدة للنقدية فإنها تخصص ما بين الأصول بالترتيب التالى:</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1</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شهرة</a:t>
            </a:r>
            <a:r>
              <a:rPr b="0" lang="ar-SA" sz="2400" spc="-1" strike="noStrike">
                <a:solidFill>
                  <a:srgbClr val="ffffff"/>
                </a:solidFill>
                <a:latin typeface="Times New Roman"/>
              </a:rPr>
              <a:t> المحل المخصصة للوحد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للأصول الأخرى بنسبة قيمتها الدفتر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533520"/>
            <a:ext cx="8382240" cy="61819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بخسارة الإنخفاض فى القيم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تم الإعتراف بخسارة الإنخفاض فى القيمة بقائمة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ذا كان الأصل قد أعيد تقييمه من قبل وأدى ذلك لزيادة قيمته، فيتم خصم الإنخفاض </a:t>
            </a:r>
            <a:r>
              <a:rPr b="0" lang="en-US" sz="2400" spc="-1" strike="noStrike">
                <a:solidFill>
                  <a:srgbClr val="ffffff"/>
                </a:solidFill>
                <a:latin typeface="Times New Roman"/>
              </a:rPr>
              <a:t>    </a:t>
            </a:r>
            <a:r>
              <a:rPr b="0" lang="ar-SA" sz="2400" spc="-1" strike="noStrike">
                <a:solidFill>
                  <a:srgbClr val="ffffff"/>
                </a:solidFill>
                <a:latin typeface="Times New Roman"/>
              </a:rPr>
              <a:t>من قيمة فائض إعادة التقييم حتى يستنفذ وأى خسارة متبقية تدرج بقائمة الدخ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راجعة التالية (اللاحقة) للأصل الذى تم تخفيضه</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أن يتم الإعتراف بإنخفاض قيمة الأصل يجب على المنشأة أن تفحص فى تاريخ كل ميزانية ما إذا كان هناك مؤشرات عكسية للإنخفاض سواء كليا أو جزئيا. (عكس مؤشرات الإنخفاض فى القيم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304920"/>
            <a:ext cx="8686800" cy="6692760"/>
          </a:xfrm>
          <a:prstGeom prst="rect">
            <a:avLst/>
          </a:prstGeom>
          <a:noFill/>
          <a:ln w="0">
            <a:noFill/>
          </a:ln>
        </p:spPr>
        <p:style>
          <a:lnRef idx="0"/>
          <a:fillRef idx="0"/>
          <a:effectRef idx="0"/>
          <a:fontRef idx="minor"/>
        </p:style>
        <p:txBody>
          <a:bodyPr lIns="90000" rIns="90000" tIns="46800" bIns="46800" anchor="t">
            <a:spAutoFit/>
          </a:bodyPr>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خسائر الإنخفاض فى القيمة المعترف بها خلال الفترة وعناصر قائمة الدخل التى تأثرت 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زيادات المعترف بها خلال الفترة (عكس إنخفاض القيمة) وعناصر قائمة الدخل التى تأثرت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بالنسبة لكل أصل على حده التى تم الإعتراف بإنخفاض القيمة أو زيادة فى القيمة خلال القتر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طبيعة الاصل وقيمته الدفترية والقطاع الذى ينتمى اليه.</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قيمة خسارة الإنخفاض أو الزيادة خلال الفترة والظروف التى أدت الى الأعتراف بها.</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ا إذا كانت القيمة الممكن إستردادها هى صافى القيمة البيعية أو قيمته فى الإستخدام.</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ساس المستخدم فى تحديد صافى القيمة البيعي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عدل أو معدلات الخصم المستخدمة فى تقدير القيمة فى الإستخدا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80880" y="762120"/>
            <a:ext cx="8305920" cy="48488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سملة تكاليف الإقتراض (معيار المحاسبة الدولى رقم </a:t>
            </a:r>
            <a:r>
              <a:rPr b="1" lang="ar-SA" sz="2400" spc="-1" strike="noStrike">
                <a:solidFill>
                  <a:srgbClr val="ffffff"/>
                </a:solidFill>
                <a:latin typeface="Times New Roman"/>
              </a:rPr>
              <a:t>23</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سمح المعيار المحاسبى بالإختيار بين تحميل تكاليف الإقتراض على المصروفات فور تكبدها (المعالجة القياسية) وبين رسملتها تحت ظروف معينة (المعالجة البديلة المسموح بها)</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EG" sz="2400" spc="-1" strike="noStrike">
                <a:solidFill>
                  <a:srgbClr val="ffffff"/>
                </a:solidFill>
                <a:latin typeface="Times New Roman"/>
                <a:cs typeface="Times New Roman (Arabic)"/>
              </a:rPr>
              <a:t>ت</a:t>
            </a:r>
            <a:r>
              <a:rPr b="0" lang="ar-SA" sz="2400" spc="-1" strike="noStrike">
                <a:solidFill>
                  <a:srgbClr val="ffffff"/>
                </a:solidFill>
                <a:latin typeface="Times New Roman"/>
                <a:cs typeface="Times New Roman (Arabic)"/>
              </a:rPr>
              <a:t>شمل</a:t>
            </a:r>
            <a:r>
              <a:rPr b="0" lang="ar-SA" sz="2400" spc="-1" strike="noStrike">
                <a:solidFill>
                  <a:srgbClr val="ffffff"/>
                </a:solidFill>
                <a:latin typeface="Times New Roman"/>
              </a:rPr>
              <a:t> تكاليف الإقتراض الفوائد والأعباء البنكية على السحب على المكشوف والإقتراض قصير وطويل الأجل بالإضافة الى إستهلاك الخصم أو العلاوة المتعلقة بالإقتراض وكذا فروق العملة التى تنشأ من الإقتراض بالعملة الأجنبية الى المدى الذى تعتبر فيه هذه الفروق تعديلا لتكلفة الفوائد.</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609480"/>
            <a:ext cx="84582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عريف ا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صل هو مورد تسيطر عليه المنشأة نتيجة لأحداث ماضية ومن المتوقع أن تتدفق منه منافع اقتصادية مستقبلية الى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فرقة بين الأصول غير المتداولة الملموسة وبين الأصول غير المتداولة غير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ن الأصل الملموس هو كل أصل له كيان مادى (المبانى – الأراضى – إلخ .......) فى حين أن الأصل غير الملموس هو كل أصل ليس له كيان مادى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cs typeface="Times New Roman (Arabic)"/>
              </a:rPr>
              <a:t>الشهرة – العلامات التجارية – براءات الاختراع – الخ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609480"/>
            <a:ext cx="876312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تم رسملة تكاليف الإقتراض المتعلقة مباشرة بإقتناء أو إنشاء أو إنتاج أصل مؤهل للرسملة وبالبتالى تحميلها كجزء من تكلفة هذا الاصل، فى حين يتم إثبات باقى تكاليف الإقتراض كمصروفات فى الفترة التى تكبدت فيها المنشاة هذه التكاليف.</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رف الأصل المؤهل لتحمل تكاليف الإقتراض بأنه ذلك الاصل الذى يتطلب بالضرورة فترة زمنيه طويلة لتجهيزه للإستخدام فى الأغراض المحددة له أو لبيعه.</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بدأ رسملة تكاليف الإقتراض كجزء من تكلفة الأصل المؤهل لتحمل التكلفة عندما يتم الإنفاق على الأصل وتكبد المنشأة تكلفة إقتراض وأن أنشطة إعداد الأصل ليصبح جاهزا للإستخدام أو البيع مستمرة.</a:t>
            </a:r>
            <a:r>
              <a:rPr b="0" lang="ar-EG"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380880"/>
            <a:ext cx="853416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تابع:</a:t>
            </a:r>
            <a:r>
              <a:rPr b="0" lang="ar-SA" sz="2200" spc="-1" strike="noStrike">
                <a:solidFill>
                  <a:srgbClr val="ffffff"/>
                </a:solidFill>
                <a:latin typeface="Times New Roman"/>
              </a:rPr>
              <a:t> </a:t>
            </a: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يجب التوقف عن رسملة تكلفة الإقتراض عندما يتم الإنتهاء من كل الأنشطة الجوهرية اللازمة </a:t>
            </a:r>
            <a:r>
              <a:rPr b="0" lang="ar-SA" sz="2200" spc="-1" strike="noStrike">
                <a:solidFill>
                  <a:srgbClr val="ffffff"/>
                </a:solidFill>
                <a:latin typeface="Times New Roman"/>
                <a:ea typeface="Times New Roman (Arabic)"/>
              </a:rPr>
              <a:t>         </a:t>
            </a:r>
            <a:r>
              <a:rPr b="0" lang="en-US" sz="2200" spc="-1" strike="noStrike">
                <a:solidFill>
                  <a:srgbClr val="ffffff"/>
                </a:solidFill>
                <a:latin typeface="Times New Roman"/>
                <a:ea typeface="Times New Roman (Arabic)"/>
              </a:rPr>
              <a:t>   </a:t>
            </a:r>
            <a:r>
              <a:rPr b="0" lang="ar-SA" sz="2200" spc="-1" strike="noStrike">
                <a:solidFill>
                  <a:srgbClr val="ffffff"/>
                </a:solidFill>
                <a:latin typeface="Times New Roman"/>
              </a:rPr>
              <a:t>لإعداد الأصل المؤهل للإستخدام فى الأغراض المحددة له أو لبيعه للغي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تم الحصول على القروض خصيصا لإقتناء أصل مؤهل للرسملة فإن تكاليف الإقتراض </a:t>
            </a:r>
            <a:r>
              <a:rPr b="0" lang="en-US" sz="2200" spc="-1" strike="noStrike">
                <a:solidFill>
                  <a:srgbClr val="ffffff"/>
                </a:solidFill>
                <a:latin typeface="Times New Roman"/>
              </a:rPr>
              <a:t>       </a:t>
            </a:r>
            <a:r>
              <a:rPr b="0" lang="ar-SA" sz="2200" spc="-1" strike="noStrike">
                <a:solidFill>
                  <a:srgbClr val="ffffff"/>
                </a:solidFill>
                <a:latin typeface="Times New Roman"/>
              </a:rPr>
              <a:t>التى يتم رسملتها هى التى تكون قد حدثت فعلا مخصوما منها أى دخل إستثمار ناتج عن </a:t>
            </a:r>
            <a:r>
              <a:rPr b="0" lang="en-US" sz="2200" spc="-1" strike="noStrike">
                <a:solidFill>
                  <a:srgbClr val="ffffff"/>
                </a:solidFill>
                <a:latin typeface="Times New Roman"/>
              </a:rPr>
              <a:t>           </a:t>
            </a:r>
            <a:r>
              <a:rPr b="0" lang="ar-SA" sz="2200" spc="-1" strike="noStrike">
                <a:solidFill>
                  <a:srgbClr val="ffffff"/>
                </a:solidFill>
                <a:latin typeface="Times New Roman"/>
              </a:rPr>
              <a:t>الإستثمار المؤقت للقرو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كانت الأموال المخصصة للمشروع مأخوذة من قروض عامة فيتم أخذ متوسط 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المرجحة بإستخدام متوسط لمعدل سعر الفائدة.</a:t>
            </a: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السياسة المحاسبية المستخدمة بالنسبة لتكاليف الإقتراض.</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بلغ وتكاليف الإقتراض التى تم رسملتها خلال الفترة.</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عدل الرسملة المستخد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228600" y="457200"/>
            <a:ext cx="8686800" cy="63118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لة</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قامت شركة توتو بإقتراض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لتمويل إنشاء أحد مصانعها. وقد بدأت عملية الإنشاء فى </a:t>
            </a:r>
            <a:r>
              <a:rPr b="0" lang="ar-SA" sz="2400" spc="-1" strike="noStrike">
                <a:solidFill>
                  <a:srgbClr val="ffffff"/>
                </a:solidFill>
                <a:latin typeface="Times New Roman"/>
              </a:rPr>
              <a:t>1/6/1995</a:t>
            </a:r>
            <a:r>
              <a:rPr b="0" lang="ar-SA" sz="2400" spc="-1" strike="noStrike">
                <a:solidFill>
                  <a:srgbClr val="ffffff"/>
                </a:solidFill>
                <a:latin typeface="Times New Roman"/>
              </a:rPr>
              <a:t> وتم إنفاق الأموال بواقع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6/1995</a:t>
            </a:r>
            <a:r>
              <a:rPr b="0" lang="ar-SA" sz="2400" spc="-1" strike="noStrike">
                <a:solidFill>
                  <a:srgbClr val="ffffff"/>
                </a:solidFill>
                <a:latin typeface="Times New Roman"/>
              </a:rPr>
              <a:t> و </a:t>
            </a:r>
            <a:r>
              <a:rPr b="0" lang="ar-SA" sz="2400" spc="-1" strike="noStrike">
                <a:solidFill>
                  <a:srgbClr val="ffffff"/>
                </a:solidFill>
                <a:latin typeface="Times New Roman"/>
              </a:rPr>
              <a:t>5</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0/1995</a:t>
            </a:r>
            <a:r>
              <a:rPr b="0" lang="ar-SA" sz="2400" spc="-1" strike="noStrike">
                <a:solidFill>
                  <a:srgbClr val="ffffff"/>
                </a:solidFill>
                <a:latin typeface="Times New Roman"/>
              </a:rPr>
              <a:t> و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2/1995</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لدى شركة سوسو ثلاثة مصادر للإقتراض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على النحو التالى:</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خمس سنوات بمبلغ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وبمعدل فائدة </a:t>
            </a:r>
            <a:r>
              <a:rPr b="0" lang="ar-SA" sz="2400" spc="-1" strike="noStrike">
                <a:solidFill>
                  <a:srgbClr val="ffffff"/>
                </a:solidFill>
                <a:latin typeface="Times New Roman"/>
              </a:rPr>
              <a:t>10</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a:t>
            </a:r>
            <a:r>
              <a:rPr b="0" lang="ar-SA" sz="2400" spc="-1" strike="noStrike">
                <a:solidFill>
                  <a:srgbClr val="ffffff"/>
                </a:solidFill>
                <a:latin typeface="Times New Roman"/>
              </a:rPr>
              <a:t>20</a:t>
            </a:r>
            <a:r>
              <a:rPr b="0" lang="ar-SA" sz="2400" spc="-1" strike="noStrike">
                <a:solidFill>
                  <a:srgbClr val="ffffff"/>
                </a:solidFill>
                <a:latin typeface="Times New Roman"/>
              </a:rPr>
              <a:t> عاما بمبلغ </a:t>
            </a:r>
            <a:r>
              <a:rPr b="0" lang="ar-SA" sz="2400" spc="-1" strike="noStrike">
                <a:solidFill>
                  <a:srgbClr val="ffffff"/>
                </a:solidFill>
                <a:latin typeface="Times New Roman"/>
              </a:rPr>
              <a:t>20</a:t>
            </a:r>
            <a:r>
              <a:rPr b="0" lang="ar-SA" sz="2400" spc="-1" strike="noStrike">
                <a:solidFill>
                  <a:srgbClr val="ffffff"/>
                </a:solidFill>
                <a:latin typeface="Times New Roman"/>
              </a:rPr>
              <a:t> مليون جنيه بمعدل فائدة </a:t>
            </a:r>
            <a:r>
              <a:rPr b="0" lang="ar-SA" sz="2400" spc="-1" strike="noStrike">
                <a:solidFill>
                  <a:srgbClr val="ffffff"/>
                </a:solidFill>
                <a:latin typeface="Times New Roman"/>
              </a:rPr>
              <a:t>8</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 سحب على المكشوف بسعر فائدة متغير</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قد قامت الشركة بإستخد</a:t>
            </a:r>
            <a:r>
              <a:rPr b="0" lang="ar-SA" sz="2400" spc="-1" strike="noStrike">
                <a:solidFill>
                  <a:srgbClr val="ffffff"/>
                </a:solidFill>
                <a:latin typeface="Times New Roman"/>
                <a:cs typeface="Times New Roman (Arabic)"/>
              </a:rPr>
              <a:t>ام</a:t>
            </a:r>
            <a:r>
              <a:rPr b="0" lang="ar-SA" sz="2400" spc="-1" strike="noStrike">
                <a:solidFill>
                  <a:srgbClr val="ffffff"/>
                </a:solidFill>
                <a:latin typeface="Times New Roman"/>
              </a:rPr>
              <a:t> الحدين الاول والثانى بالكامل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وقد</a:t>
            </a:r>
            <a:r>
              <a:rPr b="0" lang="ar-SA" sz="2400" spc="-1" strike="noStrike">
                <a:solidFill>
                  <a:srgbClr val="ffffff"/>
                </a:solidFill>
                <a:latin typeface="Times New Roman"/>
              </a:rPr>
              <a:t> بلغ متوسط المبالغ المستخدمه من حد السحب على المكشوف خلال العام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a:t>
            </a:r>
            <a:r>
              <a:rPr b="0" lang="ar-SA" sz="2400" spc="-1" strike="noStrike">
                <a:solidFill>
                  <a:srgbClr val="ffffff"/>
                </a:solidFill>
                <a:latin typeface="Times New Roman"/>
                <a:cs typeface="Times New Roman (Arabic)"/>
              </a:rPr>
              <a:t>و</a:t>
            </a:r>
            <a:r>
              <a:rPr b="0" lang="ar-SA" sz="2400" spc="-1" strike="noStrike">
                <a:solidFill>
                  <a:srgbClr val="ffffff"/>
                </a:solidFill>
                <a:latin typeface="Times New Roman"/>
              </a:rPr>
              <a:t>بلغت الفوائد المحتسبة عليها </a:t>
            </a:r>
            <a:r>
              <a:rPr b="0" lang="ar-SA" sz="2400" spc="-1" strike="noStrike">
                <a:solidFill>
                  <a:srgbClr val="ffffff"/>
                </a:solidFill>
                <a:latin typeface="Times New Roman"/>
              </a:rPr>
              <a:t>4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80880" y="838080"/>
            <a:ext cx="8458200" cy="5946120"/>
          </a:xfrm>
          <a:prstGeom prst="rect">
            <a:avLst/>
          </a:prstGeom>
          <a:noFill/>
          <a:ln w="0">
            <a:noFill/>
          </a:ln>
        </p:spPr>
        <p:style>
          <a:lnRef idx="0"/>
          <a:fillRef idx="0"/>
          <a:effectRef idx="0"/>
          <a:fontRef idx="minor"/>
        </p:style>
        <p:txBody>
          <a:bodyPr lIns="90000" rIns="90000" tIns="46800" bIns="46800" anchor="t">
            <a:spAutoFit/>
          </a:bodyPr>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3</a:t>
            </a:r>
            <a:r>
              <a:rPr b="0" lang="ar-EG" sz="2400" spc="-1" strike="noStrike">
                <a:solidFill>
                  <a:srgbClr val="ffffff"/>
                </a:solidFill>
                <a:latin typeface="Times New Roman"/>
              </a:rPr>
              <a:t>)  </a:t>
            </a:r>
            <a:r>
              <a:rPr b="0" lang="ar-SA" sz="2400" spc="-1" strike="noStrike">
                <a:solidFill>
                  <a:srgbClr val="ffffff"/>
                </a:solidFill>
                <a:latin typeface="Times New Roman"/>
              </a:rPr>
              <a:t>لدى شركة كوكو ثلاثة مصادر للإقتراض خلال عام </a:t>
            </a:r>
            <a:r>
              <a:rPr b="0" lang="ar-SA" sz="2400" spc="-1" strike="noStrike">
                <a:solidFill>
                  <a:srgbClr val="ffffff"/>
                </a:solidFill>
                <a:latin typeface="Times New Roman"/>
              </a:rPr>
              <a:t>2000</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قرض </a:t>
            </a:r>
            <a:r>
              <a:rPr b="0" lang="ar-SA" sz="2400" spc="-1" strike="noStrike">
                <a:solidFill>
                  <a:srgbClr val="ffffff"/>
                </a:solidFill>
                <a:latin typeface="Times New Roman"/>
              </a:rPr>
              <a:t>5</a:t>
            </a:r>
            <a:r>
              <a:rPr b="0" lang="ar-SA" sz="2400" spc="-1" strike="noStrike">
                <a:solidFill>
                  <a:srgbClr val="ffffff"/>
                </a:solidFill>
                <a:latin typeface="Times New Roman"/>
              </a:rPr>
              <a:t> سنوات بمبلغ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تم إستخدامه </a:t>
            </a:r>
            <a:r>
              <a:rPr b="0" lang="en-US" sz="2400" spc="-1" strike="noStrike">
                <a:solidFill>
                  <a:srgbClr val="ffffff"/>
                </a:solidFill>
                <a:latin typeface="Times New Roman"/>
              </a:rPr>
              <a:t>                </a:t>
            </a:r>
            <a:r>
              <a:rPr b="0" lang="ar-SA" sz="2400" spc="-1" strike="noStrike">
                <a:solidFill>
                  <a:srgbClr val="ffffff"/>
                </a:solidFill>
                <a:latin typeface="Times New Roman"/>
              </a:rPr>
              <a:t>بالكامل لإقتناء أحد الأصول المؤهلة للرسملة.</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أوراق دفع بمبلغ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8</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سندات مصدرة بمبلغ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ذا وقد بلغت قيمة الأصول المؤهلة فى نهاي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مبلغ </a:t>
            </a:r>
            <a:r>
              <a:rPr b="0" lang="ar-EG" sz="2400" spc="-1" strike="noStrike">
                <a:solidFill>
                  <a:srgbClr val="ffffff"/>
                </a:solidFill>
                <a:latin typeface="Times New Roman"/>
              </a:rPr>
              <a:t>3.4</a:t>
            </a:r>
            <a:r>
              <a:rPr b="0" lang="ar-SA" sz="2400" spc="-1" strike="noStrike">
                <a:solidFill>
                  <a:srgbClr val="ffffff"/>
                </a:solidFill>
                <a:latin typeface="Times New Roman"/>
              </a:rPr>
              <a:t> مليون </a:t>
            </a:r>
            <a:r>
              <a:rPr b="0" lang="en-US" sz="2400" spc="-1" strike="noStrike">
                <a:solidFill>
                  <a:srgbClr val="ffffff"/>
                </a:solidFill>
                <a:latin typeface="Times New Roman"/>
              </a:rPr>
              <a:t>          </a:t>
            </a:r>
            <a:r>
              <a:rPr b="0" lang="ar-SA" sz="2400" spc="-1" strike="noStrike">
                <a:solidFill>
                  <a:srgbClr val="ffffff"/>
                </a:solidFill>
                <a:latin typeface="Times New Roman"/>
              </a:rPr>
              <a:t>جنيه.</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152280" y="304920"/>
            <a:ext cx="8763120" cy="7802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محاسبة عن المنح الحكومية والإفصاح عن المساعدات الحكومية (معيار المحاسبة الدولى </a:t>
            </a:r>
            <a:r>
              <a:rPr b="1" lang="ar-SA" sz="2200" spc="-1" strike="noStrike">
                <a:solidFill>
                  <a:srgbClr val="ffffff"/>
                </a:solidFill>
                <a:latin typeface="Times New Roman"/>
              </a:rPr>
              <a:t>2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شير لفظ الحكومة الى الحكومة المركزية والوكالات الحكومية والهيئات المشابهة سواء محلية أو قومية أو دولية</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ساعدة الحكومية هى تصرف من قبل الحكومة نوجه لتقديم منفعة إقتصادية محددة لوحدة ما</a:t>
            </a:r>
            <a:r>
              <a:rPr b="0" lang="ar-EG"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حكومية هى مساعدة بواسطة الحكومة فى شكل تحويلات للموارد للوحدة فى مقابل إلتزام ماضى أو مستقبلى بشروط معينة مرتبطة بالأنشطة التشغيلية للمنشأة.</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مرتبطة بالأصول هى المنح الحكومية التى يكون شرطها الاساسى أن الوحدة المؤهلة لها يجب ان تشترى أو تنشىء أو تقتنى بأى شكل آخر أصول طويلة الأجل كما تنطوى على تقييد بالنسبة لنوع أو موقع الأصول أو الفترات التى يجب إقتنائها أو الإحتفاظ بها خلال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المنح المرتبطة بالدخل هى المنح الحكومية بخلاف تلك المرتبطة بالاصول.</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جب الإعتراف بالمنح فى قائمة الدخل حتى يتم الإلتزام بشروط إستلامها ويوجد تأكيد معقول أن المنحة سوف يتم إستلام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قبل المعيار إضافة المنح الحكومية مباشرة الى حقوق المساهمين حيث أنها متحصلات من مصدر آخر بخلاف حملة الأسهم.</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990720"/>
            <a:ext cx="8458200" cy="411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دخل</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فتراض أن المنح تساهم فى النفقة التى هى الأساس لدفعها. وبالتالى يمكن أن تسجل كإيراد بقائمة الدخل بالكامل مباشرة (كإيراد أو خصمها من المصروف المرتبط بها) إذا كانت المنشأة تحملت النفقات المترتبة على الحصول على المنحة ، أو يمكن تسجيلها كإيراد مقدم عند إستلامها وتدرج بقائمة الدخل كإيراد أو مخصومه من المصروفات المرتبطة بها وذلك على أساس مستويات الإنفاق التى تتكبدها المنشأة لتنفيذ شروط المنح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533520" y="762120"/>
            <a:ext cx="77724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منح الأصول غير المتداولة على مدار الأعمار الإفتراضية المتوقعة للأصول ويسمح المعيار بمعالجتين فى هذا الشأ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خصم المنحة من تكلفة الأصل غبر المتداول وبالتالة إهلاك التكلفة المخفض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أو</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معالجة المنحة كدخل مؤجل وتحويل جزء منها كإيراد كل عام بحيث يقابل </a:t>
            </a:r>
            <a:r>
              <a:rPr b="0" lang="en-US" sz="2400" spc="-1" strike="noStrike">
                <a:solidFill>
                  <a:srgbClr val="ffffff"/>
                </a:solidFill>
                <a:latin typeface="Times New Roman"/>
              </a:rPr>
              <a:t>      </a:t>
            </a:r>
            <a:r>
              <a:rPr b="0" lang="ar-SA" sz="2400" spc="-1" strike="noStrike">
                <a:solidFill>
                  <a:srgbClr val="ffffff"/>
                </a:solidFill>
                <a:latin typeface="Times New Roman"/>
              </a:rPr>
              <a:t>مصروف الإهلاك المحدد على أساس التكلفة الأص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ـــال</a:t>
            </a:r>
            <a:r>
              <a:rPr b="0" lang="ar-SA" sz="2400" spc="-1" strike="noStrike">
                <a:solidFill>
                  <a:srgbClr val="ffffff"/>
                </a:solidFill>
                <a:latin typeface="Times New Roman"/>
              </a:rPr>
              <a:t>: أقامت إحدى المنشآت مصنع جديد وحصلت على منحة حكومية بمبلغ </a:t>
            </a:r>
            <a:r>
              <a:rPr b="0" lang="ar-SA" sz="2400" spc="-1" strike="noStrike">
                <a:solidFill>
                  <a:srgbClr val="ffffff"/>
                </a:solidFill>
                <a:latin typeface="Times New Roman"/>
              </a:rPr>
              <a:t>15000</a:t>
            </a:r>
            <a:r>
              <a:rPr b="0" lang="ar-SA" sz="2400" spc="-1" strike="noStrike">
                <a:solidFill>
                  <a:srgbClr val="ffffff"/>
                </a:solidFill>
                <a:latin typeface="Times New Roman"/>
              </a:rPr>
              <a:t> دولار خاصة بأحد الآلات الرأسمالية تكلفتها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ا بمعدل </a:t>
            </a:r>
            <a:r>
              <a:rPr b="0" lang="ar-EG" sz="2400" spc="-1" strike="noStrike">
                <a:solidFill>
                  <a:srgbClr val="ffffff"/>
                </a:solidFill>
                <a:latin typeface="Times New Roman"/>
              </a:rPr>
              <a:t>2</a:t>
            </a:r>
            <a:r>
              <a:rPr b="0" lang="ar-SA" sz="2400" spc="-1" strike="noStrike">
                <a:solidFill>
                  <a:srgbClr val="ffffff"/>
                </a:solidFill>
                <a:latin typeface="Times New Roman"/>
              </a:rPr>
              <a:t>% سنويا بطريقة القسط الثاب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57200" y="762120"/>
            <a:ext cx="792468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د المنح الحكوم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رد المنح المرتبطة بالدخل يتم أولا على أى رصيد مؤجل غير مستنفذ مرتبط بالمنح وأى مبالغ مردودة بالزيادة يجب الإعتراف بها كمصروف.</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سجيل رد المنح المرتبطة بالأصول إما عن طريق زيادة تكلفة الأصل وبالتالى تحميل مصروف الإهلاك الإضافى الذى كان سيتم تحمله أو تخفيض رصيد الدخل المؤجل بالمبلغ الواجب رده.</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1565280"/>
            <a:ext cx="8153640" cy="3385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ة المحاسبية المستخدمة بالنسبة للمنح الحكومية وطرق العرض بالقوائم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دى المنح الحكومية التى يتم الإعتراف بها فى القوائم المالية وبيان الاشكال الأخرى للمساعدات الحكومية التى تم الإعتراف بها.</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228600"/>
            <a:ext cx="8610480" cy="8137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أستثمارات العقاريــــــــة (معيار المحاسبة الدولى </a:t>
            </a:r>
            <a:r>
              <a:rPr b="1" lang="ar-SA" sz="2200" spc="-1" strike="noStrike">
                <a:solidFill>
                  <a:srgbClr val="ffffff"/>
                </a:solidFill>
                <a:latin typeface="Times New Roman"/>
              </a:rPr>
              <a:t>4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أستثمار العقارى هو عقار (أراضى/ مبانى) محتفظ به لإكتساب الإيجارات أو المكاسب </a:t>
            </a:r>
            <a:r>
              <a:rPr b="0" lang="en-US" sz="2200" spc="-1" strike="noStrike">
                <a:solidFill>
                  <a:srgbClr val="ffffff"/>
                </a:solidFill>
                <a:latin typeface="Times New Roman"/>
              </a:rPr>
              <a:t>        </a:t>
            </a:r>
            <a:r>
              <a:rPr b="0" lang="ar-SA" sz="2200" spc="-1" strike="noStrike">
                <a:solidFill>
                  <a:srgbClr val="ffffff"/>
                </a:solidFill>
                <a:latin typeface="Times New Roman"/>
              </a:rPr>
              <a:t>الرأسمالية أو كلاهما بدلا من إستخدامه أو البيع فى إطار النشاط العادى للمنشأ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جب قياس الإستثمار العقارى فى البداية بالتكلف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طى المعيار المنشاة حرية الإختيار للقياس اللاحق بين السياستين التاليتين:</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EG" sz="2200" spc="-1" strike="noStrike">
                <a:solidFill>
                  <a:srgbClr val="ffffff"/>
                </a:solidFill>
                <a:latin typeface="Times New Roman"/>
              </a:rPr>
              <a:t>1</a:t>
            </a:r>
            <a:r>
              <a:rPr b="0" lang="ar-SA" sz="2200" spc="-1" strike="noStrike">
                <a:solidFill>
                  <a:srgbClr val="ffffff"/>
                </a:solidFill>
                <a:latin typeface="Times New Roman"/>
              </a:rPr>
              <a:t>)   تعالج الأستثمارات العقارية مثل العقارات الاخرى بإستخدام المعالجة القياسية </a:t>
            </a:r>
            <a:r>
              <a:rPr b="0" lang="en-US" sz="2200" spc="-1" strike="noStrike">
                <a:solidFill>
                  <a:srgbClr val="ffffff"/>
                </a:solidFill>
                <a:latin typeface="Times New Roman"/>
              </a:rPr>
              <a:t>                      </a:t>
            </a:r>
            <a:r>
              <a:rPr b="0" lang="ar-SA" sz="2200" spc="-1" strike="noStrike">
                <a:solidFill>
                  <a:srgbClr val="ffffff"/>
                </a:solidFill>
                <a:latin typeface="Times New Roman"/>
              </a:rPr>
              <a:t>الواردة بمعيار العقارات والآلات والمعدات بمعنى انه يتم إستمرار إثباتها ب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مخصوما منها مجمع الإهلاك وأى مجمع لخسائر إنخفاض القيم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2</a:t>
            </a:r>
            <a:r>
              <a:rPr b="0" lang="ar-SA" sz="2200" spc="-1" strike="noStrike">
                <a:solidFill>
                  <a:srgbClr val="ffffff"/>
                </a:solidFill>
                <a:latin typeface="Times New Roman"/>
              </a:rPr>
              <a:t>)  إعادة تقييم الاستثمار العقارى كل عام بالقيمة العادلة مع الإعتراف بالإنخفاض </a:t>
            </a:r>
            <a:r>
              <a:rPr b="0" lang="en-US" sz="2200" spc="-1" strike="noStrike">
                <a:solidFill>
                  <a:srgbClr val="ffffff"/>
                </a:solidFill>
                <a:latin typeface="Times New Roman"/>
              </a:rPr>
              <a:t>                     </a:t>
            </a:r>
            <a:r>
              <a:rPr b="0" lang="ar-SA" sz="2200" spc="-1" strike="noStrike">
                <a:solidFill>
                  <a:srgbClr val="ffffff"/>
                </a:solidFill>
                <a:latin typeface="Times New Roman"/>
              </a:rPr>
              <a:t>بقائمة الدخل وإضافة أى مكاسب الى حقوق الملكية "فائض إعادة التقييم”</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عند تحويل الإستثمار العقارى الى عقار يشغله المالك أو مخزون تمهيدا لبيعه أو العكس </a:t>
            </a:r>
            <a:r>
              <a:rPr b="0" lang="en-US" sz="2200" spc="-1" strike="noStrike">
                <a:solidFill>
                  <a:srgbClr val="ffffff"/>
                </a:solidFill>
                <a:latin typeface="Times New Roman"/>
              </a:rPr>
              <a:t>           </a:t>
            </a:r>
            <a:r>
              <a:rPr b="0" lang="ar-SA" sz="2200" spc="-1" strike="noStrike">
                <a:solidFill>
                  <a:srgbClr val="ffffff"/>
                </a:solidFill>
                <a:latin typeface="Times New Roman"/>
              </a:rPr>
              <a:t>تستخدم القيمة العادلة فى تاريخ التحويل للمحاسبة اللاحق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05920" cy="740916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مة الدفترية للأصول غير المتداولة الملموس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أولى للأصول غير المتداولة الملموسة (العقارات – الأراضى – المعدات)</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قياس القيمة الدفترية لعناصر العقارات والآلات والمعدات فى تاريخ إقتنائها بالتكلفة.</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شمل تكلفة الأصل الملموس سعر الشراء شاملا رسوم الإستيراد والضرائب غير المستردة وأى تكلفة مباشرة أخرى تستلزمها عملية تجهيز الأصل حتى يصبح صالحا للإستخدام فى الغرض الذى أقتنى من أجله.</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يؤجل سداد ثمن الأصل الم</a:t>
            </a:r>
            <a:r>
              <a:rPr b="0" lang="ar-EG" sz="2400" spc="-1" strike="noStrike">
                <a:solidFill>
                  <a:srgbClr val="ffffff"/>
                </a:solidFill>
                <a:latin typeface="Times New Roman"/>
                <a:cs typeface="Times New Roman (Arabic)"/>
              </a:rPr>
              <a:t>ل</a:t>
            </a:r>
            <a:r>
              <a:rPr b="0" lang="ar-SA" sz="2400" spc="-1" strike="noStrike">
                <a:solidFill>
                  <a:srgbClr val="ffffff"/>
                </a:solidFill>
                <a:latin typeface="Times New Roman"/>
                <a:cs typeface="Times New Roman (Arabic)"/>
              </a:rPr>
              <a:t>موس لفترة إئتمانية معينة فإن تكلفة إقتناء الأصل تمثل سعره النقدى وتعالج الفروق بين السعر النقدى وإجمالى المدفوعات بإعتبارها مصروف فوائد يتم توزيعه على فترة الإئتمان.</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تحميل أى نفقات لاحقة كمصروفات عن الفترة إلا أنه يمكن إضافتها الى القيمة الدفترية للأصل إذا أسفرت عن زيادة العمر الإنتاجى أو زيادة القدرة الإنتاجية للأصل أو أدت الى تخفيض جوهرى فى تكاليف تشغيل الأصل.</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228600" y="380880"/>
            <a:ext cx="86104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مبالغ المدرجة فى قائمة الدخل عن الإيجارات ومصروفات التشغيل وتفاصيل أى قيود على الأستثمار العقارى والإلتزامات التعاقدية الخاصة بشراء أو إنشاء أو تطوير الإ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طرق والإفتراضات المستخدمة فى تحديد القيمة العادلة للأ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معلومات التقييم بواسطة مقيم مستقل مؤه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إضافات وعمليات التخلص والإستبعادات خلال الفتر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طرق الإهلاك المستخدمة والأعمار ا</a:t>
            </a:r>
            <a:r>
              <a:rPr b="0" lang="ar-SA" sz="2400" spc="-1" strike="noStrike">
                <a:solidFill>
                  <a:srgbClr val="ffffff"/>
                </a:solidFill>
                <a:latin typeface="Times New Roman"/>
                <a:cs typeface="Times New Roman (Arabic)"/>
              </a:rPr>
              <a:t>لإفتراضية</a:t>
            </a:r>
            <a:r>
              <a:rPr b="0" lang="ar-SA" sz="2400" spc="-1" strike="noStrike">
                <a:solidFill>
                  <a:srgbClr val="ffffff"/>
                </a:solidFill>
                <a:latin typeface="Times New Roman"/>
              </a:rPr>
              <a:t> ومعدلات الإهلاك المستخدم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جمالى القيمة التى يظهر بها الأستثمار فى الميزانية ومجمع الإه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1184400"/>
            <a:ext cx="853416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لاحق للأصول غير المتداولة الملموسة (العقارات – الأراضى – المعد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قياس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طبقا لهذه المعالجة تظل القيمة الدفترية للأصل بعد القياس الأولى على أساس التكلفة مخصوما منها مجمع الإهلاك الخاص بها (فى معظم الحال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304920"/>
            <a:ext cx="8534160" cy="740916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بديلة المسموح بها</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طبقا لهذه المعالجة تحدد القيمة الدفترية للأصل على أساس قيمة إعادة التقييم التى تعكس القيمة العادلة الجارية له فى تاريخ التقييم مخصوما منها مجمع الإهلاك محسوبا على قيمة إعادة التقييم كما لو كان الأصل قد أقتنى بهذه القيمة فى بداية حيات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شترط ألا تزيد قيمة الأصل بعد التقييم عن المنفعة الاقتصادية المستقبلية منه.</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ذا تم إعادة تقييم أصل فإنه يجب إعادة تقييم كامل مجموعة الأصول التى ينتمى اليها هذا الأصل حتى يمكن تجنب التقييم الاختيارى وما قد يترتب عليه من أن تحتوى القوائم المالية على بنود متعددة لمجموعة واحدة مقومة بأسس مختلف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تزيد القيمة الدفترية للأصل نتيجة لإعادة تقييمه فإن قيمة هذه الزيادة تعالج محاسبيا بإضافتها الى حقوق المساهمين تحت مسمى "فائض إعادة تقييم الأصول الملموسة". فى حين أنه عن</a:t>
            </a:r>
            <a:r>
              <a:rPr b="0" lang="ar-EG" sz="2400" spc="-1" strike="noStrike">
                <a:solidFill>
                  <a:srgbClr val="ffffff"/>
                </a:solidFill>
                <a:latin typeface="Times New Roman"/>
                <a:cs typeface="Times New Roman (Arabic)"/>
              </a:rPr>
              <a:t>د</a:t>
            </a:r>
            <a:r>
              <a:rPr b="0" lang="ar-SA" sz="2400" spc="-1" strike="noStrike">
                <a:solidFill>
                  <a:srgbClr val="ffffff"/>
                </a:solidFill>
                <a:latin typeface="Times New Roman"/>
                <a:cs typeface="Times New Roman (Arabic)"/>
              </a:rPr>
              <a:t>ما تنخفض القيمة الدفترية نتيجة لإعادة تقييمه فإن الانخفاض يجب أن يثبت كمصروف بقائمة الدخ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457200"/>
            <a:ext cx="83818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تابع: المعالجة البديلة المسموح بها</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إثبات الزيادة الناتجة عن إعادة التقييم كإيراد بقائمة الدخل إذا كان قد سبق تخفيض نفس الأصل نتيجة إعادة تقييمه وأثبت الانخفاض فى قائمة الدخل على أن يتم إثبات الإيراد الناتج عن الزيادة فى حدود المصروف السابق تحميله على قائمة الدخل مع إدراج أى زيادة بحقوق المساهمين.</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خصم أى انخفاض فى القيمة الدفترية للأصل نتيجة إعادة تقييمه مباشرة من أى فائض سبق تكوينه لنفس الأصول من زيادة القيمة الدفترية لها نتيجة إعادة تقييمها على أن  يتم خصم التخفيض المشار اليه فى حدود رصيد الفائض القائم لهذه الأصول وإثبات أى زيادة فى هذا التخفيض كمصروف بقائمة الدخ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حول فائض إعادة التقييم الى حساب الارباح المرحلة عندما يتحقق ذلك الفائض نتيجة البيع أو الاستغناء أو التخلص من الاص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الإهــــــــــ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مثل الإهلاك التحميل المنتظم للقيمة القابلة للإهلاك من الأصل (التكلفة ناقصا القيمة التخريدية) على فترات العمر الافتراضى له.</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أن تكون طرق الإهلاك المستخدمة هى الطرق الأكثر ملائمة لأنواع الأصول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ستخدامها فى النشاط.</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تخريدية للأصل هى صافى المبلغ المتوقع أن تحصل عليه المنشأة من الأصل فى نهاية عمره الاقتصادى مخصوما منه التكاليف المتوقعة للتخلص من الأصل.</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لا يجب تحميل جزء من عبء الإهلاك مباشرة على الإحتياطيات، كما أن الإهلاك التكميلى الذى يزيد عن الإهلاك المحدد على أساس العمر الإفتراضى لا يجب تحميله على قائمة الدخل بل يمكن تخصيص أو تحويل الأرباح المرحلة الى حساب إحتياطى يتم تخصيصه لإحلال الأصول الملموس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457200"/>
            <a:ext cx="8381880" cy="667764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1" lang="ar-EG" sz="2400" spc="-1" strike="noStrike">
                <a:solidFill>
                  <a:srgbClr val="ffffff"/>
                </a:solidFill>
                <a:latin typeface="Times New Roman"/>
                <a:cs typeface="Times New Roman (Arabic)"/>
              </a:rPr>
              <a:t>تاب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فى حالة استخدام المعالجة البديلة المسموح بها بشأن إعادة تقييم الأصول الملموسة يعتمد مصروف الإهلاك على قيم إعادة التقييم والأعمار الاقتصادية المتبقية ويعالج مجمع الإهلاك بإحدى الطريقتين التاليتين:</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عادة حساب مجمع الإهلاك بالنسبة والتناسب الى التغير الإجمالى فى ال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دفترية للأصل بحيث تكون القيمة الدفترية للأصل بعد إعادة التقييم تساو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بلغ التقييم ( تستخدم عند إعادة التقييم باستخدام جداول تكلفة الاستبدال بعد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خصم مجم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ستبعاد الإهلاك المحمل ومجمع الإهلاك من القيمة الدفترية ثم تعدل صاف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دفترية الى قيمة إعادة التقييم (تستخدم للمبانى التى يعاد تقييمها عل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أساس القيمة السوق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1066680"/>
            <a:ext cx="8610480" cy="3766680"/>
          </a:xfrm>
          <a:prstGeom prst="rect">
            <a:avLst/>
          </a:prstGeom>
          <a:noFill/>
          <a:ln w="0">
            <a:noFill/>
          </a:ln>
        </p:spPr>
        <p:style>
          <a:lnRef idx="0"/>
          <a:fillRef idx="0"/>
          <a:effectRef idx="0"/>
          <a:fontRef idx="minor"/>
        </p:style>
        <p:txBody>
          <a:bodyPr lIns="90000" rIns="90000" tIns="46800" bIns="46800" anchor="t">
            <a:spAutoFit/>
          </a:bodyPr>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مثـــــال:</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عادت إحدى الشركات فى </a:t>
            </a:r>
            <a:r>
              <a:rPr b="0" lang="ar-SA" sz="2400" spc="-1" strike="noStrike">
                <a:solidFill>
                  <a:srgbClr val="ffffff"/>
                </a:solidFill>
                <a:latin typeface="Times New Roman"/>
                <a:ea typeface="Times New Roman (Arabic)"/>
              </a:rPr>
              <a:t>30/6/2008</a:t>
            </a:r>
            <a:r>
              <a:rPr b="0" lang="ar-SA" sz="2400" spc="-1" strike="noStrike">
                <a:solidFill>
                  <a:srgbClr val="ffffff"/>
                </a:solidFill>
                <a:latin typeface="Times New Roman"/>
                <a:ea typeface="Times New Roman (Arabic)"/>
              </a:rPr>
              <a:t> تقييم مبانيها ال</a:t>
            </a:r>
            <a:r>
              <a:rPr b="0" lang="ar-EG" sz="2400" spc="-1" strike="noStrike">
                <a:solidFill>
                  <a:srgbClr val="ffffff"/>
                </a:solidFill>
                <a:latin typeface="Times New Roman"/>
                <a:cs typeface="Times New Roman (Arabic)"/>
              </a:rPr>
              <a:t>بال</a:t>
            </a:r>
            <a:r>
              <a:rPr b="0" lang="ar-SA" sz="2400" spc="-1" strike="noStrike">
                <a:solidFill>
                  <a:srgbClr val="ffffff"/>
                </a:solidFill>
                <a:latin typeface="Times New Roman"/>
                <a:cs typeface="Times New Roman (Arabic)"/>
              </a:rPr>
              <a:t>غ تكلفتها ومجمع إهلاكها فى </a:t>
            </a:r>
            <a:r>
              <a:rPr b="0" lang="ar-SA" sz="2400" spc="-1" strike="noStrike">
                <a:solidFill>
                  <a:srgbClr val="ffffff"/>
                </a:solidFill>
                <a:latin typeface="Times New Roman"/>
                <a:ea typeface="Times New Roman (Arabic)"/>
              </a:rPr>
              <a:t>31/12/2007</a:t>
            </a:r>
            <a:r>
              <a:rPr b="0" lang="ar-SA" sz="2400" spc="-1" strike="noStrike">
                <a:solidFill>
                  <a:srgbClr val="ffffff"/>
                </a:solidFill>
                <a:latin typeface="Times New Roman"/>
                <a:ea typeface="Times New Roman (Arabic)"/>
              </a:rPr>
              <a:t> مبلغى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ا و </a:t>
            </a:r>
            <a:r>
              <a:rPr b="0" lang="ar-SA" sz="2400" spc="-1" strike="noStrike">
                <a:solidFill>
                  <a:srgbClr val="ffffff"/>
                </a:solidFill>
                <a:latin typeface="Times New Roman"/>
                <a:ea typeface="Times New Roman (Arabic)"/>
              </a:rPr>
              <a:t>450000</a:t>
            </a:r>
            <a:r>
              <a:rPr b="0" lang="ar-SA" sz="2400" spc="-1" strike="noStrike">
                <a:solidFill>
                  <a:srgbClr val="ffffff"/>
                </a:solidFill>
                <a:latin typeface="Times New Roman"/>
                <a:ea typeface="Times New Roman (Arabic)"/>
              </a:rPr>
              <a:t> جنيها. هذا وقد تم تحديد الإهلاك السنوى بمعدل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باستخدام طريقة القسط الثابت ولم يكن هناك تغيير فى الأعمار الاقتصادية المتبقية لتلك الأصول. علما بأن قيمة المبانى بعد التقييم بلغت </a:t>
            </a:r>
            <a:r>
              <a:rPr b="0" lang="ar-SA" sz="2400" spc="-1" strike="noStrike">
                <a:solidFill>
                  <a:srgbClr val="ffffff"/>
                </a:solidFill>
                <a:latin typeface="Times New Roman"/>
                <a:ea typeface="Times New Roman (Arabic)"/>
              </a:rPr>
              <a:t>1380000</a:t>
            </a:r>
            <a:r>
              <a:rPr b="0" lang="ar-SA" sz="2400" spc="-1" strike="noStrike">
                <a:solidFill>
                  <a:srgbClr val="ffffff"/>
                </a:solidFill>
                <a:latin typeface="Times New Roman"/>
                <a:ea typeface="Times New Roman (Arabic)"/>
              </a:rPr>
              <a:t> جنيها. المطلوب كيفية إظهار تلك الأصول بالميزانية فى </a:t>
            </a:r>
            <a:r>
              <a:rPr b="0" lang="ar-SA" sz="2400" spc="-1" strike="noStrike">
                <a:solidFill>
                  <a:srgbClr val="ffffff"/>
                </a:solidFill>
                <a:latin typeface="Times New Roman"/>
                <a:ea typeface="Times New Roman (Arabic)"/>
              </a:rPr>
              <a:t>31/12/2008</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22:52:44Z</dcterms:created>
  <dc:creator>Administrator</dc:creator>
  <dc:description/>
  <dc:language>en-US</dc:language>
  <cp:lastModifiedBy>Administrator</cp:lastModifiedBy>
  <dcterms:modified xsi:type="dcterms:W3CDTF">2004-05-20T19:58:20Z</dcterms:modified>
  <cp:revision>34</cp:revision>
  <dc:subject/>
  <dc:title>PowerPoint Presentation</dc:title>
</cp:coreProperties>
</file>