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066680" y="1676520"/>
            <a:ext cx="6705720" cy="1572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تحليل وتفسير القوائم المالية – المراجعة النهائ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228600" y="304920"/>
            <a:ext cx="8229600" cy="638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مجمل الربح</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مجمل الربح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SA" sz="2400" spc="-1" strike="noStrike">
                <a:solidFill>
                  <a:srgbClr val="ffffff"/>
                </a:solidFill>
                <a:latin typeface="Times New Roman"/>
              </a:rPr>
              <a:t>  1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مبيعــــــ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غيرات التى يتم بحثها فى إطار التحليل المالى:</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سعار البيع</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شكيلة المبيعات</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كلفة الشراء</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كلفة الانتاج</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خزو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خفاض النسبة مؤشر على ضعف الاداء أو زيادة تكلفة التوسع فى طرح منتج جديد او محاولة زيادة حصة الشركة فى السوق.</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جود نسبة مناسبة مؤشر على كفاءة الادارة فى الانتاج والتسويق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جود نسبة عالية تؤثر على المنافسة.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6" name=""/>
          <p:cNvSpPr/>
          <p:nvPr/>
        </p:nvSpPr>
        <p:spPr>
          <a:xfrm flipH="1">
            <a:off x="4038120" y="10666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533520" y="151596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8" name=""/>
          <p:cNvSpPr/>
          <p:nvPr/>
        </p:nvSpPr>
        <p:spPr>
          <a:xfrm>
            <a:off x="304920" y="1600200"/>
            <a:ext cx="8610480" cy="3050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ربح المتاجرة (قبل الفوائد وإيرادات الاستثمار والضرائب)</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هامش الربح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SA" sz="2400" spc="-1" strike="noStrike">
                <a:solidFill>
                  <a:srgbClr val="ffffff"/>
                </a:solidFill>
                <a:latin typeface="Times New Roman"/>
              </a:rPr>
              <a:t> 1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إيرادات المبيعــــــــــــــ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ستخدم عندما تعرض المنشاة مصروفاتها بقائمة الدخل حسب طبيعتها</a:t>
            </a:r>
            <a:endParaRPr b="0" lang="en-US" sz="2400" spc="-1" strike="noStrike">
              <a:solidFill>
                <a:srgbClr val="ffffff"/>
              </a:solidFill>
              <a:latin typeface="Times New Roman"/>
            </a:endParaRPr>
          </a:p>
        </p:txBody>
      </p:sp>
      <p:sp>
        <p:nvSpPr>
          <p:cNvPr id="99" name=""/>
          <p:cNvSpPr/>
          <p:nvPr/>
        </p:nvSpPr>
        <p:spPr>
          <a:xfrm flipH="1">
            <a:off x="1676520" y="23623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762120" y="1676520"/>
            <a:ext cx="7194600" cy="3796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كلفة المبيع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دل دوران المخزون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مرة فى السن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مخزو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65</a:t>
            </a:r>
            <a:r>
              <a:rPr b="0" lang="ar-SA" sz="2400" spc="-1" strike="noStrike">
                <a:solidFill>
                  <a:srgbClr val="ffffff"/>
                </a:solidFill>
                <a:latin typeface="Times New Roman"/>
              </a:rPr>
              <a:t> يو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دل دوران المخزون بالايام =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معدل دوران المخزون</a:t>
            </a:r>
            <a:endParaRPr b="0" lang="en-US" sz="2400" spc="-1" strike="noStrike">
              <a:solidFill>
                <a:srgbClr val="ffffff"/>
              </a:solidFill>
              <a:latin typeface="Times New Roman"/>
            </a:endParaRPr>
          </a:p>
        </p:txBody>
      </p:sp>
      <p:sp>
        <p:nvSpPr>
          <p:cNvPr id="101" name=""/>
          <p:cNvSpPr/>
          <p:nvPr/>
        </p:nvSpPr>
        <p:spPr>
          <a:xfrm flipH="1">
            <a:off x="3505320" y="243828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86200" y="4724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1828800" y="4648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498600"/>
            <a:ext cx="845820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زيادة عدد الايام (معدل متناقص) مؤشر سيىء بسبب:</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يعكس إنخفاض فى الطلب على المنت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يعكس ضعف الرقابة على المخزون مع التكاليف المصاحبة له مثل تكاليف التخزين والتامين.</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قادم المخزون وتلف البضاعة وبالتالى خسائ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زيادة عدد الايام قد يكون مؤشرا إيجابيا بسب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شراء بكميات كبيرة للحصول على خصوم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زيادة المخزون لتعويض النقص في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وقع معدلات كبيرة من المبيعات فى بداية السنة الت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1851840" y="879480"/>
            <a:ext cx="5667120" cy="3751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أرصدة العملاء</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وسد فترة التحصيل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SA" sz="2400" spc="-1" strike="noStrike">
                <a:solidFill>
                  <a:srgbClr val="ffffff"/>
                </a:solidFill>
                <a:latin typeface="Times New Roman"/>
              </a:rPr>
              <a:t>  1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مبيعات الاج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65</a:t>
            </a:r>
            <a:r>
              <a:rPr b="0" lang="ar-SA" sz="2400" spc="-1" strike="noStrike">
                <a:solidFill>
                  <a:srgbClr val="ffffff"/>
                </a:solidFill>
                <a:latin typeface="Times New Roman"/>
              </a:rPr>
              <a:t> يو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وسط عدد ايام التحصيل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متوسط فترة التحص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6" name=""/>
          <p:cNvSpPr/>
          <p:nvPr/>
        </p:nvSpPr>
        <p:spPr>
          <a:xfrm flipH="1">
            <a:off x="3276720" y="152388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124080" y="36576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1219320" y="365760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609480" y="982800"/>
            <a:ext cx="8229600" cy="4718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زيادة فترة التحصيل عادة ما تكون مؤشر سيء حيث توحى بضعف الرقابة على الائتمان بسبب:</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سياسة متعمدة لزيادة فترة الائتمان لزيادة المبيعات.</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سماح للعملاء الجدد بآجال إئتمانية مختلف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د تعتبر زيادة فترة التحصيل مؤشر جيد رغم نقص السيولة بسبب: </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رقام نهاية العام قد تجعل النسبة مضلل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ستخدام وفرض عمولات على حسابات العملاء.</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تمام مبيعات طويلة الاجل غير عادية لبعض العملاء.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533520" y="1211400"/>
            <a:ext cx="759780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أرصدة الموردي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ترة سداد حسابات الموردين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SA" sz="2400" spc="-1" strike="noStrike">
                <a:solidFill>
                  <a:srgbClr val="ffffff"/>
                </a:solidFill>
                <a:latin typeface="Times New Roman"/>
              </a:rPr>
              <a:t>   365</a:t>
            </a:r>
            <a:r>
              <a:rPr b="0" lang="ar-SA" sz="2400" spc="-1" strike="noStrike">
                <a:solidFill>
                  <a:srgbClr val="ffffff"/>
                </a:solidFill>
                <a:latin typeface="Times New Roman"/>
              </a:rPr>
              <a:t> يو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مشتريات الآجل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زيادة فترة السداد للمموردين تعنى:</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ؤشر جيد بإعتبارها تمثل مصدرا من مصادر التمويل بدون تكلف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ؤشر سيء عن عدم قدرة الشركة على السداد بسرعة بسبب مشاكل السيول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اساءة الى سمعة المنشاة فى التاخير فى السداد وبالتالى إمتناع الموردين عن التعامل معها وتاثير ذلك على العملية الانتاجية وإستمرار النشاط.</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خسارة الشركة لخصومات نقدية ذات قيمة واثرها على التكلفة والمنافسة.</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1" name=""/>
          <p:cNvSpPr/>
          <p:nvPr/>
        </p:nvSpPr>
        <p:spPr>
          <a:xfrm flipH="1">
            <a:off x="2819160" y="198108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914400" y="1515960"/>
            <a:ext cx="7848720" cy="3796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أصول المتداول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نسبة السيولة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التزامات المتداول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أصول المتداولة – المخزو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السيولة السريعة     =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ألتزامات المتداولة</a:t>
            </a:r>
            <a:endParaRPr b="0" lang="en-US" sz="2400" spc="-1" strike="noStrike">
              <a:solidFill>
                <a:srgbClr val="ffffff"/>
              </a:solidFill>
              <a:latin typeface="Times New Roman"/>
            </a:endParaRPr>
          </a:p>
        </p:txBody>
      </p:sp>
      <p:sp>
        <p:nvSpPr>
          <p:cNvPr id="113" name=""/>
          <p:cNvSpPr/>
          <p:nvPr/>
        </p:nvSpPr>
        <p:spPr>
          <a:xfrm flipH="1">
            <a:off x="2590560" y="228600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1752480" y="449568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838224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يس نسب السيولة والسيولة السريعة كفاءة الاصول المتداولة وقدرتها على الوفاء بالألتزامات قصيرة الاجل عندما تصبح مستحقة السدا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a:t>
            </a:r>
            <a:r>
              <a:rPr b="0" lang="ar-SA" sz="2400" spc="-1" strike="noStrike">
                <a:solidFill>
                  <a:srgbClr val="ffffff"/>
                </a:solidFill>
                <a:latin typeface="Times New Roman"/>
              </a:rPr>
              <a:t>2</a:t>
            </a:r>
            <a:r>
              <a:rPr b="0" lang="ar-SA" sz="2400" spc="-1" strike="noStrike">
                <a:solidFill>
                  <a:srgbClr val="ffffff"/>
                </a:solidFill>
                <a:latin typeface="Times New Roman"/>
              </a:rPr>
              <a:t> فأكثر تعتبر نسبة مناسبة إلا أن نسبة </a:t>
            </a:r>
            <a:r>
              <a:rPr b="0" lang="ar-SA" sz="2400" spc="-1" strike="noStrike">
                <a:solidFill>
                  <a:srgbClr val="ffffff"/>
                </a:solidFill>
                <a:latin typeface="Times New Roman"/>
              </a:rPr>
              <a:t>1.5</a:t>
            </a:r>
            <a:r>
              <a:rPr b="0" lang="ar-SA" sz="2400" spc="-1" strike="noStrike">
                <a:solidFill>
                  <a:srgbClr val="ffffff"/>
                </a:solidFill>
                <a:latin typeface="Times New Roman"/>
              </a:rPr>
              <a:t> يعتبر المعيار المقبول بالنسبة لنسبة السيو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ما بين </a:t>
            </a:r>
            <a:r>
              <a:rPr b="0" lang="ar-SA" sz="2400" spc="-1" strike="noStrike">
                <a:solidFill>
                  <a:srgbClr val="ffffff"/>
                </a:solidFill>
                <a:latin typeface="Times New Roman"/>
              </a:rPr>
              <a:t>1</a:t>
            </a:r>
            <a:r>
              <a:rPr b="0" lang="ar-SA" sz="2400" spc="-1" strike="noStrike">
                <a:solidFill>
                  <a:srgbClr val="ffffff"/>
                </a:solidFill>
                <a:latin typeface="Times New Roman"/>
              </a:rPr>
              <a:t> الى </a:t>
            </a:r>
            <a:r>
              <a:rPr b="0" lang="ar-SA" sz="2400" spc="-1" strike="noStrike">
                <a:solidFill>
                  <a:srgbClr val="ffffff"/>
                </a:solidFill>
                <a:latin typeface="Times New Roman"/>
              </a:rPr>
              <a:t>7</a:t>
            </a:r>
            <a:r>
              <a:rPr b="0" lang="ar-SA" sz="2400" spc="-1" strike="noStrike">
                <a:solidFill>
                  <a:srgbClr val="ffffff"/>
                </a:solidFill>
                <a:latin typeface="Times New Roman"/>
              </a:rPr>
              <a:t>. % تكون مناسبة بالنسبة الى نسبة السيولة السريع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ؤشر الأعلى قد يكون بسب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ستويات مرتفعة من المخزون وحسابات العملاء أو</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ستويات مرتفعة من النقدية التى يمكن إستخدامها فى إستثمارات افض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اخذ فى الاعتبار الامور التالية عند تقسير النس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النشاط (محلات السوبر ماركت) ووجود قلة من عملاء البيع بالاج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طبيعة الموسمية للنشاط.</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جود إلتزامات طويلة الاجل مستحقة السداد قريب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المخزون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533520" y="1108080"/>
            <a:ext cx="830556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حقوق الملكي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حقوق الملكية الى الاصول =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إجمالى الا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وضح نسبة إجمالى الاصول التى يتم تمويلها بواسطة حقوق الملكية وتلك النسبة التى يتم تمويلها من القروض</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نى إنخفاض النسبة ان هناك قدرا كبيرا من الاصول ممول من القروض والعكس صحيح.</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ون ارباح الشركة ذات النسبة المنخفضة لحقوق الملكية الى الاصول أكثر حساسية لتغير مستويات الارباح ومن ثم توزيعات الارباح على اصحاب رأس المال بسبب عنصر الفوائد أو قد يؤدى ذلك الى الاعسار فى سداد فوائد القروض.</a:t>
            </a:r>
            <a:endParaRPr b="0" lang="en-US" sz="2400" spc="-1" strike="noStrike">
              <a:solidFill>
                <a:srgbClr val="ffffff"/>
              </a:solidFill>
              <a:latin typeface="Times New Roman"/>
            </a:endParaRPr>
          </a:p>
        </p:txBody>
      </p:sp>
      <p:sp>
        <p:nvSpPr>
          <p:cNvPr id="117" name=""/>
          <p:cNvSpPr/>
          <p:nvPr/>
        </p:nvSpPr>
        <p:spPr>
          <a:xfrm flipH="1">
            <a:off x="2209320" y="1752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304920"/>
            <a:ext cx="8305920" cy="61970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حليل الأفقى</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تمثل التحليل الأفقى فى مقارنة معلومات العام الحالى مع الاعوام السابقة وملاحظة وتفسير الأسباب المنطقية للتغيرات الهامة</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مور التى يجب التعرض لها عند إجراء التحليل الافقى</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1) </a:t>
            </a:r>
            <a:r>
              <a:rPr b="0" lang="ar-SA" sz="2400" spc="-1" strike="noStrike">
                <a:solidFill>
                  <a:srgbClr val="ffffff"/>
                </a:solidFill>
                <a:latin typeface="Times New Roman"/>
                <a:cs typeface="Times New Roman (Arabic)"/>
              </a:rPr>
              <a:t>التغير فى إيراد المبيعات</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2) </a:t>
            </a:r>
            <a:r>
              <a:rPr b="0" lang="ar-SA" sz="2400" spc="-1" strike="noStrike">
                <a:solidFill>
                  <a:srgbClr val="ffffff"/>
                </a:solidFill>
                <a:latin typeface="Times New Roman"/>
                <a:cs typeface="Times New Roman (Arabic)"/>
              </a:rPr>
              <a:t>مجمل الربح</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ذا لم يتزايد مجمل الربح مع الزيادة فى إيراد المبيعات فيتم البحث فى الامور التالية</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زيادة التكاليف المتغيرة ومن اهمها تكاليف الشراء</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خفيض المخزون</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خفيض بعض التكاليف الثابتة وتحميلها على التكاليف المتغيرة</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457200" y="727200"/>
            <a:ext cx="778824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وازن الم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ن تتوافر للمنشاة مستوى مناسب من التمويل طويل الاجل لتمويل إستثماراتها طويلة الاجل على ان يتم تمويل جزء من الاستثمار فى الأصول المتداولة بواسطة رأسمال دائم نسبي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تمويل التوسع فى انشطة المنشاة (أصول طويلة الاجل) بواسطة قروض مؤقتة وقصيرة الاجل.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فراط فى المتاجرة (زيادة المبيعات بشكل سريع دون توفير مصادر التمويل طويلة الاجل اللازمة لتمويل إحتياجاتها طويلة الاجل)</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زيادة المخزون زيادة كبيرة وبطريقة غير مناسبة.</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زيادة ارصدة العملاء بما لا يتناسب مع زيادة ايرادات العملاء</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خفاض النقدية والاصول السائلة الى درجة الخطر</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زيادة سريعة فى حسابات ا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533520" y="955800"/>
            <a:ext cx="794052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صافى الارباح المتاحة لأصحاب الاسهم العا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بح السهم  =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متوسط المرجح لعدد الاسهم العادية القائ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سعر الســــــــــــوق</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ضاعف ربحية السهم =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ربح الســــــــ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وزيع الارباح لل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سبة توزيعات الارباح  =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سعر الســــــــــــــوق</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flipH="1">
            <a:off x="762120" y="1600200"/>
            <a:ext cx="548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2209680" y="380988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2133720" y="55627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1676520" y="1363680"/>
            <a:ext cx="6073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4" name=""/>
          <p:cNvSpPr/>
          <p:nvPr/>
        </p:nvSpPr>
        <p:spPr>
          <a:xfrm>
            <a:off x="533520" y="2049480"/>
            <a:ext cx="800100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وزيعات الاربـــــــــــــــــــــــاح</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دل غطاء توزيع الأرباح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ارباح القابلة للتوزيع</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5" name=""/>
          <p:cNvSpPr/>
          <p:nvPr/>
        </p:nvSpPr>
        <p:spPr>
          <a:xfrm flipH="1">
            <a:off x="838080" y="28195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1096920" y="422280"/>
            <a:ext cx="7209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طار إعداد تقرير بشأن تحليل وتفسير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هرست بمحتويات التقرير.</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جهة المعد لها التقرير والعنوان والشخص الذى اعد التقرير.</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قدمة بالهدف الذى اعد من اجله التحليل المالى والتقرير.</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واريخ التى تم بشانها التحليل المالى.</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فتراضات الاساسي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لومات المستخدم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خلاصة واهم النتائج.</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لاحق (الاشكال البيانية والنسب التحليلية وأسلوب تحديد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80880" y="228600"/>
            <a:ext cx="830592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الربح قبل الضريب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ند توافر عناصر المصروفات فى السؤال ، يجب التعرض الى:</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مصروفات الثابتة وشبه الثابتة والتى لا يتوقع ان تتغير فى إتجاه واحد مع إيراد   المبيعات.</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تكاليف المتغي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a:t>
            </a:r>
            <a:r>
              <a:rPr b="0" lang="ar-SA" sz="2400" spc="-1" strike="noStrike">
                <a:solidFill>
                  <a:srgbClr val="ffffff"/>
                </a:solidFill>
                <a:latin typeface="Times New Roman"/>
                <a:ea typeface="Times New Roman (Arabic)"/>
              </a:rPr>
              <a:t>) تحليل آثار عناصر قائمة الدخل على صافى الأرباح.</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بنود غير العادي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اهلاك والارباح أو الخسائر الناتجة عن التصرف فى الأصول طويلة الاجل.</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تكاليف البحوث والتطوير.</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نفقات الاعلان.</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خفض الدورى للأصول غير الملموس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مكافآت المديرين وتكاليف منح التقا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762120" y="533520"/>
            <a:ext cx="7902360" cy="5275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الفوائد الدائنة ودخل الاستثمار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مثل إيرادات ليس من المتوقع ان تتحرك فى إتجاه واحد مع المبيعات ولكن يجب مقارنتها من عام لاخر فى ضوء مايل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 تغييرات أخر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تغييرات فى الاستثمارات التى تمت حيازت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ايجارات الجديد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زيادة او تخفيض القروض.</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ب) الارصدة المرتبطة بها بالميزان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استثمارات حسب تبويب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مستوى الاقتراض</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838080" y="754200"/>
            <a:ext cx="7064640" cy="4147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a:t>
            </a:r>
            <a:r>
              <a:rPr b="0" lang="ar-SA" sz="2400" spc="-1" strike="noStrike">
                <a:solidFill>
                  <a:srgbClr val="ffffff"/>
                </a:solidFill>
                <a:latin typeface="Times New Roman"/>
                <a:ea typeface="Times New Roman (Arabic)"/>
              </a:rPr>
              <a:t>) توزيعات الارباح</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قارنة توزيعات الارباح للعام مع العام السابق حيث ان إنخفاض توزيع الارباح أمر يثير القلق عند المحلل المالى.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6</a:t>
            </a:r>
            <a:r>
              <a:rPr b="0" lang="ar-SA" sz="2400" spc="-1" strike="noStrike">
                <a:solidFill>
                  <a:srgbClr val="ffffff"/>
                </a:solidFill>
                <a:latin typeface="Times New Roman"/>
                <a:ea typeface="Times New Roman (Arabic)"/>
              </a:rPr>
              <a:t>) الربح بعد الضريب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تم مقارنة الربح بعد الضريبة عن العام مع الاعوام السابقة بهدف التعرف على سياسة المنشاة بشأن تطبيق القواعد الضريبية ومستوى الضريبة من عام لاخر بالاضافى الى أثر الضريبة المؤ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551400" y="228600"/>
            <a:ext cx="2682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نسب والمؤشرات المالية</a:t>
            </a:r>
            <a:endParaRPr b="0" lang="en-US" sz="2400" spc="-1" strike="noStrike">
              <a:solidFill>
                <a:srgbClr val="ffffff"/>
              </a:solidFill>
              <a:latin typeface="Times New Roman"/>
            </a:endParaRPr>
          </a:p>
        </p:txBody>
      </p:sp>
      <p:graphicFrame>
        <p:nvGraphicFramePr>
          <p:cNvPr id="87" name=""/>
          <p:cNvGraphicFramePr/>
          <p:nvPr/>
        </p:nvGraphicFramePr>
        <p:xfrm>
          <a:off x="228600" y="1219320"/>
          <a:ext cx="8610480" cy="4308480"/>
        </p:xfrm>
        <a:graphic>
          <a:graphicData uri="http://schemas.openxmlformats.org/drawingml/2006/table">
            <a:tbl>
              <a:tblPr/>
              <a:tblGrid>
                <a:gridCol w="2870280"/>
                <a:gridCol w="4292640"/>
                <a:gridCol w="1447560"/>
              </a:tblGrid>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مثلة للنسب التحليلي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يعكس</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جوانب التحلي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700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ea typeface="Times New Roman"/>
                        </a:rPr>
                        <a:t>- معدل العائد على رأس المال المستثمر</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آداء الشركة ومديريها</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ربح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ea typeface="Times New Roman"/>
                        </a:rPr>
                        <a:t>- نسبة مجمل الربح  - نسبة صافى الربح </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عدل دوران المخزون</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كفاءة إستخدام الاصول</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كفاءة الادار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فترة تحصيل حسابات العملاء</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فترة سداد الموردين</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نسبة حقوق الملكية الى الاصول</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هيكل المالى وإستقرار الشرك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أستقرار المالى</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نسبة التداول  -  نسبة التداول السريع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ربح السهم</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عدد الاسهم العادية وسعرها الى الأرباح وتوزيعات الارباح وأصول الشرك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أستثمار</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ضاعف ربحية السهم</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عائد توزيعات الاسهم</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تغطية توزيعات الارباح</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5480">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نسبة صافى الأصول الى السهم</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533520" y="1058760"/>
            <a:ext cx="7597800" cy="3796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د إجراء التحليل للنسب المالية يجب ان يتم ما يلى: </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حساب النسب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ذا تعنى النسبة حرفيا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ذا يعنى حدوث تغيير فى النسبة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و المعيار الذى يتم المقارنة به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قيود المفروضة على المؤشر الما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152280" y="380880"/>
            <a:ext cx="861084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صافى الربح</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دل العائد على راس المال المستثمر=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EG" sz="2400" spc="-1" strike="noStrike">
                <a:solidFill>
                  <a:srgbClr val="ffffff"/>
                </a:solidFill>
                <a:latin typeface="Times New Roman"/>
              </a:rPr>
              <a:t>   1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رأس المال المستثمر</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تعكس كفاءة المنشاة فى إستخدام الموارد المتاحة لها. </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كان منخفض فيفضل تسييل الأصول والاستثمار لدى البنك. </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 المقارنة للمؤشرات التا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معدل العائد عن العام السابق</a:t>
            </a:r>
            <a:r>
              <a:rPr b="0" lang="ar-SA" sz="2400" spc="-1" strike="noStrike">
                <a:solidFill>
                  <a:srgbClr val="ffffff"/>
                </a:solidFill>
                <a:latin typeface="Times New Roman"/>
              </a:rPr>
              <a:t>	</a:t>
            </a:r>
            <a:r>
              <a:rPr b="0" lang="ar-SA" sz="2400" spc="-1" strike="noStrike">
                <a:solidFill>
                  <a:srgbClr val="ffffff"/>
                </a:solidFill>
                <a:latin typeface="Times New Roman"/>
              </a:rPr>
              <a:t>  - العائد المستهدف على رأس المال المستثمر</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تكلفة الاقتراض (مثال </a:t>
            </a:r>
            <a:r>
              <a:rPr b="0" lang="ar-SA" sz="2400" spc="-1" strike="noStrike">
                <a:solidFill>
                  <a:srgbClr val="ffffff"/>
                </a:solidFill>
                <a:latin typeface="Times New Roman"/>
              </a:rPr>
              <a:t>10</a:t>
            </a:r>
            <a:r>
              <a:rPr b="0" lang="ar-SA" sz="2400" spc="-1" strike="noStrike">
                <a:solidFill>
                  <a:srgbClr val="ffffff"/>
                </a:solidFill>
                <a:latin typeface="Times New Roman"/>
              </a:rPr>
              <a:t>%) فى حين العائد على رأس المال </a:t>
            </a:r>
            <a:r>
              <a:rPr b="0" lang="ar-SA" sz="2400" spc="-1" strike="noStrike">
                <a:solidFill>
                  <a:srgbClr val="ffffff"/>
                </a:solidFill>
                <a:latin typeface="Times New Roman"/>
              </a:rPr>
              <a:t>7</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شركات الاخرى بنفس الصناع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جب الاخذ فى الاعتبار السياسات المحاسبية واعمار الأصول والأصول المؤجرة. </a:t>
            </a:r>
            <a:endParaRPr b="0" lang="en-US" sz="2400" spc="-1" strike="noStrike">
              <a:solidFill>
                <a:srgbClr val="ffffff"/>
              </a:solidFill>
              <a:latin typeface="Times New Roman"/>
            </a:endParaRPr>
          </a:p>
        </p:txBody>
      </p:sp>
      <p:sp>
        <p:nvSpPr>
          <p:cNvPr id="90" name=""/>
          <p:cNvSpPr/>
          <p:nvPr/>
        </p:nvSpPr>
        <p:spPr>
          <a:xfrm flipH="1">
            <a:off x="2743200" y="11430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498600"/>
            <a:ext cx="861048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طرق البديلة لتحديد العائد على رأس المال المستثم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ربح بعد الفوائد وتوزيعات الاسهم الممتاز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عائد على حقوق الملكية =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EG" sz="2400" spc="-1" strike="noStrike">
                <a:solidFill>
                  <a:srgbClr val="ffffff"/>
                </a:solidFill>
                <a:latin typeface="Times New Roman"/>
              </a:rPr>
              <a:t> 1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رأس مال الاسهم العادية + الاحتياطي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  * الربح قبل الضريبة أكثر ملائ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ربح التشغيل ( أرباح العملي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العائد الشامل =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en-US" sz="2400" spc="-1" strike="noStrike">
                <a:solidFill>
                  <a:srgbClr val="ffffff"/>
                </a:solidFill>
                <a:latin typeface="Times New Roman"/>
              </a:rPr>
              <a:t>X</a:t>
            </a:r>
            <a:r>
              <a:rPr b="0" lang="ar-SA" sz="2400" spc="-1" strike="noStrike">
                <a:solidFill>
                  <a:srgbClr val="ffffff"/>
                </a:solidFill>
                <a:latin typeface="Times New Roman"/>
              </a:rPr>
              <a:t>  1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رأس مال الاسهم + الاحتياطيات + القرو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flipH="1">
            <a:off x="1676160" y="182880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5867280" y="47926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flipH="1">
            <a:off x="1904760" y="4724280"/>
            <a:ext cx="472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7T07:10:03Z</dcterms:created>
  <dc:creator>Administrator</dc:creator>
  <dc:description/>
  <dc:language>en-US</dc:language>
  <cp:lastModifiedBy>Administrator</cp:lastModifiedBy>
  <dcterms:modified xsi:type="dcterms:W3CDTF">2004-10-21T22:37:12Z</dcterms:modified>
  <cp:revision>11</cp:revision>
  <dc:subject/>
  <dc:title>PowerPoint Presentation</dc:title>
</cp:coreProperties>
</file>