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6"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7"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9"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4"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5"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0"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4"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5"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8"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9"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2"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3"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1"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2"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0"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1"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2"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3"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0" name=""/>
          <p:cNvSpPr/>
          <p:nvPr/>
        </p:nvSpPr>
        <p:spPr>
          <a:xfrm>
            <a:off x="228600" y="878040"/>
            <a:ext cx="8686800" cy="484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فصل </a:t>
            </a:r>
            <a:r>
              <a:rPr b="1" lang="ar-SA" sz="2400" spc="-1" strike="noStrike">
                <a:solidFill>
                  <a:srgbClr val="ffffff"/>
                </a:solidFill>
                <a:latin typeface="Arial"/>
                <a:cs typeface="Times New Roman (Arabic)"/>
              </a:rPr>
              <a:t>السادس عشر: الارباح المحققة والقابلة للتوزيع</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يجب أن يغطى الدارس فى نهاية هذا الفصل ماي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حديد أسس الإعتراف بالإيراد طبقا للمعيار المحاسبى المصرى رقم (</a:t>
            </a:r>
            <a:r>
              <a:rPr b="0" lang="ar-SA" sz="2400" spc="-1" strike="noStrike">
                <a:solidFill>
                  <a:srgbClr val="ffffff"/>
                </a:solidFill>
                <a:latin typeface="Arial"/>
                <a:ea typeface="Arial"/>
              </a:rPr>
              <a:t>11</a:t>
            </a:r>
            <a:r>
              <a:rPr b="0" lang="ar-SA" sz="2400" spc="-1" strike="noStrike">
                <a:solidFill>
                  <a:srgbClr val="ffffff"/>
                </a:solidFill>
                <a:latin typeface="Arial"/>
                <a:ea typeface="Arial"/>
              </a:rPr>
              <a:t>).</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القواعد الخاصة بتوزيع الارباح</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Arial"/>
              </a:rPr>
              <a:t>التعامل مع الفوائد وتوزيعات الارباح ومكاسب وخسائر الأدوات المالية.</a:t>
            </a:r>
            <a:endParaRPr b="0" lang="en-US" sz="2400" spc="-1" strike="noStrike">
              <a:solidFill>
                <a:srgbClr val="ffffff"/>
              </a:solidFill>
              <a:latin typeface="Times New Roman"/>
            </a:endParaRPr>
          </a:p>
          <a:p>
            <a:pPr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0" name=""/>
          <p:cNvSpPr/>
          <p:nvPr/>
        </p:nvSpPr>
        <p:spPr>
          <a:xfrm>
            <a:off x="152280" y="304920"/>
            <a:ext cx="8763120" cy="5580360"/>
          </a:xfrm>
          <a:prstGeom prst="rect">
            <a:avLst/>
          </a:prstGeom>
          <a:noFill/>
          <a:ln w="0">
            <a:noFill/>
          </a:ln>
        </p:spPr>
        <p:style>
          <a:lnRef idx="0"/>
          <a:fillRef idx="0"/>
          <a:effectRef idx="0"/>
          <a:fontRef idx="minor"/>
        </p:style>
        <p:txBody>
          <a:bodyPr lIns="90000" rIns="90000" tIns="46800" bIns="46800" anchor="t">
            <a:spAutoFit/>
          </a:bodyPr>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إيرادات المتعلقة بإستخدام الآخرين لأصول المنشأة</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 (الفوائد – الاتاوات – توزيعات الأرباح)</a:t>
            </a:r>
            <a:endParaRPr b="0" lang="en-US" sz="2400" spc="-1" strike="noStrike">
              <a:solidFill>
                <a:srgbClr val="ffffff"/>
              </a:solidFill>
              <a:latin typeface="Times New Roman"/>
            </a:endParaRPr>
          </a:p>
          <a:p>
            <a:pPr marL="630360" indent="-169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الأعتراف بالإيراد الناتج عن إستخدام الآخرين لموارد المنشاة إذا توافرت </a:t>
            </a:r>
            <a:r>
              <a:rPr b="0" lang="ar-SA" sz="2400" spc="-1" strike="noStrike" u="sng">
                <a:solidFill>
                  <a:srgbClr val="ffffff"/>
                </a:solidFill>
                <a:uFillTx/>
                <a:latin typeface="Times New Roman"/>
              </a:rPr>
              <a:t>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كون من المتوقع بشكل كبير تدفق المنافع الاقتصادية المصاحبة للمعاملة الى المنشاة.</a:t>
            </a:r>
            <a:endParaRPr b="0" lang="en-US" sz="2400" spc="-1" strike="noStrike">
              <a:solidFill>
                <a:srgbClr val="ffffff"/>
              </a:solidFill>
              <a:latin typeface="Times New Roman"/>
            </a:endParaRPr>
          </a:p>
          <a:p>
            <a:pPr marL="630360" indent="-16992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بلغ الإيراد بدرجة موثوق بها.</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الفوائد على أساس نسبة الوقت الذى تم الأستفادة خلاله بالأصل. </a:t>
            </a:r>
            <a:endParaRPr b="0" lang="en-US" sz="2400" spc="-1" strike="noStrike">
              <a:solidFill>
                <a:srgbClr val="ffffff"/>
              </a:solidFill>
              <a:latin typeface="Times New Roman"/>
            </a:endParaRPr>
          </a:p>
          <a:p>
            <a:pPr marL="630360" indent="-169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وائد الودائع البنكية – الاستثمار فى السندات)</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أعتراف بالاتاوات على أساس الأستحقاق طبقا للعقد.</a:t>
            </a:r>
            <a:endParaRPr b="0" lang="en-US" sz="2400" spc="-1" strike="noStrike">
              <a:solidFill>
                <a:srgbClr val="ffffff"/>
              </a:solidFill>
              <a:latin typeface="Times New Roman"/>
            </a:endParaRPr>
          </a:p>
          <a:p>
            <a:pPr marL="630360" indent="-1699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الإعتراف بتوزيعات الأرباح عندما يصدر الحق لحاملى الأسهم فى </a:t>
            </a:r>
            <a:r>
              <a:rPr b="0" lang="ar-SA" sz="2400" spc="-1" strike="noStrike" u="sng">
                <a:solidFill>
                  <a:srgbClr val="ffffff"/>
                </a:solidFill>
                <a:uFillTx/>
                <a:latin typeface="Times New Roman"/>
              </a:rPr>
              <a:t>إستلام</a:t>
            </a:r>
            <a:r>
              <a:rPr b="0" lang="ar-SA" sz="2400" spc="-1" strike="noStrike">
                <a:solidFill>
                  <a:srgbClr val="ffffff"/>
                </a:solidFill>
                <a:latin typeface="Times New Roman"/>
              </a:rPr>
              <a:t> </a:t>
            </a:r>
            <a:r>
              <a:rPr b="0" lang="ar-SA" sz="2400" spc="-1" strike="noStrike" u="sng">
                <a:solidFill>
                  <a:srgbClr val="ffffff"/>
                </a:solidFill>
                <a:uFillTx/>
                <a:latin typeface="Times New Roman"/>
              </a:rPr>
              <a:t>مبالغ</a:t>
            </a:r>
            <a:r>
              <a:rPr b="0" lang="ar-SA" sz="2400" spc="-1" strike="noStrike">
                <a:solidFill>
                  <a:srgbClr val="ffffff"/>
                </a:solidFill>
                <a:latin typeface="Times New Roman"/>
              </a:rPr>
              <a:t> تلك التوزيع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1" name=""/>
          <p:cNvSpPr/>
          <p:nvPr/>
        </p:nvSpPr>
        <p:spPr>
          <a:xfrm>
            <a:off x="228600" y="380880"/>
            <a:ext cx="8458200" cy="48942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افصاح عن الإيراد</a:t>
            </a:r>
            <a:endParaRPr b="0" lang="en-US" sz="2400" spc="-1" strike="noStrike">
              <a:solidFill>
                <a:srgbClr val="ffffff"/>
              </a:solidFill>
              <a:latin typeface="Times New Roman"/>
            </a:endParaRPr>
          </a:p>
          <a:p>
            <a:pPr marL="457200" indent="-4572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المستخدمة للإعتراف بالانواع الهامة للإيرادات بما فى ذلك الطرق المستخدمة فى تحديد مرحلة إستكمال عمليات الخدمات المقدمة للغير.</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كل نوع من الإيرادات المعترف بها خلال الفتر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قيمة الإيراد الناشيء عن مبادلة البضائع والخدمات.</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رباح والخسائر العرضية التى تنشأ عن بعض البنود مثل تكاليف فترة الضمان أو المطالبات أو الغرامات.</a:t>
            </a:r>
            <a:endParaRPr b="0" lang="en-US" sz="2400" spc="-1" strike="noStrike">
              <a:solidFill>
                <a:srgbClr val="ffffff"/>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80880" y="533520"/>
            <a:ext cx="8382240" cy="4703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لة على تحقق والإعتراف الإيراد:</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شتركات المجل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بيع الآجل للبضائع</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ضمن الاعتراف بالإيراد فى مثل هذه العمليات ربح المتاجرة الذى قد يثبت فور البيع  ودخل التمويل الذى يوزع على مدار فترة 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80880" y="345960"/>
            <a:ext cx="7788240" cy="5214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ffffff"/>
                </a:solidFill>
                <a:uFillTx/>
                <a:latin typeface="Times New Roman"/>
              </a:rPr>
              <a:t>مثال عملى على قياس والاعتراف بالإيرا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شركة توتو للإستشارات إتفقت على عقد عام </a:t>
            </a:r>
            <a:r>
              <a:rPr b="0" lang="ar-SA" sz="2400" spc="-1" strike="noStrike">
                <a:solidFill>
                  <a:srgbClr val="ffffff"/>
                </a:solidFill>
                <a:latin typeface="Times New Roman"/>
              </a:rPr>
              <a:t>1994</a:t>
            </a:r>
            <a:r>
              <a:rPr b="0" lang="ar-SA" sz="2400" spc="-1" strike="noStrike">
                <a:solidFill>
                  <a:srgbClr val="ffffff"/>
                </a:solidFill>
                <a:latin typeface="Times New Roman"/>
              </a:rPr>
              <a:t> ينتهى تنفيذه بنهاية عام </a:t>
            </a:r>
            <a:r>
              <a:rPr b="0" lang="ar-SA" sz="2400" spc="-1" strike="noStrike">
                <a:solidFill>
                  <a:srgbClr val="ffffff"/>
                </a:solidFill>
                <a:latin typeface="Times New Roman"/>
              </a:rPr>
              <a:t>1996</a:t>
            </a:r>
            <a:r>
              <a:rPr b="0" lang="ar-SA" sz="2400" spc="-1" strike="noStrike">
                <a:solidFill>
                  <a:srgbClr val="ffffff"/>
                </a:solidFill>
                <a:latin typeface="Times New Roman"/>
              </a:rPr>
              <a:t> وقد كانت أيرادات العقد وتكاليفه على النحوالتا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جمالى إيرادات العقد</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كاليف الفع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4</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0000</a:t>
            </a:r>
            <a:r>
              <a:rPr b="0" lang="ar-SA" sz="2400" spc="-1" strike="noStrike">
                <a:solidFill>
                  <a:srgbClr val="ffffff"/>
                </a:solidFill>
                <a:latin typeface="Times New Roman"/>
              </a:rPr>
              <a:t> جنيه</a:t>
            </a:r>
            <a:r>
              <a:rPr b="0" lang="en-US" sz="2400" spc="-1" strike="noStrike">
                <a:solidFill>
                  <a:srgbClr val="ffffff"/>
                </a:solidFill>
                <a:latin typeface="Times New Roman"/>
              </a:rPr>
              <a:t>    </a:t>
            </a: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5</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30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م </a:t>
            </a:r>
            <a:r>
              <a:rPr b="0" lang="ar-SA" sz="2400" spc="-1" strike="noStrike">
                <a:solidFill>
                  <a:srgbClr val="ffffff"/>
                </a:solidFill>
                <a:latin typeface="Times New Roman"/>
              </a:rPr>
              <a:t>1996</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25000</a:t>
            </a:r>
            <a:r>
              <a:rPr b="0" lang="ar-SA" sz="2400" spc="-1" strike="noStrike">
                <a:solidFill>
                  <a:srgbClr val="ffffff"/>
                </a:solidFill>
                <a:latin typeface="Times New Roman"/>
              </a:rPr>
              <a:t> جنيه</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990720" y="1363680"/>
            <a:ext cx="716256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سئلـــــــــــــــ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كيف يتم قياس الإيراد؟</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واجب الوفاء بها قبل الإعتراف بالإيراد من بيع البضاعة؟</a:t>
            </a:r>
            <a:endParaRPr b="0" lang="en-US" sz="2400" spc="-1" strike="noStrike">
              <a:solidFill>
                <a:srgbClr val="ffffff"/>
              </a:solidFill>
              <a:latin typeface="Times New Roman"/>
            </a:endParaRPr>
          </a:p>
          <a:p>
            <a:pPr marL="457200" indent="-457200"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هى الشروط التى يجب الوفاء بها قبل الإعتراف بآداء الخدم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304920" y="457200"/>
            <a:ext cx="8534160" cy="594612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قواعد الخاصة بتوزيعات الأرباح</a:t>
            </a:r>
            <a:endParaRPr b="0" lang="en-US" sz="2400" spc="-1" strike="noStrike">
              <a:solidFill>
                <a:srgbClr val="ffffff"/>
              </a:solidFill>
              <a:latin typeface="Times New Roman"/>
            </a:endParaRPr>
          </a:p>
          <a:p>
            <a:pPr marL="108000" indent="-1080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تختلف الدول من حيث المتطلبات القانونية التى تحكم عملية توزيع الأرباح ومن ثم لا يوجد معيار محاسبى دولى يحكم تلك العملي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يجب تحقق الربح إذا كان من المطلوب توزيعه ، والتحقق يعنى أن الربح قد تم تحصيله نقدا أو يمكن تحقيقه فى المستقبل أى يوجد تأكيد مناسب بشان تحصيل النقدية فى المستقب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Arial"/>
              </a:rPr>
              <a:t> من المقبول الأعتراف بالأرباح او المكاسب غير المحققة مثل فائض أعادة التقييم التى قد تحتفظ به الشركة (الأصول الثابتة – الأستثمارات طويلة الاجل) ولكن من الخطورة توزيعه نظرا لأنه قد لا يتحقق فى صورة تدفق نقدى داخل مباشرة. ولكن يمكن الأستفادة منه لاحقا إذا ما فقد الأصل الزيادة فى قيمته. وبالتالى فإن تلك النوعية من الأرباح يجب ان تكون قابلة للتوزيع فقط عند تحققها ببيع تلك الأصو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457200" y="609480"/>
            <a:ext cx="8001000" cy="487908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توزيعات من أرباح الاعوام السابقة</a:t>
            </a:r>
            <a:endParaRPr b="0" lang="en-US" sz="2400" spc="-1" strike="noStrike">
              <a:solidFill>
                <a:srgbClr val="ffffff"/>
              </a:solidFill>
              <a:latin typeface="Times New Roman"/>
            </a:endParaRPr>
          </a:p>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تم توزيع الأرباح طالما ان الارباح المتراكمة حتى تاريخ القوائم المالية موضوع التوزيع تغطى مقدار توزيعات الأرباح المقررة. وهذا يعنى امكانية توزيع أرباح رغم تحقيق الشركة خسائر فى سنة ما طالما توجد أرباح تغطى تلك الخسائر ويتبقى مايسمح  بإجراء توزيعات.</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ان يؤخذ فى الإعتبار عند إجراء توزيعات الأرباح حجم النقدية المتوافرة لدى المنشأة  فى ضوء متطلبات إستمرار المنشاة فى مزاولة نشاطها ومتطلبات السيول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0" y="0"/>
            <a:ext cx="8991720" cy="814068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 الارباح طبقا لمتطلبات قانون الشركات رقم </a:t>
            </a:r>
            <a:r>
              <a:rPr b="1" lang="ar-SA" sz="2400" spc="-1" strike="noStrike">
                <a:solidFill>
                  <a:srgbClr val="ffffff"/>
                </a:solidFill>
                <a:latin typeface="Times New Roman"/>
              </a:rPr>
              <a:t>159</a:t>
            </a:r>
            <a:r>
              <a:rPr b="1" lang="ar-SA" sz="2400" spc="-1" strike="noStrike">
                <a:solidFill>
                  <a:srgbClr val="ffffff"/>
                </a:solidFill>
                <a:latin typeface="Times New Roman"/>
              </a:rPr>
              <a:t> لسنة </a:t>
            </a:r>
            <a:r>
              <a:rPr b="1" lang="ar-SA" sz="2400" spc="-1" strike="noStrike">
                <a:solidFill>
                  <a:srgbClr val="ffffff"/>
                </a:solidFill>
                <a:latin typeface="Times New Roman"/>
              </a:rPr>
              <a:t>1981</a:t>
            </a:r>
            <a:r>
              <a:rPr b="1" lang="ar-SA" sz="2400" spc="-1" strike="noStrike">
                <a:solidFill>
                  <a:srgbClr val="ffffff"/>
                </a:solidFill>
                <a:latin typeface="Times New Roman"/>
              </a:rPr>
              <a:t> ولائحته التنفيذية</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توزيع الرباح القابلة للتوزيع طبقا لأحكام القانون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5%</a:t>
            </a:r>
            <a:r>
              <a:rPr b="0" lang="ar-SA" sz="2400" spc="-1" strike="noStrike">
                <a:solidFill>
                  <a:srgbClr val="ffffff"/>
                </a:solidFill>
                <a:latin typeface="Times New Roman"/>
              </a:rPr>
              <a:t> على الأقل أو أى نسبة أعلى يحددها النظام الأساسى للشركة وذلك من صافى ارباح العام موضوع التوزيع.</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5%</a:t>
            </a:r>
            <a:r>
              <a:rPr b="0" lang="ar-SA" sz="2400" spc="-1" strike="noStrike">
                <a:solidFill>
                  <a:srgbClr val="ffffff"/>
                </a:solidFill>
                <a:latin typeface="Times New Roman"/>
              </a:rPr>
              <a:t> من رأس المال المدفوع كحصة أولى للمساهمين توزع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على الأكثر من الباقى كمكافاة لأعضاء مجلس الادارة.</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حصة الثانية للمساهمين (إن وجدت) على ان توزع على النحوالتالى:</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90%</a:t>
            </a:r>
            <a:r>
              <a:rPr b="0" lang="ar-SA" sz="2400" spc="-1" strike="noStrike">
                <a:solidFill>
                  <a:srgbClr val="ffffff"/>
                </a:solidFill>
                <a:latin typeface="Times New Roman"/>
              </a:rPr>
              <a:t> للمساهم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0%</a:t>
            </a:r>
            <a:r>
              <a:rPr b="0" lang="ar-SA" sz="2400" spc="-1" strike="noStrike">
                <a:solidFill>
                  <a:srgbClr val="ffffff"/>
                </a:solidFill>
                <a:latin typeface="Times New Roman"/>
              </a:rPr>
              <a:t> للعاملي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ا يجب أن لا تزيد حصة العاملين فى الارباح عن المرتبات السنوية وإن زادت تودع الزيادة فى صندوق خاص يستثمر لصالح العاملين.</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مكن تكوين أحتياطيات اخرى حسب ما ينص عليه النظام الأساسى للشركة (إحتياطى نظامى) او ما قد تقرره الجمعية العامة للمنشاة (إحتياطى عام )</a:t>
            </a: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685800" y="2556000"/>
            <a:ext cx="7543800" cy="825480"/>
          </a:xfrm>
          <a:prstGeom prst="rect">
            <a:avLst/>
          </a:prstGeom>
          <a:noFill/>
          <a:ln w="0">
            <a:noFill/>
          </a:ln>
        </p:spPr>
        <p:style>
          <a:lnRef idx="0"/>
          <a:fillRef idx="0"/>
          <a:effectRef idx="0"/>
          <a:fontRef idx="minor"/>
        </p:style>
        <p:txBody>
          <a:bodyPr lIns="90000" rIns="90000" tIns="46800" bIns="46800" anchor="t">
            <a:spAutoFit/>
          </a:bodyPr>
          <a:p>
            <a:pPr marL="968400" indent="-9684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ســــــؤال:</a:t>
            </a:r>
            <a:r>
              <a:rPr b="0" lang="ar-SA" sz="2400" spc="-1" strike="noStrike">
                <a:solidFill>
                  <a:srgbClr val="ffffff"/>
                </a:solidFill>
                <a:latin typeface="Times New Roman"/>
              </a:rPr>
              <a:t> ما هى الشروط الاساسية الى يلزم الوفاء بها قبل إجراء توزيعات أرباح الأسهم نقد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533520" y="533520"/>
            <a:ext cx="8001000" cy="43380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وزيعات الأرباح فى صورة أسهم (الأسهم المجانية)</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أسهم المجانية تعنى إصدار الشركة لأسهم إضافية الى المساهمين بدون تحصيل مقابل لها.</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ناء على توزيع الأسهم المجانية فإن عدد المساهمين لا يتغير كما لا تتغير أصول وإلتزامات المنشاة ، بل ان التغيير الوحيد هو تحويل الأرباح او الإحتياطيات إلى راس المال.</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685800" y="609480"/>
            <a:ext cx="7543800" cy="6547680"/>
          </a:xfrm>
          <a:prstGeom prst="rect">
            <a:avLst/>
          </a:prstGeom>
          <a:noFill/>
          <a:ln w="0">
            <a:noFill/>
          </a:ln>
        </p:spPr>
        <p:style>
          <a:lnRef idx="0"/>
          <a:fillRef idx="0"/>
          <a:effectRef idx="0"/>
          <a:fontRef idx="minor"/>
        </p:style>
        <p:txBody>
          <a:bodyPr lIns="90000" rIns="90000" tIns="46800" bIns="46800" anchor="t">
            <a:spAutoFit/>
          </a:bodyPr>
          <a:p>
            <a:pPr marL="61920" indent="-619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عتراف بالإيــــــــــــراد</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عرف الدخل بأنه الزيادة فى المنافع </a:t>
            </a:r>
            <a:r>
              <a:rPr b="0" lang="ar-SA" sz="2400" spc="-1" strike="noStrike">
                <a:solidFill>
                  <a:srgbClr val="ffffff"/>
                </a:solidFill>
                <a:latin typeface="Times New Roman"/>
                <a:cs typeface="Times New Roman (Arabic)"/>
              </a:rPr>
              <a:t>الأقتصادية</a:t>
            </a:r>
            <a:r>
              <a:rPr b="0" lang="ar-SA" sz="2400" spc="-1" strike="noStrike">
                <a:solidFill>
                  <a:srgbClr val="ffffff"/>
                </a:solidFill>
                <a:latin typeface="Times New Roman"/>
              </a:rPr>
              <a:t> خلال الفترة المحاسبية والتى تتمثل فى التدفقات الداخلة أو الزيادة فى قيم الأصول أو النقص فى الإلتزامات والتى ينتج عنها زيادة فى حقوق الملكية بعد إستبعاد المعاملات المتعلقة بالمساهمين. وبناء عليه فإن مصطلح الدخل يشمل الإيرادات والأرباح.</a:t>
            </a:r>
            <a:endParaRPr b="0" lang="en-US" sz="2400" spc="-1" strike="noStrike">
              <a:solidFill>
                <a:srgbClr val="ffffff"/>
              </a:solidFill>
              <a:latin typeface="Times New Roman"/>
            </a:endParaRPr>
          </a:p>
          <a:p>
            <a:pPr marL="61920" indent="-61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الايراد هو الدخل الذى ينشأ من ممارسة المنشاة لأنشطتها العادية:</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ريد السلع سواء كان البي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قديم الخدمات سواء كان الدفع نقدا أو بالأجل.</a:t>
            </a:r>
            <a:endParaRPr b="0" lang="en-US" sz="2400" spc="-1" strike="noStrike">
              <a:solidFill>
                <a:srgbClr val="ffffff"/>
              </a:solidFill>
              <a:latin typeface="Times New Roman"/>
            </a:endParaRPr>
          </a:p>
          <a:p>
            <a:pPr marL="61920" indent="-61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إستخدام الآخرين لأصول المنشاة.</a:t>
            </a: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533520" y="533520"/>
            <a:ext cx="8153280" cy="525996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رباح فترة ما قبل التأسيس</a:t>
            </a:r>
            <a:endParaRPr b="0" lang="en-US" sz="2400" spc="-1" strike="noStrike">
              <a:solidFill>
                <a:srgbClr val="ffffff"/>
              </a:solidFill>
              <a:latin typeface="Times New Roman"/>
            </a:endParaRPr>
          </a:p>
          <a:p>
            <a:pPr marL="168120" indent="-16812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هى الأرباح التى تحققها الشركة قبل تأسيسها قانونا.</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ن هذه الأرباح لا تكون قابلة للتوزيع لأنه من الناحية القانونية تكون الشركة غير موجودة ، وعلى هذا فهى تبوب كأحتياطى ضمن حقوق الملكية مما يرفع من إستثمارات المساهمين.</a:t>
            </a:r>
            <a:endParaRPr b="0" lang="en-US" sz="2400" spc="-1" strike="noStrike">
              <a:solidFill>
                <a:srgbClr val="ffffff"/>
              </a:solidFill>
              <a:latin typeface="Times New Roman"/>
            </a:endParaRPr>
          </a:p>
          <a:p>
            <a:pPr marL="168120" indent="-1681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168120" indent="-1681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بدات شركة توتو النشاط فى اول يناير وتم تأسيسها قانونا فى </a:t>
            </a:r>
            <a:r>
              <a:rPr b="0" lang="ar-SA" sz="2400" spc="-1" strike="noStrike">
                <a:solidFill>
                  <a:srgbClr val="ffffff"/>
                </a:solidFill>
                <a:latin typeface="Times New Roman"/>
              </a:rPr>
              <a:t>31</a:t>
            </a:r>
            <a:r>
              <a:rPr b="0" lang="ar-SA" sz="2400" spc="-1" strike="noStrike">
                <a:solidFill>
                  <a:srgbClr val="ffffff"/>
                </a:solidFill>
                <a:latin typeface="Times New Roman"/>
              </a:rPr>
              <a:t> مارس وقد حققت أرباح فى العام الأول قدرها </a:t>
            </a:r>
            <a:r>
              <a:rPr b="0" lang="ar-SA" sz="2400" spc="-1" strike="noStrike">
                <a:solidFill>
                  <a:srgbClr val="ffffff"/>
                </a:solidFill>
                <a:latin typeface="Times New Roman"/>
              </a:rPr>
              <a:t>60000</a:t>
            </a:r>
            <a:r>
              <a:rPr b="0" lang="ar-SA" sz="2400" spc="-1" strike="noStrike">
                <a:solidFill>
                  <a:srgbClr val="ffffff"/>
                </a:solidFill>
                <a:latin typeface="Times New Roman"/>
              </a:rPr>
              <a:t> جنيه بواقع ربح متساوى </a:t>
            </a:r>
            <a:r>
              <a:rPr b="0" lang="ar-SA" sz="2400" spc="-1" strike="noStrike">
                <a:solidFill>
                  <a:srgbClr val="ffffff"/>
                </a:solidFill>
                <a:latin typeface="Times New Roman"/>
              </a:rPr>
              <a:t>5000</a:t>
            </a:r>
            <a:r>
              <a:rPr b="0" lang="ar-SA" sz="2400" spc="-1" strike="noStrike">
                <a:solidFill>
                  <a:srgbClr val="ffffff"/>
                </a:solidFill>
                <a:latin typeface="Times New Roman"/>
              </a:rPr>
              <a:t> شهريا.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609480" y="380880"/>
            <a:ext cx="7696440" cy="7469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وريد السلع</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ضمن السلع المنتجة بمعرفة المنشاة بغرض البيع أو السلع المقتناه بغرض إعادة بيعها.</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تقديم الخدمات</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تتمثل فى قيام المنشاة بتنفيذ عمل متفق عليه بموجب عقد وذلك خلال فترة زمنية متفق عليها والتى قد تكون فترة مالية واحدة او اكثر من فتر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1" lang="ar-SA" sz="2400" spc="-1" strike="noStrike">
                <a:solidFill>
                  <a:srgbClr val="ffffff"/>
                </a:solidFill>
                <a:latin typeface="Times New Roman"/>
              </a:rPr>
              <a:t>إستخدام الآخرين لأصول ا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عوائد: مقابل إستخدام النقدية وما فى حكمها أو المبالغ المستحقة للمنشاة.</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أتاوات: مقابل إستخدام الأصول طويلة الاجل الخاصة بالمنشأة (حقوق الأختراع – الأسم التجارى – برامج الحاسب الآل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توزيعات الأسهم: توزيعات الأرباح الناتجة عن المساهمة فى منشآت أخرى.</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457200" y="838080"/>
            <a:ext cx="8458200" cy="5610600"/>
          </a:xfrm>
          <a:prstGeom prst="rect">
            <a:avLst/>
          </a:prstGeom>
          <a:noFill/>
          <a:ln w="0">
            <a:noFill/>
          </a:ln>
        </p:spPr>
        <p:style>
          <a:lnRef idx="0"/>
          <a:fillRef idx="0"/>
          <a:effectRef idx="0"/>
          <a:fontRef idx="minor"/>
        </p:style>
        <p:txBody>
          <a:bodyPr lIns="90000" rIns="90000" tIns="46800" bIns="46800" anchor="t">
            <a:spAutoFit/>
          </a:bodyPr>
          <a:p>
            <a:pPr marL="108000" indent="-10800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أن يقاس الإيراد بالقيمة العادلة للمقابل المستلم او المستحق بموجب الاتفاق بين المنشأة والمشترى أو متلقى الخدمة أو مستخدم الأصل موضوع الاتفاق“</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نقدا يكون الإيراد هو المتحصلات المباشرة للبيع اى مع إستبعاد اى خصم تجارى أو خصم كمية قد تسمح به المنشا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ذا تم البيع بالأجل يكون الأ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 </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609480" y="685800"/>
            <a:ext cx="8001000" cy="468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 </a:t>
            </a:r>
            <a:r>
              <a:rPr b="1" lang="ar-SA" sz="2400" spc="-1" strike="noStrike">
                <a:solidFill>
                  <a:srgbClr val="ffffff"/>
                </a:solidFill>
                <a:latin typeface="Times New Roman"/>
              </a:rPr>
              <a:t>قياس الإيراد</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لا ينتج أيرادا عند تبادل بضائع أوخدمات ذات طبيعة وقيم عادلة متماث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قد ينتج إيرادا عند تبادل بضائع أو خدمات ذات طبيعة وقيم عادلة مختلفة ويقاس هنا بالقيمة العادلة للبضائع او الخدمات المستلمة بعد تسويتها بأى نقدية مدفوعة او محصلة.</a:t>
            </a:r>
            <a:endParaRPr b="0" lang="en-US" sz="2400" spc="-1" strike="noStrike">
              <a:solidFill>
                <a:srgbClr val="ffffff"/>
              </a:solidFill>
              <a:latin typeface="Times New Roman"/>
            </a:endParaRPr>
          </a:p>
          <a:p>
            <a:pPr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rPr>
              <a:t>فى حالة عدم القدرة على تحديد القيمة العادلة للمقابل المستلم يقاس الإيراد بالقيمة العادلة لما تقدمه المنشأة بعد التسوية بأى نقدية مدفوعة أو محصلة.</a:t>
            </a:r>
            <a:endParaRPr b="0" lang="en-US" sz="2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533520" y="879480"/>
            <a:ext cx="8153280" cy="5214600"/>
          </a:xfrm>
          <a:prstGeom prst="rect">
            <a:avLst/>
          </a:prstGeom>
          <a:noFill/>
          <a:ln w="0">
            <a:noFill/>
          </a:ln>
        </p:spPr>
        <p:style>
          <a:lnRef idx="0"/>
          <a:fillRef idx="0"/>
          <a:effectRef idx="0"/>
          <a:fontRef idx="minor"/>
        </p:style>
        <p:txBody>
          <a:bodyPr lIns="90000" rIns="90000" tIns="46800" bIns="46800" anchor="t">
            <a:spAutoFit/>
          </a:bodyPr>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تابع : قياس الإيراد</a:t>
            </a:r>
            <a:endParaRPr b="0" lang="en-US" sz="2400" spc="-1" strike="noStrike">
              <a:solidFill>
                <a:srgbClr val="ffffff"/>
              </a:solidFill>
              <a:latin typeface="Times New Roman"/>
            </a:endParaRPr>
          </a:p>
          <a:p>
            <a:pPr marL="168120" indent="-1681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just"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عند بيع بضاعة يتضمن سعرها مبلغ محدد لتأدية خدمة مستقبلية فيتم تاجيل إثبات المبلغ المحدد لتادية الخدمة كإيراد وإثباته على مدار فترة تادية الخدمة المستقبل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برامج الحاسب الآلى مع تقديم خدمة ما بعد البيع (مساعدة فنية).</a:t>
            </a:r>
            <a:endParaRPr b="0" lang="en-US" sz="2400" spc="-1" strike="noStrike">
              <a:solidFill>
                <a:srgbClr val="ffffff"/>
              </a:solidFill>
              <a:latin typeface="Times New Roman"/>
            </a:endParaRPr>
          </a:p>
          <a:p>
            <a:pPr marL="168120" indent="-1681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مبيعات البضائع الإستهلاكية متضمنة خدمات مجانية خلال فترة الضمان.</a:t>
            </a: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68120" indent="-1681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ادة ما يتم تحديد مخصصات للديون المشكوك فيها والمردودات ويتم الافصاح عنها بشكل مستق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457200" y="803160"/>
            <a:ext cx="83818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عتراف بالإيراد</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Times New Roman"/>
              </a:rPr>
              <a:t>الأعتراف بالإيراد المتعلق ببيع السلع والبضائع</a:t>
            </a:r>
            <a:endParaRPr b="0" lang="en-US" sz="2400" spc="-1" strike="noStrike">
              <a:solidFill>
                <a:srgbClr val="ffffff"/>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يجب إستيفاء </a:t>
            </a:r>
            <a:r>
              <a:rPr b="0" lang="ar-SA" sz="2400" spc="-1" strike="noStrike" u="sng">
                <a:solidFill>
                  <a:srgbClr val="ffffff"/>
                </a:solidFill>
                <a:uFillTx/>
                <a:latin typeface="Times New Roman"/>
              </a:rPr>
              <a:t>كافة </a:t>
            </a:r>
            <a:r>
              <a:rPr b="0" lang="ar-SA" sz="2400" spc="-1" strike="noStrike">
                <a:solidFill>
                  <a:srgbClr val="ffffff"/>
                </a:solidFill>
                <a:latin typeface="Times New Roman"/>
              </a:rPr>
              <a:t>الشروط التالية :</a:t>
            </a:r>
            <a:endParaRPr b="0" lang="en-US" sz="2400" spc="-1" strike="noStrike">
              <a:solidFill>
                <a:srgbClr val="ffffff"/>
              </a:solidFill>
              <a:latin typeface="Times New Roman"/>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ن البائع قد حول مخاطر ومزايا حقوق الملكية الى المشترى.</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دم إحتفاظ البائع بأى مشاركة إدارية أو رقابية جوهرية على البضاعة المباعة والتى ترتبط عادة بالملكية. (بيع وحدات المبانى بالتجزئة – مبيعات لحقوق الأمتياز)</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مبلغ الإيراد بدرجة موثوق بها.</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ن المحتمل تدفق المنافع الأقتصادية المصاحبة للمعاملة.</a:t>
            </a:r>
            <a:endParaRPr b="0" lang="en-US" sz="2400" spc="-1" strike="noStrike">
              <a:solidFill>
                <a:srgbClr val="ffffff"/>
              </a:solidFill>
              <a:latin typeface="Times New Roman"/>
            </a:endParaRPr>
          </a:p>
          <a:p>
            <a:pPr marL="457200" indent="-457200" algn="just" rtl="1">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كانية قياس التكاليف المتكبدة بالنسبة للمعاملة بدرجة موثوق ب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228600" y="533520"/>
            <a:ext cx="8686800" cy="708876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اغلب الاحوال تنتقل المخاطر والمزايا المتعلقة بالبضاعة المباعة عند توصيل البضائع الى المشترى الذى يقوم بالتوقيع بمايفيد إستلامها وانها بحالة جيدة ، وبالتالى تتحقق الشروط الخمسة السابقة.</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إنتقال حق الملكية والحيازة الى المشترى مع إحتفاظ المنشاة بالمخاطر والمزايا ، فلا تعتبر هذه العملية بيعا ولا يتم الأعتراف بالإيراد:</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إحتفاظ المنشاة بالمسئولية عن الآداء غير المرضى لأصل غير مغطى بمخصص ضمان.</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عندما يتوقف تحصيل الإيراد الخاص بالبيع على الإيراد الذى يحققه المشترى.</a:t>
            </a:r>
            <a:endParaRPr b="0" lang="en-US" sz="2400" spc="-1" strike="noStrike">
              <a:solidFill>
                <a:srgbClr val="ffffff"/>
              </a:solidFill>
              <a:latin typeface="Times New Roman"/>
            </a:endParaRPr>
          </a:p>
          <a:p>
            <a:pPr marL="108000" indent="-1080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 شحن البضاعة على اساس الأستلام بعد التركيب الذى هو جزء أساسى من عقد البيع.</a:t>
            </a:r>
            <a:endParaRPr b="0" lang="en-US" sz="2400" spc="-1" strike="noStrike">
              <a:solidFill>
                <a:srgbClr val="ffffff"/>
              </a:solidFill>
              <a:latin typeface="Times New Roman"/>
            </a:endParaRPr>
          </a:p>
          <a:p>
            <a:pPr marL="108000" indent="-1080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فى حالة إحتفاظ المنشاة بالملكية مع إنتقال الحيازة للمشترى فتعتبر هذه المعاملة بيعا ويتم الأعتراف بالإيراد مثل عمليات البيع مع حفظ حق الملكية ضمانا للسداد.</a:t>
            </a:r>
            <a:endParaRPr b="0" lang="en-US" sz="2400" spc="-1" strike="noStrike">
              <a:solidFill>
                <a:srgbClr val="ffffff"/>
              </a:solidFill>
              <a:latin typeface="Times New Roman"/>
            </a:endParaRPr>
          </a:p>
          <a:p>
            <a:pPr marL="108000" indent="-1080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9" name=""/>
          <p:cNvSpPr/>
          <p:nvPr/>
        </p:nvSpPr>
        <p:spPr>
          <a:xfrm>
            <a:off x="304920" y="0"/>
            <a:ext cx="8076960" cy="7660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أيرادات المتعلقة بتادية الخدمات</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م الاعتراف بالإيراد من الخدمات طبقا لدرجة إستكمالها عند الوفاء </a:t>
            </a:r>
            <a:r>
              <a:rPr b="0" lang="ar-SA" sz="2400" spc="-1" strike="noStrike" u="sng">
                <a:solidFill>
                  <a:srgbClr val="ffffff"/>
                </a:solidFill>
                <a:uFillTx/>
                <a:latin typeface="Times New Roman"/>
              </a:rPr>
              <a:t>بكافة</a:t>
            </a:r>
            <a:r>
              <a:rPr b="0" lang="ar-SA" sz="2400" spc="-1" strike="noStrike">
                <a:solidFill>
                  <a:srgbClr val="ffffff"/>
                </a:solidFill>
                <a:latin typeface="Times New Roman"/>
              </a:rPr>
              <a:t> الشروط التالي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 قياس مبلغ الإيراد بدرجة موثوق في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حتمال تدفق المنافع الإقتصادية المصاحبة للمعاملة الى المنشأة.</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مرحلة إتمام العملية فى تاريخ الإعتراف بدرجة موثوق بها.</a:t>
            </a:r>
            <a:endParaRPr b="0" lang="en-US" sz="2400" spc="-1" strike="noStrike">
              <a:solidFill>
                <a:srgbClr val="ffffff"/>
              </a:solidFill>
              <a:latin typeface="Times New Roman"/>
            </a:endParaRPr>
          </a:p>
          <a:p>
            <a:pPr algn="just" rtl="1">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إمكانية قياس التكاليف المتكبدة للعملية وتكاليف إستكمالها بدرجة موثوق بها.</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ذا لم يتم إستيفاء هذه الشروط فقد يتم الإعتراف بالإيراد فى حدود التكاليف القابلة للإسترداد. </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وم المنشاة بمراجعة وتعديل الإيراد المقدر كلما تطلب الامر ذلك فى ضوء ما تم تنفيذ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Administrator</cp:lastModifiedBy>
  <dcterms:modified xsi:type="dcterms:W3CDTF">2004-04-28T22:09:50Z</dcterms:modified>
  <cp:revision>51</cp:revision>
  <dc:subject/>
  <dc:title>PowerPoint Presentation</dc:title>
</cp:coreProperties>
</file>